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70C9-F292-4E70-BE7C-C9BCCEEF9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plains the relationship of registries and Clearinghouse. From George Percivall’s slides, Feb.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SS Architecture for Air Quality data system. Value-adding chain in Decision-Support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SS Architecture for Air Quality data system. Value-adding chain in Decision-Support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SS Architecture for Air Quality data system. Value-adding chain in Decision-Support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600" y="38307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5576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4904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9012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60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84904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9012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12E6-32DF-4D76-971B-85EF2A38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2D77-C280-4BC5-8997-3AD16A8F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2BA9-327D-4B79-8E0A-CED1A73E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126-7ED0-409D-9AAE-9F88C325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648-AC61-42E1-9B5F-D4256F57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50920" y="1125360"/>
            <a:ext cx="661968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3D85-EA23-431D-9B18-6D300991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3654-0D3B-4997-8D9D-8D572BEB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5576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97D-662D-4E99-9A82-9096DAA6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DB3-1E8B-4BAA-BB37-B401AEB4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600" y="38307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763A-8710-4E47-B8B0-A0BFDE49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5576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AFE-CF90-469B-A3E4-938AB290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4904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9012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760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84904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19012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CF8C-7C2F-49E6-8804-E8FE72B3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920" y="1125360"/>
            <a:ext cx="661968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05576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600" y="38307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05576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84904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9012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60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284904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19012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50920" y="1125360"/>
            <a:ext cx="661968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5576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E56B-B592-4443-B926-C1766FA1C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85800" y="2895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gcnetwork.net/system/files/080206+ADC-6+Percivall.ppt" TargetMode="External"/><Relationship Id="rId2" Type="http://schemas.openxmlformats.org/officeDocument/2006/relationships/hyperlink" Target="http://www.ogcnetwork.net/system/files/080206+ADC-6+Percivall.ppt" TargetMode="External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gcnetwork.net/system/files/080206+ADC-6+Percivall.ppt" TargetMode="External"/><Relationship Id="rId2" Type="http://schemas.openxmlformats.org/officeDocument/2006/relationships/hyperlink" Target="http://www.ogcnetwork.net/system/files/080206+ADC-6+Percivall.ppt" TargetMode="External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gcnetwork.net/system/files/080206+ADC-6+Percivall.ppt" TargetMode="External"/><Relationship Id="rId2" Type="http://schemas.openxmlformats.org/officeDocument/2006/relationships/hyperlink" Target="http://www.ogcnetwork.net/system/files/080206+ADC-6+Percivall.ppt" TargetMode="External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gcnetwork.net/system/files/080206+ADC-6+Percivall.ppt" TargetMode="External"/><Relationship Id="rId2" Type="http://schemas.openxmlformats.org/officeDocument/2006/relationships/hyperlink" Target="http://www.ogcnetwork.net/system/files/080206+ADC-6+Percivall.ppt" TargetMode="External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3880" y="380520"/>
            <a:ext cx="782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a"/>
                </a:solidFill>
                <a:latin typeface="Arial"/>
              </a:rPr>
              <a:t>Air Quality Data Systems and the GEOSS Architecture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14400" y="2276280"/>
            <a:ext cx="698184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dolf B. Husar, Washington Univers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ven at the OGC Technical Committee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Louis, MO, March 24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ding on Present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9000" y="4307040"/>
            <a:ext cx="291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ug Nebert, March 2008, ESIP Web Services.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84240" y="4587840"/>
            <a:ext cx="2679840" cy="1876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844880" y="4606920"/>
            <a:ext cx="2635560" cy="1849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4697280" y="4336920"/>
            <a:ext cx="29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orge Percivall, February 2008, ADC-6-Re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95560" y="2705040"/>
            <a:ext cx="49528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GEOSS Architecture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90720" y="3581280"/>
            <a:ext cx="7743600" cy="23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bes how components fit together for providing data and information that will be better …than the individual components or systems of which it is compo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s together strategies and systems to facilitate Earth observations in a comprehensive, coordinated, and sustained manner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8840" y="1609560"/>
            <a:ext cx="75470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2015, GEOSS will be a distributed system of systems, building step-by-step on current cooperation efforts among existing observing and processing systems within their mandates, while encouraging and accommodating new compon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95560" y="762120"/>
            <a:ext cx="49528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GE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962280" cy="961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320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ore GEOSS Architectur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352680"/>
            <a:ext cx="1905120" cy="1219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onen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 reg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952880"/>
            <a:ext cx="1981440" cy="1447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rang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2800" y="3608280"/>
            <a:ext cx="108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1676520"/>
            <a:ext cx="25272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O Web Portal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d other Cl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2209680"/>
            <a:ext cx="1067040" cy="1143000"/>
          </a:xfrm>
          <a:custGeom>
            <a:avLst/>
            <a:gdLst/>
            <a:ahLst/>
            <a:rect l="l" t="t" r="r" b="b"/>
            <a:pathLst>
              <a:path w="672" h="912">
                <a:moveTo>
                  <a:pt x="672" y="0"/>
                </a:moveTo>
                <a:lnTo>
                  <a:pt x="0" y="0"/>
                </a:lnTo>
                <a:lnTo>
                  <a:pt x="0" y="9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14520" y="2209680"/>
            <a:ext cx="95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70280" y="5511960"/>
            <a:ext cx="13716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e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87600" y="4762440"/>
            <a:ext cx="1107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ib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320040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earing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181480" y="4648320"/>
            <a:ext cx="1447920" cy="990360"/>
            <a:chOff x="5181480" y="4648320"/>
            <a:chExt cx="1447920" cy="990360"/>
          </a:xfrm>
        </p:grpSpPr>
        <p:sp>
          <p:nvSpPr>
            <p:cNvPr id="146" name=""/>
            <p:cNvSpPr/>
            <p:nvPr/>
          </p:nvSpPr>
          <p:spPr>
            <a:xfrm>
              <a:off x="5486400" y="4648320"/>
              <a:ext cx="1143000" cy="68580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81480" y="4800600"/>
              <a:ext cx="1143000" cy="68580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34120" y="4952880"/>
              <a:ext cx="1143000" cy="68580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talog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219320" y="3886200"/>
            <a:ext cx="609480" cy="106668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384" y="0"/>
                </a:moveTo>
                <a:lnTo>
                  <a:pt x="0" y="0"/>
                </a:lnTo>
                <a:lnTo>
                  <a:pt x="0" y="6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960600" y="4637160"/>
            <a:ext cx="1862640" cy="1470240"/>
            <a:chOff x="6960600" y="4637160"/>
            <a:chExt cx="1862640" cy="1470240"/>
          </a:xfrm>
        </p:grpSpPr>
        <p:grpSp>
          <p:nvGrpSpPr>
            <p:cNvPr id="151" name=""/>
            <p:cNvGrpSpPr/>
            <p:nvPr/>
          </p:nvGrpSpPr>
          <p:grpSpPr>
            <a:xfrm>
              <a:off x="7287120" y="4637160"/>
              <a:ext cx="1536120" cy="1244520"/>
              <a:chOff x="7287120" y="4637160"/>
              <a:chExt cx="1536120" cy="12445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7287120" y="4637160"/>
                <a:ext cx="853560" cy="876600"/>
                <a:chOff x="7287120" y="4637160"/>
                <a:chExt cx="853560" cy="8766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7287120" y="4637160"/>
                  <a:ext cx="853560" cy="876600"/>
                </a:xfrm>
                <a:custGeom>
                  <a:avLst/>
                  <a:gdLst/>
                  <a:ahLst/>
                  <a:rect l="l" t="t" r="r" b="b"/>
                  <a:pathLst>
                    <a:path w="1395" h="1396">
                      <a:moveTo>
                        <a:pt x="798" y="1241"/>
                      </a:moveTo>
                      <a:lnTo>
                        <a:pt x="779" y="1391"/>
                      </a:lnTo>
                      <a:lnTo>
                        <a:pt x="772" y="1392"/>
                      </a:lnTo>
                      <a:lnTo>
                        <a:pt x="766" y="1392"/>
                      </a:lnTo>
                      <a:lnTo>
                        <a:pt x="759" y="1393"/>
                      </a:lnTo>
                      <a:lnTo>
                        <a:pt x="753" y="1393"/>
                      </a:lnTo>
                      <a:lnTo>
                        <a:pt x="748" y="1395"/>
                      </a:lnTo>
                      <a:lnTo>
                        <a:pt x="741" y="1395"/>
                      </a:lnTo>
                      <a:lnTo>
                        <a:pt x="735" y="1396"/>
                      </a:lnTo>
                      <a:lnTo>
                        <a:pt x="728" y="1396"/>
                      </a:lnTo>
                      <a:lnTo>
                        <a:pt x="690" y="1250"/>
                      </a:lnTo>
                      <a:lnTo>
                        <a:pt x="675" y="1249"/>
                      </a:lnTo>
                      <a:lnTo>
                        <a:pt x="665" y="1249"/>
                      </a:lnTo>
                      <a:lnTo>
                        <a:pt x="654" y="1248"/>
                      </a:lnTo>
                      <a:lnTo>
                        <a:pt x="644" y="1248"/>
                      </a:lnTo>
                      <a:lnTo>
                        <a:pt x="635" y="1247"/>
                      </a:lnTo>
                      <a:lnTo>
                        <a:pt x="624" y="1246"/>
                      </a:lnTo>
                      <a:lnTo>
                        <a:pt x="614" y="1244"/>
                      </a:lnTo>
                      <a:lnTo>
                        <a:pt x="604" y="1242"/>
                      </a:lnTo>
                      <a:lnTo>
                        <a:pt x="593" y="1240"/>
                      </a:lnTo>
                      <a:lnTo>
                        <a:pt x="580" y="1238"/>
                      </a:lnTo>
                      <a:lnTo>
                        <a:pt x="506" y="1369"/>
                      </a:lnTo>
                      <a:lnTo>
                        <a:pt x="498" y="1367"/>
                      </a:lnTo>
                      <a:lnTo>
                        <a:pt x="490" y="1363"/>
                      </a:lnTo>
                      <a:lnTo>
                        <a:pt x="482" y="1361"/>
                      </a:lnTo>
                      <a:lnTo>
                        <a:pt x="474" y="1359"/>
                      </a:lnTo>
                      <a:lnTo>
                        <a:pt x="470" y="1358"/>
                      </a:lnTo>
                      <a:lnTo>
                        <a:pt x="467" y="1356"/>
                      </a:lnTo>
                      <a:lnTo>
                        <a:pt x="463" y="1355"/>
                      </a:lnTo>
                      <a:lnTo>
                        <a:pt x="459" y="1354"/>
                      </a:lnTo>
                      <a:lnTo>
                        <a:pt x="479" y="1206"/>
                      </a:lnTo>
                      <a:lnTo>
                        <a:pt x="466" y="1200"/>
                      </a:lnTo>
                      <a:lnTo>
                        <a:pt x="455" y="1195"/>
                      </a:lnTo>
                      <a:lnTo>
                        <a:pt x="446" y="1191"/>
                      </a:lnTo>
                      <a:lnTo>
                        <a:pt x="437" y="1186"/>
                      </a:lnTo>
                      <a:lnTo>
                        <a:pt x="426" y="1180"/>
                      </a:lnTo>
                      <a:lnTo>
                        <a:pt x="417" y="1174"/>
                      </a:lnTo>
                      <a:lnTo>
                        <a:pt x="408" y="1170"/>
                      </a:lnTo>
                      <a:lnTo>
                        <a:pt x="399" y="1164"/>
                      </a:lnTo>
                      <a:lnTo>
                        <a:pt x="390" y="1158"/>
                      </a:lnTo>
                      <a:lnTo>
                        <a:pt x="378" y="1150"/>
                      </a:lnTo>
                      <a:lnTo>
                        <a:pt x="261" y="1241"/>
                      </a:lnTo>
                      <a:lnTo>
                        <a:pt x="256" y="1238"/>
                      </a:lnTo>
                      <a:lnTo>
                        <a:pt x="251" y="1233"/>
                      </a:lnTo>
                      <a:lnTo>
                        <a:pt x="247" y="1230"/>
                      </a:lnTo>
                      <a:lnTo>
                        <a:pt x="242" y="1225"/>
                      </a:lnTo>
                      <a:lnTo>
                        <a:pt x="238" y="1222"/>
                      </a:lnTo>
                      <a:lnTo>
                        <a:pt x="233" y="1218"/>
                      </a:lnTo>
                      <a:lnTo>
                        <a:pt x="228" y="1214"/>
                      </a:lnTo>
                      <a:lnTo>
                        <a:pt x="224" y="1210"/>
                      </a:lnTo>
                      <a:lnTo>
                        <a:pt x="299" y="1082"/>
                      </a:lnTo>
                      <a:lnTo>
                        <a:pt x="288" y="1072"/>
                      </a:lnTo>
                      <a:lnTo>
                        <a:pt x="281" y="1064"/>
                      </a:lnTo>
                      <a:lnTo>
                        <a:pt x="273" y="1056"/>
                      </a:lnTo>
                      <a:lnTo>
                        <a:pt x="266" y="1047"/>
                      </a:lnTo>
                      <a:lnTo>
                        <a:pt x="259" y="1038"/>
                      </a:lnTo>
                      <a:lnTo>
                        <a:pt x="253" y="1029"/>
                      </a:lnTo>
                      <a:lnTo>
                        <a:pt x="246" y="1020"/>
                      </a:lnTo>
                      <a:lnTo>
                        <a:pt x="240" y="1011"/>
                      </a:lnTo>
                      <a:lnTo>
                        <a:pt x="233" y="1002"/>
                      </a:lnTo>
                      <a:lnTo>
                        <a:pt x="225" y="990"/>
                      </a:lnTo>
                      <a:lnTo>
                        <a:pt x="84" y="1028"/>
                      </a:lnTo>
                      <a:lnTo>
                        <a:pt x="79" y="1018"/>
                      </a:lnTo>
                      <a:lnTo>
                        <a:pt x="73" y="1007"/>
                      </a:lnTo>
                      <a:lnTo>
                        <a:pt x="68" y="997"/>
                      </a:lnTo>
                      <a:lnTo>
                        <a:pt x="63" y="985"/>
                      </a:lnTo>
                      <a:lnTo>
                        <a:pt x="179" y="898"/>
                      </a:lnTo>
                      <a:lnTo>
                        <a:pt x="173" y="884"/>
                      </a:lnTo>
                      <a:lnTo>
                        <a:pt x="166" y="862"/>
                      </a:lnTo>
                      <a:lnTo>
                        <a:pt x="159" y="840"/>
                      </a:lnTo>
                      <a:lnTo>
                        <a:pt x="153" y="817"/>
                      </a:lnTo>
                      <a:lnTo>
                        <a:pt x="149" y="795"/>
                      </a:lnTo>
                      <a:lnTo>
                        <a:pt x="147" y="781"/>
                      </a:lnTo>
                      <a:lnTo>
                        <a:pt x="4" y="764"/>
                      </a:lnTo>
                      <a:lnTo>
                        <a:pt x="3" y="752"/>
                      </a:lnTo>
                      <a:lnTo>
                        <a:pt x="1" y="740"/>
                      </a:lnTo>
                      <a:lnTo>
                        <a:pt x="1" y="727"/>
                      </a:lnTo>
                      <a:lnTo>
                        <a:pt x="0" y="716"/>
                      </a:lnTo>
                      <a:lnTo>
                        <a:pt x="139" y="679"/>
                      </a:lnTo>
                      <a:lnTo>
                        <a:pt x="140" y="665"/>
                      </a:lnTo>
                      <a:lnTo>
                        <a:pt x="141" y="642"/>
                      </a:lnTo>
                      <a:lnTo>
                        <a:pt x="144" y="619"/>
                      </a:lnTo>
                      <a:lnTo>
                        <a:pt x="147" y="596"/>
                      </a:lnTo>
                      <a:lnTo>
                        <a:pt x="151" y="573"/>
                      </a:lnTo>
                      <a:lnTo>
                        <a:pt x="155" y="559"/>
                      </a:lnTo>
                      <a:lnTo>
                        <a:pt x="33" y="489"/>
                      </a:lnTo>
                      <a:lnTo>
                        <a:pt x="34" y="484"/>
                      </a:lnTo>
                      <a:lnTo>
                        <a:pt x="35" y="481"/>
                      </a:lnTo>
                      <a:lnTo>
                        <a:pt x="36" y="477"/>
                      </a:lnTo>
                      <a:lnTo>
                        <a:pt x="37" y="473"/>
                      </a:lnTo>
                      <a:lnTo>
                        <a:pt x="39" y="466"/>
                      </a:lnTo>
                      <a:lnTo>
                        <a:pt x="43" y="458"/>
                      </a:lnTo>
                      <a:lnTo>
                        <a:pt x="45" y="451"/>
                      </a:lnTo>
                      <a:lnTo>
                        <a:pt x="49" y="443"/>
                      </a:lnTo>
                      <a:lnTo>
                        <a:pt x="188" y="462"/>
                      </a:lnTo>
                      <a:lnTo>
                        <a:pt x="194" y="450"/>
                      </a:lnTo>
                      <a:lnTo>
                        <a:pt x="200" y="439"/>
                      </a:lnTo>
                      <a:lnTo>
                        <a:pt x="204" y="429"/>
                      </a:lnTo>
                      <a:lnTo>
                        <a:pt x="210" y="418"/>
                      </a:lnTo>
                      <a:lnTo>
                        <a:pt x="216" y="408"/>
                      </a:lnTo>
                      <a:lnTo>
                        <a:pt x="221" y="399"/>
                      </a:lnTo>
                      <a:lnTo>
                        <a:pt x="228" y="389"/>
                      </a:lnTo>
                      <a:lnTo>
                        <a:pt x="234" y="379"/>
                      </a:lnTo>
                      <a:lnTo>
                        <a:pt x="241" y="370"/>
                      </a:lnTo>
                      <a:lnTo>
                        <a:pt x="249" y="357"/>
                      </a:lnTo>
                      <a:lnTo>
                        <a:pt x="164" y="249"/>
                      </a:lnTo>
                      <a:lnTo>
                        <a:pt x="167" y="244"/>
                      </a:lnTo>
                      <a:lnTo>
                        <a:pt x="172" y="240"/>
                      </a:lnTo>
                      <a:lnTo>
                        <a:pt x="177" y="235"/>
                      </a:lnTo>
                      <a:lnTo>
                        <a:pt x="180" y="231"/>
                      </a:lnTo>
                      <a:lnTo>
                        <a:pt x="185" y="226"/>
                      </a:lnTo>
                      <a:lnTo>
                        <a:pt x="189" y="221"/>
                      </a:lnTo>
                      <a:lnTo>
                        <a:pt x="194" y="217"/>
                      </a:lnTo>
                      <a:lnTo>
                        <a:pt x="198" y="212"/>
                      </a:lnTo>
                      <a:lnTo>
                        <a:pt x="318" y="281"/>
                      </a:lnTo>
                      <a:lnTo>
                        <a:pt x="329" y="272"/>
                      </a:lnTo>
                      <a:lnTo>
                        <a:pt x="338" y="264"/>
                      </a:lnTo>
                      <a:lnTo>
                        <a:pt x="346" y="257"/>
                      </a:lnTo>
                      <a:lnTo>
                        <a:pt x="355" y="250"/>
                      </a:lnTo>
                      <a:lnTo>
                        <a:pt x="364" y="243"/>
                      </a:lnTo>
                      <a:lnTo>
                        <a:pt x="373" y="238"/>
                      </a:lnTo>
                      <a:lnTo>
                        <a:pt x="383" y="232"/>
                      </a:lnTo>
                      <a:lnTo>
                        <a:pt x="392" y="225"/>
                      </a:lnTo>
                      <a:lnTo>
                        <a:pt x="401" y="219"/>
                      </a:lnTo>
                      <a:lnTo>
                        <a:pt x="414" y="211"/>
                      </a:lnTo>
                      <a:lnTo>
                        <a:pt x="377" y="79"/>
                      </a:lnTo>
                      <a:lnTo>
                        <a:pt x="383" y="76"/>
                      </a:lnTo>
                      <a:lnTo>
                        <a:pt x="388" y="73"/>
                      </a:lnTo>
                      <a:lnTo>
                        <a:pt x="394" y="70"/>
                      </a:lnTo>
                      <a:lnTo>
                        <a:pt x="400" y="67"/>
                      </a:lnTo>
                      <a:lnTo>
                        <a:pt x="406" y="65"/>
                      </a:lnTo>
                      <a:lnTo>
                        <a:pt x="413" y="62"/>
                      </a:lnTo>
                      <a:lnTo>
                        <a:pt x="418" y="59"/>
                      </a:lnTo>
                      <a:lnTo>
                        <a:pt x="424" y="57"/>
                      </a:lnTo>
                      <a:lnTo>
                        <a:pt x="507" y="167"/>
                      </a:lnTo>
                      <a:lnTo>
                        <a:pt x="521" y="163"/>
                      </a:lnTo>
                      <a:lnTo>
                        <a:pt x="531" y="159"/>
                      </a:lnTo>
                      <a:lnTo>
                        <a:pt x="542" y="156"/>
                      </a:lnTo>
                      <a:lnTo>
                        <a:pt x="552" y="153"/>
                      </a:lnTo>
                      <a:lnTo>
                        <a:pt x="562" y="150"/>
                      </a:lnTo>
                      <a:lnTo>
                        <a:pt x="573" y="148"/>
                      </a:lnTo>
                      <a:lnTo>
                        <a:pt x="583" y="145"/>
                      </a:lnTo>
                      <a:lnTo>
                        <a:pt x="593" y="143"/>
                      </a:lnTo>
                      <a:lnTo>
                        <a:pt x="604" y="141"/>
                      </a:lnTo>
                      <a:lnTo>
                        <a:pt x="619" y="138"/>
                      </a:lnTo>
                      <a:lnTo>
                        <a:pt x="636" y="4"/>
                      </a:lnTo>
                      <a:lnTo>
                        <a:pt x="643" y="2"/>
                      </a:lnTo>
                      <a:lnTo>
                        <a:pt x="649" y="2"/>
                      </a:lnTo>
                      <a:lnTo>
                        <a:pt x="656" y="1"/>
                      </a:lnTo>
                      <a:lnTo>
                        <a:pt x="662" y="1"/>
                      </a:lnTo>
                      <a:lnTo>
                        <a:pt x="669" y="0"/>
                      </a:lnTo>
                      <a:lnTo>
                        <a:pt x="676" y="0"/>
                      </a:lnTo>
                      <a:lnTo>
                        <a:pt x="683" y="0"/>
                      </a:lnTo>
                      <a:lnTo>
                        <a:pt x="690" y="0"/>
                      </a:lnTo>
                      <a:lnTo>
                        <a:pt x="725" y="134"/>
                      </a:lnTo>
                      <a:lnTo>
                        <a:pt x="738" y="135"/>
                      </a:lnTo>
                      <a:lnTo>
                        <a:pt x="749" y="136"/>
                      </a:lnTo>
                      <a:lnTo>
                        <a:pt x="759" y="137"/>
                      </a:lnTo>
                      <a:lnTo>
                        <a:pt x="770" y="138"/>
                      </a:lnTo>
                      <a:lnTo>
                        <a:pt x="780" y="140"/>
                      </a:lnTo>
                      <a:lnTo>
                        <a:pt x="790" y="142"/>
                      </a:lnTo>
                      <a:lnTo>
                        <a:pt x="801" y="143"/>
                      </a:lnTo>
                      <a:lnTo>
                        <a:pt x="811" y="145"/>
                      </a:lnTo>
                      <a:lnTo>
                        <a:pt x="821" y="148"/>
                      </a:lnTo>
                      <a:lnTo>
                        <a:pt x="836" y="151"/>
                      </a:lnTo>
                      <a:lnTo>
                        <a:pt x="904" y="31"/>
                      </a:lnTo>
                      <a:lnTo>
                        <a:pt x="911" y="34"/>
                      </a:lnTo>
                      <a:lnTo>
                        <a:pt x="917" y="36"/>
                      </a:lnTo>
                      <a:lnTo>
                        <a:pt x="923" y="38"/>
                      </a:lnTo>
                      <a:lnTo>
                        <a:pt x="930" y="41"/>
                      </a:lnTo>
                      <a:lnTo>
                        <a:pt x="935" y="43"/>
                      </a:lnTo>
                      <a:lnTo>
                        <a:pt x="942" y="45"/>
                      </a:lnTo>
                      <a:lnTo>
                        <a:pt x="949" y="47"/>
                      </a:lnTo>
                      <a:lnTo>
                        <a:pt x="956" y="50"/>
                      </a:lnTo>
                      <a:lnTo>
                        <a:pt x="937" y="188"/>
                      </a:lnTo>
                      <a:lnTo>
                        <a:pt x="949" y="195"/>
                      </a:lnTo>
                      <a:lnTo>
                        <a:pt x="958" y="200"/>
                      </a:lnTo>
                      <a:lnTo>
                        <a:pt x="968" y="204"/>
                      </a:lnTo>
                      <a:lnTo>
                        <a:pt x="976" y="209"/>
                      </a:lnTo>
                      <a:lnTo>
                        <a:pt x="985" y="213"/>
                      </a:lnTo>
                      <a:lnTo>
                        <a:pt x="993" y="219"/>
                      </a:lnTo>
                      <a:lnTo>
                        <a:pt x="1002" y="224"/>
                      </a:lnTo>
                      <a:lnTo>
                        <a:pt x="1010" y="229"/>
                      </a:lnTo>
                      <a:lnTo>
                        <a:pt x="1018" y="235"/>
                      </a:lnTo>
                      <a:lnTo>
                        <a:pt x="1030" y="244"/>
                      </a:lnTo>
                      <a:lnTo>
                        <a:pt x="1140" y="159"/>
                      </a:lnTo>
                      <a:lnTo>
                        <a:pt x="1146" y="164"/>
                      </a:lnTo>
                      <a:lnTo>
                        <a:pt x="1151" y="168"/>
                      </a:lnTo>
                      <a:lnTo>
                        <a:pt x="1157" y="173"/>
                      </a:lnTo>
                      <a:lnTo>
                        <a:pt x="1161" y="178"/>
                      </a:lnTo>
                      <a:lnTo>
                        <a:pt x="1167" y="182"/>
                      </a:lnTo>
                      <a:lnTo>
                        <a:pt x="1171" y="187"/>
                      </a:lnTo>
                      <a:lnTo>
                        <a:pt x="1177" y="191"/>
                      </a:lnTo>
                      <a:lnTo>
                        <a:pt x="1182" y="196"/>
                      </a:lnTo>
                      <a:lnTo>
                        <a:pt x="1110" y="317"/>
                      </a:lnTo>
                      <a:lnTo>
                        <a:pt x="1120" y="327"/>
                      </a:lnTo>
                      <a:lnTo>
                        <a:pt x="1127" y="334"/>
                      </a:lnTo>
                      <a:lnTo>
                        <a:pt x="1132" y="342"/>
                      </a:lnTo>
                      <a:lnTo>
                        <a:pt x="1138" y="350"/>
                      </a:lnTo>
                      <a:lnTo>
                        <a:pt x="1144" y="357"/>
                      </a:lnTo>
                      <a:lnTo>
                        <a:pt x="1150" y="365"/>
                      </a:lnTo>
                      <a:lnTo>
                        <a:pt x="1155" y="374"/>
                      </a:lnTo>
                      <a:lnTo>
                        <a:pt x="1160" y="382"/>
                      </a:lnTo>
                      <a:lnTo>
                        <a:pt x="1166" y="390"/>
                      </a:lnTo>
                      <a:lnTo>
                        <a:pt x="1174" y="402"/>
                      </a:lnTo>
                      <a:lnTo>
                        <a:pt x="1310" y="364"/>
                      </a:lnTo>
                      <a:lnTo>
                        <a:pt x="1317" y="377"/>
                      </a:lnTo>
                      <a:lnTo>
                        <a:pt x="1323" y="390"/>
                      </a:lnTo>
                      <a:lnTo>
                        <a:pt x="1329" y="402"/>
                      </a:lnTo>
                      <a:lnTo>
                        <a:pt x="1335" y="416"/>
                      </a:lnTo>
                      <a:lnTo>
                        <a:pt x="1222" y="501"/>
                      </a:lnTo>
                      <a:lnTo>
                        <a:pt x="1227" y="515"/>
                      </a:lnTo>
                      <a:lnTo>
                        <a:pt x="1231" y="533"/>
                      </a:lnTo>
                      <a:lnTo>
                        <a:pt x="1237" y="551"/>
                      </a:lnTo>
                      <a:lnTo>
                        <a:pt x="1242" y="569"/>
                      </a:lnTo>
                      <a:lnTo>
                        <a:pt x="1245" y="588"/>
                      </a:lnTo>
                      <a:lnTo>
                        <a:pt x="1247" y="603"/>
                      </a:lnTo>
                      <a:lnTo>
                        <a:pt x="1390" y="620"/>
                      </a:lnTo>
                      <a:lnTo>
                        <a:pt x="1391" y="634"/>
                      </a:lnTo>
                      <a:lnTo>
                        <a:pt x="1393" y="648"/>
                      </a:lnTo>
                      <a:lnTo>
                        <a:pt x="1394" y="663"/>
                      </a:lnTo>
                      <a:lnTo>
                        <a:pt x="1395" y="677"/>
                      </a:lnTo>
                      <a:lnTo>
                        <a:pt x="1254" y="713"/>
                      </a:lnTo>
                      <a:lnTo>
                        <a:pt x="1253" y="727"/>
                      </a:lnTo>
                      <a:lnTo>
                        <a:pt x="1252" y="746"/>
                      </a:lnTo>
                      <a:lnTo>
                        <a:pt x="1250" y="764"/>
                      </a:lnTo>
                      <a:lnTo>
                        <a:pt x="1247" y="783"/>
                      </a:lnTo>
                      <a:lnTo>
                        <a:pt x="1244" y="801"/>
                      </a:lnTo>
                      <a:lnTo>
                        <a:pt x="1241" y="816"/>
                      </a:lnTo>
                      <a:lnTo>
                        <a:pt x="1368" y="889"/>
                      </a:lnTo>
                      <a:lnTo>
                        <a:pt x="1364" y="902"/>
                      </a:lnTo>
                      <a:lnTo>
                        <a:pt x="1360" y="916"/>
                      </a:lnTo>
                      <a:lnTo>
                        <a:pt x="1356" y="929"/>
                      </a:lnTo>
                      <a:lnTo>
                        <a:pt x="1351" y="942"/>
                      </a:lnTo>
                      <a:lnTo>
                        <a:pt x="1205" y="921"/>
                      </a:lnTo>
                      <a:lnTo>
                        <a:pt x="1199" y="935"/>
                      </a:lnTo>
                      <a:lnTo>
                        <a:pt x="1195" y="943"/>
                      </a:lnTo>
                      <a:lnTo>
                        <a:pt x="1190" y="952"/>
                      </a:lnTo>
                      <a:lnTo>
                        <a:pt x="1186" y="960"/>
                      </a:lnTo>
                      <a:lnTo>
                        <a:pt x="1182" y="968"/>
                      </a:lnTo>
                      <a:lnTo>
                        <a:pt x="1177" y="976"/>
                      </a:lnTo>
                      <a:lnTo>
                        <a:pt x="1173" y="984"/>
                      </a:lnTo>
                      <a:lnTo>
                        <a:pt x="1167" y="992"/>
                      </a:lnTo>
                      <a:lnTo>
                        <a:pt x="1162" y="999"/>
                      </a:lnTo>
                      <a:lnTo>
                        <a:pt x="1154" y="1012"/>
                      </a:lnTo>
                      <a:lnTo>
                        <a:pt x="1246" y="1129"/>
                      </a:lnTo>
                      <a:lnTo>
                        <a:pt x="1242" y="1134"/>
                      </a:lnTo>
                      <a:lnTo>
                        <a:pt x="1237" y="1140"/>
                      </a:lnTo>
                      <a:lnTo>
                        <a:pt x="1233" y="1144"/>
                      </a:lnTo>
                      <a:lnTo>
                        <a:pt x="1229" y="1150"/>
                      </a:lnTo>
                      <a:lnTo>
                        <a:pt x="1224" y="1155"/>
                      </a:lnTo>
                      <a:lnTo>
                        <a:pt x="1220" y="1161"/>
                      </a:lnTo>
                      <a:lnTo>
                        <a:pt x="1215" y="1165"/>
                      </a:lnTo>
                      <a:lnTo>
                        <a:pt x="1211" y="1171"/>
                      </a:lnTo>
                      <a:lnTo>
                        <a:pt x="1083" y="1095"/>
                      </a:lnTo>
                      <a:lnTo>
                        <a:pt x="1071" y="1105"/>
                      </a:lnTo>
                      <a:lnTo>
                        <a:pt x="1064" y="1112"/>
                      </a:lnTo>
                      <a:lnTo>
                        <a:pt x="1056" y="1118"/>
                      </a:lnTo>
                      <a:lnTo>
                        <a:pt x="1049" y="1124"/>
                      </a:lnTo>
                      <a:lnTo>
                        <a:pt x="1041" y="1131"/>
                      </a:lnTo>
                      <a:lnTo>
                        <a:pt x="1034" y="1136"/>
                      </a:lnTo>
                      <a:lnTo>
                        <a:pt x="1026" y="1142"/>
                      </a:lnTo>
                      <a:lnTo>
                        <a:pt x="1019" y="1147"/>
                      </a:lnTo>
                      <a:lnTo>
                        <a:pt x="1011" y="1153"/>
                      </a:lnTo>
                      <a:lnTo>
                        <a:pt x="1000" y="1161"/>
                      </a:lnTo>
                      <a:lnTo>
                        <a:pt x="1039" y="1306"/>
                      </a:lnTo>
                      <a:lnTo>
                        <a:pt x="1033" y="1309"/>
                      </a:lnTo>
                      <a:lnTo>
                        <a:pt x="1028" y="1313"/>
                      </a:lnTo>
                      <a:lnTo>
                        <a:pt x="1022" y="1316"/>
                      </a:lnTo>
                      <a:lnTo>
                        <a:pt x="1016" y="1318"/>
                      </a:lnTo>
                      <a:lnTo>
                        <a:pt x="1010" y="1322"/>
                      </a:lnTo>
                      <a:lnTo>
                        <a:pt x="1003" y="1324"/>
                      </a:lnTo>
                      <a:lnTo>
                        <a:pt x="998" y="1328"/>
                      </a:lnTo>
                      <a:lnTo>
                        <a:pt x="992" y="1330"/>
                      </a:lnTo>
                      <a:lnTo>
                        <a:pt x="902" y="1211"/>
                      </a:lnTo>
                      <a:lnTo>
                        <a:pt x="888" y="1216"/>
                      </a:lnTo>
                      <a:lnTo>
                        <a:pt x="879" y="1219"/>
                      </a:lnTo>
                      <a:lnTo>
                        <a:pt x="870" y="1223"/>
                      </a:lnTo>
                      <a:lnTo>
                        <a:pt x="859" y="1225"/>
                      </a:lnTo>
                      <a:lnTo>
                        <a:pt x="850" y="1229"/>
                      </a:lnTo>
                      <a:lnTo>
                        <a:pt x="841" y="1231"/>
                      </a:lnTo>
                      <a:lnTo>
                        <a:pt x="832" y="1233"/>
                      </a:lnTo>
                      <a:lnTo>
                        <a:pt x="821" y="1235"/>
                      </a:lnTo>
                      <a:lnTo>
                        <a:pt x="812" y="1238"/>
                      </a:lnTo>
                      <a:lnTo>
                        <a:pt x="798" y="12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533360" y="4889160"/>
                  <a:ext cx="360360" cy="371880"/>
                </a:xfrm>
                <a:custGeom>
                  <a:avLst/>
                  <a:gdLst/>
                  <a:ahLst/>
                  <a:rect l="l" t="t" r="r" b="b"/>
                  <a:pathLst>
                    <a:path w="592" h="593">
                      <a:moveTo>
                        <a:pt x="133" y="544"/>
                      </a:moveTo>
                      <a:lnTo>
                        <a:pt x="87" y="506"/>
                      </a:lnTo>
                      <a:lnTo>
                        <a:pt x="50" y="459"/>
                      </a:lnTo>
                      <a:lnTo>
                        <a:pt x="23" y="409"/>
                      </a:lnTo>
                      <a:lnTo>
                        <a:pt x="7" y="355"/>
                      </a:lnTo>
                      <a:lnTo>
                        <a:pt x="0" y="298"/>
                      </a:lnTo>
                      <a:lnTo>
                        <a:pt x="6" y="240"/>
                      </a:lnTo>
                      <a:lnTo>
                        <a:pt x="22" y="185"/>
                      </a:lnTo>
                      <a:lnTo>
                        <a:pt x="50" y="132"/>
                      </a:lnTo>
                      <a:lnTo>
                        <a:pt x="59" y="121"/>
                      </a:lnTo>
                      <a:lnTo>
                        <a:pt x="67" y="108"/>
                      </a:lnTo>
                      <a:lnTo>
                        <a:pt x="77" y="98"/>
                      </a:lnTo>
                      <a:lnTo>
                        <a:pt x="88" y="87"/>
                      </a:lnTo>
                      <a:lnTo>
                        <a:pt x="98" y="77"/>
                      </a:lnTo>
                      <a:lnTo>
                        <a:pt x="109" y="68"/>
                      </a:lnTo>
                      <a:lnTo>
                        <a:pt x="120" y="58"/>
                      </a:lnTo>
                      <a:lnTo>
                        <a:pt x="132" y="50"/>
                      </a:lnTo>
                      <a:lnTo>
                        <a:pt x="143" y="42"/>
                      </a:lnTo>
                      <a:lnTo>
                        <a:pt x="156" y="35"/>
                      </a:lnTo>
                      <a:lnTo>
                        <a:pt x="168" y="28"/>
                      </a:lnTo>
                      <a:lnTo>
                        <a:pt x="182" y="23"/>
                      </a:lnTo>
                      <a:lnTo>
                        <a:pt x="195" y="17"/>
                      </a:lnTo>
                      <a:lnTo>
                        <a:pt x="209" y="12"/>
                      </a:lnTo>
                      <a:lnTo>
                        <a:pt x="224" y="9"/>
                      </a:lnTo>
                      <a:lnTo>
                        <a:pt x="238" y="5"/>
                      </a:lnTo>
                      <a:lnTo>
                        <a:pt x="253" y="3"/>
                      </a:lnTo>
                      <a:lnTo>
                        <a:pt x="266" y="1"/>
                      </a:lnTo>
                      <a:lnTo>
                        <a:pt x="281" y="0"/>
                      </a:lnTo>
                      <a:lnTo>
                        <a:pt x="295" y="0"/>
                      </a:lnTo>
                      <a:lnTo>
                        <a:pt x="310" y="0"/>
                      </a:lnTo>
                      <a:lnTo>
                        <a:pt x="324" y="1"/>
                      </a:lnTo>
                      <a:lnTo>
                        <a:pt x="339" y="3"/>
                      </a:lnTo>
                      <a:lnTo>
                        <a:pt x="353" y="5"/>
                      </a:lnTo>
                      <a:lnTo>
                        <a:pt x="367" y="9"/>
                      </a:lnTo>
                      <a:lnTo>
                        <a:pt x="381" y="12"/>
                      </a:lnTo>
                      <a:lnTo>
                        <a:pt x="394" y="17"/>
                      </a:lnTo>
                      <a:lnTo>
                        <a:pt x="408" y="22"/>
                      </a:lnTo>
                      <a:lnTo>
                        <a:pt x="422" y="27"/>
                      </a:lnTo>
                      <a:lnTo>
                        <a:pt x="434" y="34"/>
                      </a:lnTo>
                      <a:lnTo>
                        <a:pt x="447" y="41"/>
                      </a:lnTo>
                      <a:lnTo>
                        <a:pt x="460" y="49"/>
                      </a:lnTo>
                      <a:lnTo>
                        <a:pt x="506" y="87"/>
                      </a:lnTo>
                      <a:lnTo>
                        <a:pt x="543" y="133"/>
                      </a:lnTo>
                      <a:lnTo>
                        <a:pt x="569" y="184"/>
                      </a:lnTo>
                      <a:lnTo>
                        <a:pt x="586" y="238"/>
                      </a:lnTo>
                      <a:lnTo>
                        <a:pt x="592" y="295"/>
                      </a:lnTo>
                      <a:lnTo>
                        <a:pt x="586" y="352"/>
                      </a:lnTo>
                      <a:lnTo>
                        <a:pt x="570" y="408"/>
                      </a:lnTo>
                      <a:lnTo>
                        <a:pt x="543" y="461"/>
                      </a:lnTo>
                      <a:lnTo>
                        <a:pt x="535" y="472"/>
                      </a:lnTo>
                      <a:lnTo>
                        <a:pt x="525" y="485"/>
                      </a:lnTo>
                      <a:lnTo>
                        <a:pt x="516" y="495"/>
                      </a:lnTo>
                      <a:lnTo>
                        <a:pt x="506" y="506"/>
                      </a:lnTo>
                      <a:lnTo>
                        <a:pt x="495" y="516"/>
                      </a:lnTo>
                      <a:lnTo>
                        <a:pt x="484" y="525"/>
                      </a:lnTo>
                      <a:lnTo>
                        <a:pt x="472" y="534"/>
                      </a:lnTo>
                      <a:lnTo>
                        <a:pt x="461" y="542"/>
                      </a:lnTo>
                      <a:lnTo>
                        <a:pt x="449" y="550"/>
                      </a:lnTo>
                      <a:lnTo>
                        <a:pt x="437" y="557"/>
                      </a:lnTo>
                      <a:lnTo>
                        <a:pt x="424" y="564"/>
                      </a:lnTo>
                      <a:lnTo>
                        <a:pt x="410" y="570"/>
                      </a:lnTo>
                      <a:lnTo>
                        <a:pt x="396" y="576"/>
                      </a:lnTo>
                      <a:lnTo>
                        <a:pt x="383" y="580"/>
                      </a:lnTo>
                      <a:lnTo>
                        <a:pt x="369" y="584"/>
                      </a:lnTo>
                      <a:lnTo>
                        <a:pt x="354" y="587"/>
                      </a:lnTo>
                      <a:lnTo>
                        <a:pt x="339" y="590"/>
                      </a:lnTo>
                      <a:lnTo>
                        <a:pt x="325" y="592"/>
                      </a:lnTo>
                      <a:lnTo>
                        <a:pt x="310" y="593"/>
                      </a:lnTo>
                      <a:lnTo>
                        <a:pt x="296" y="593"/>
                      </a:lnTo>
                      <a:lnTo>
                        <a:pt x="281" y="593"/>
                      </a:lnTo>
                      <a:lnTo>
                        <a:pt x="267" y="592"/>
                      </a:lnTo>
                      <a:lnTo>
                        <a:pt x="253" y="590"/>
                      </a:lnTo>
                      <a:lnTo>
                        <a:pt x="239" y="587"/>
                      </a:lnTo>
                      <a:lnTo>
                        <a:pt x="225" y="584"/>
                      </a:lnTo>
                      <a:lnTo>
                        <a:pt x="211" y="580"/>
                      </a:lnTo>
                      <a:lnTo>
                        <a:pt x="197" y="576"/>
                      </a:lnTo>
                      <a:lnTo>
                        <a:pt x="183" y="571"/>
                      </a:lnTo>
                      <a:lnTo>
                        <a:pt x="171" y="565"/>
                      </a:lnTo>
                      <a:lnTo>
                        <a:pt x="158" y="559"/>
                      </a:lnTo>
                      <a:lnTo>
                        <a:pt x="145" y="552"/>
                      </a:lnTo>
                      <a:lnTo>
                        <a:pt x="133" y="544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969680" y="5004360"/>
                <a:ext cx="853560" cy="877320"/>
                <a:chOff x="7969680" y="5004360"/>
                <a:chExt cx="853560" cy="8773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969680" y="5004360"/>
                  <a:ext cx="853560" cy="877320"/>
                </a:xfrm>
                <a:custGeom>
                  <a:avLst/>
                  <a:gdLst/>
                  <a:ahLst/>
                  <a:rect l="l" t="t" r="r" b="b"/>
                  <a:pathLst>
                    <a:path w="1395" h="1396">
                      <a:moveTo>
                        <a:pt x="798" y="1241"/>
                      </a:moveTo>
                      <a:lnTo>
                        <a:pt x="779" y="1391"/>
                      </a:lnTo>
                      <a:lnTo>
                        <a:pt x="772" y="1392"/>
                      </a:lnTo>
                      <a:lnTo>
                        <a:pt x="766" y="1392"/>
                      </a:lnTo>
                      <a:lnTo>
                        <a:pt x="759" y="1393"/>
                      </a:lnTo>
                      <a:lnTo>
                        <a:pt x="753" y="1393"/>
                      </a:lnTo>
                      <a:lnTo>
                        <a:pt x="748" y="1395"/>
                      </a:lnTo>
                      <a:lnTo>
                        <a:pt x="741" y="1395"/>
                      </a:lnTo>
                      <a:lnTo>
                        <a:pt x="735" y="1396"/>
                      </a:lnTo>
                      <a:lnTo>
                        <a:pt x="728" y="1396"/>
                      </a:lnTo>
                      <a:lnTo>
                        <a:pt x="690" y="1250"/>
                      </a:lnTo>
                      <a:lnTo>
                        <a:pt x="675" y="1249"/>
                      </a:lnTo>
                      <a:lnTo>
                        <a:pt x="665" y="1249"/>
                      </a:lnTo>
                      <a:lnTo>
                        <a:pt x="654" y="1248"/>
                      </a:lnTo>
                      <a:lnTo>
                        <a:pt x="644" y="1248"/>
                      </a:lnTo>
                      <a:lnTo>
                        <a:pt x="635" y="1247"/>
                      </a:lnTo>
                      <a:lnTo>
                        <a:pt x="624" y="1246"/>
                      </a:lnTo>
                      <a:lnTo>
                        <a:pt x="614" y="1244"/>
                      </a:lnTo>
                      <a:lnTo>
                        <a:pt x="604" y="1242"/>
                      </a:lnTo>
                      <a:lnTo>
                        <a:pt x="593" y="1240"/>
                      </a:lnTo>
                      <a:lnTo>
                        <a:pt x="580" y="1238"/>
                      </a:lnTo>
                      <a:lnTo>
                        <a:pt x="506" y="1369"/>
                      </a:lnTo>
                      <a:lnTo>
                        <a:pt x="498" y="1367"/>
                      </a:lnTo>
                      <a:lnTo>
                        <a:pt x="490" y="1363"/>
                      </a:lnTo>
                      <a:lnTo>
                        <a:pt x="482" y="1361"/>
                      </a:lnTo>
                      <a:lnTo>
                        <a:pt x="474" y="1359"/>
                      </a:lnTo>
                      <a:lnTo>
                        <a:pt x="470" y="1358"/>
                      </a:lnTo>
                      <a:lnTo>
                        <a:pt x="467" y="1356"/>
                      </a:lnTo>
                      <a:lnTo>
                        <a:pt x="463" y="1355"/>
                      </a:lnTo>
                      <a:lnTo>
                        <a:pt x="459" y="1354"/>
                      </a:lnTo>
                      <a:lnTo>
                        <a:pt x="479" y="1206"/>
                      </a:lnTo>
                      <a:lnTo>
                        <a:pt x="466" y="1200"/>
                      </a:lnTo>
                      <a:lnTo>
                        <a:pt x="455" y="1195"/>
                      </a:lnTo>
                      <a:lnTo>
                        <a:pt x="446" y="1191"/>
                      </a:lnTo>
                      <a:lnTo>
                        <a:pt x="437" y="1186"/>
                      </a:lnTo>
                      <a:lnTo>
                        <a:pt x="426" y="1180"/>
                      </a:lnTo>
                      <a:lnTo>
                        <a:pt x="417" y="1174"/>
                      </a:lnTo>
                      <a:lnTo>
                        <a:pt x="408" y="1170"/>
                      </a:lnTo>
                      <a:lnTo>
                        <a:pt x="399" y="1164"/>
                      </a:lnTo>
                      <a:lnTo>
                        <a:pt x="390" y="1158"/>
                      </a:lnTo>
                      <a:lnTo>
                        <a:pt x="378" y="1150"/>
                      </a:lnTo>
                      <a:lnTo>
                        <a:pt x="261" y="1241"/>
                      </a:lnTo>
                      <a:lnTo>
                        <a:pt x="256" y="1238"/>
                      </a:lnTo>
                      <a:lnTo>
                        <a:pt x="251" y="1233"/>
                      </a:lnTo>
                      <a:lnTo>
                        <a:pt x="247" y="1230"/>
                      </a:lnTo>
                      <a:lnTo>
                        <a:pt x="242" y="1225"/>
                      </a:lnTo>
                      <a:lnTo>
                        <a:pt x="238" y="1222"/>
                      </a:lnTo>
                      <a:lnTo>
                        <a:pt x="233" y="1218"/>
                      </a:lnTo>
                      <a:lnTo>
                        <a:pt x="228" y="1214"/>
                      </a:lnTo>
                      <a:lnTo>
                        <a:pt x="224" y="1210"/>
                      </a:lnTo>
                      <a:lnTo>
                        <a:pt x="299" y="1082"/>
                      </a:lnTo>
                      <a:lnTo>
                        <a:pt x="288" y="1072"/>
                      </a:lnTo>
                      <a:lnTo>
                        <a:pt x="281" y="1064"/>
                      </a:lnTo>
                      <a:lnTo>
                        <a:pt x="273" y="1056"/>
                      </a:lnTo>
                      <a:lnTo>
                        <a:pt x="266" y="1047"/>
                      </a:lnTo>
                      <a:lnTo>
                        <a:pt x="259" y="1038"/>
                      </a:lnTo>
                      <a:lnTo>
                        <a:pt x="253" y="1029"/>
                      </a:lnTo>
                      <a:lnTo>
                        <a:pt x="246" y="1020"/>
                      </a:lnTo>
                      <a:lnTo>
                        <a:pt x="240" y="1011"/>
                      </a:lnTo>
                      <a:lnTo>
                        <a:pt x="233" y="1002"/>
                      </a:lnTo>
                      <a:lnTo>
                        <a:pt x="225" y="990"/>
                      </a:lnTo>
                      <a:lnTo>
                        <a:pt x="84" y="1028"/>
                      </a:lnTo>
                      <a:lnTo>
                        <a:pt x="79" y="1018"/>
                      </a:lnTo>
                      <a:lnTo>
                        <a:pt x="73" y="1007"/>
                      </a:lnTo>
                      <a:lnTo>
                        <a:pt x="68" y="997"/>
                      </a:lnTo>
                      <a:lnTo>
                        <a:pt x="63" y="985"/>
                      </a:lnTo>
                      <a:lnTo>
                        <a:pt x="179" y="898"/>
                      </a:lnTo>
                      <a:lnTo>
                        <a:pt x="173" y="884"/>
                      </a:lnTo>
                      <a:lnTo>
                        <a:pt x="166" y="862"/>
                      </a:lnTo>
                      <a:lnTo>
                        <a:pt x="159" y="840"/>
                      </a:lnTo>
                      <a:lnTo>
                        <a:pt x="153" y="817"/>
                      </a:lnTo>
                      <a:lnTo>
                        <a:pt x="149" y="795"/>
                      </a:lnTo>
                      <a:lnTo>
                        <a:pt x="147" y="781"/>
                      </a:lnTo>
                      <a:lnTo>
                        <a:pt x="4" y="764"/>
                      </a:lnTo>
                      <a:lnTo>
                        <a:pt x="3" y="752"/>
                      </a:lnTo>
                      <a:lnTo>
                        <a:pt x="1" y="740"/>
                      </a:lnTo>
                      <a:lnTo>
                        <a:pt x="1" y="727"/>
                      </a:lnTo>
                      <a:lnTo>
                        <a:pt x="0" y="716"/>
                      </a:lnTo>
                      <a:lnTo>
                        <a:pt x="139" y="679"/>
                      </a:lnTo>
                      <a:lnTo>
                        <a:pt x="140" y="665"/>
                      </a:lnTo>
                      <a:lnTo>
                        <a:pt x="141" y="642"/>
                      </a:lnTo>
                      <a:lnTo>
                        <a:pt x="144" y="619"/>
                      </a:lnTo>
                      <a:lnTo>
                        <a:pt x="147" y="596"/>
                      </a:lnTo>
                      <a:lnTo>
                        <a:pt x="151" y="573"/>
                      </a:lnTo>
                      <a:lnTo>
                        <a:pt x="155" y="559"/>
                      </a:lnTo>
                      <a:lnTo>
                        <a:pt x="33" y="489"/>
                      </a:lnTo>
                      <a:lnTo>
                        <a:pt x="34" y="484"/>
                      </a:lnTo>
                      <a:lnTo>
                        <a:pt x="35" y="481"/>
                      </a:lnTo>
                      <a:lnTo>
                        <a:pt x="36" y="477"/>
                      </a:lnTo>
                      <a:lnTo>
                        <a:pt x="37" y="473"/>
                      </a:lnTo>
                      <a:lnTo>
                        <a:pt x="39" y="466"/>
                      </a:lnTo>
                      <a:lnTo>
                        <a:pt x="43" y="458"/>
                      </a:lnTo>
                      <a:lnTo>
                        <a:pt x="45" y="451"/>
                      </a:lnTo>
                      <a:lnTo>
                        <a:pt x="49" y="443"/>
                      </a:lnTo>
                      <a:lnTo>
                        <a:pt x="188" y="462"/>
                      </a:lnTo>
                      <a:lnTo>
                        <a:pt x="194" y="450"/>
                      </a:lnTo>
                      <a:lnTo>
                        <a:pt x="200" y="439"/>
                      </a:lnTo>
                      <a:lnTo>
                        <a:pt x="204" y="429"/>
                      </a:lnTo>
                      <a:lnTo>
                        <a:pt x="210" y="418"/>
                      </a:lnTo>
                      <a:lnTo>
                        <a:pt x="216" y="408"/>
                      </a:lnTo>
                      <a:lnTo>
                        <a:pt x="221" y="399"/>
                      </a:lnTo>
                      <a:lnTo>
                        <a:pt x="228" y="389"/>
                      </a:lnTo>
                      <a:lnTo>
                        <a:pt x="234" y="379"/>
                      </a:lnTo>
                      <a:lnTo>
                        <a:pt x="241" y="370"/>
                      </a:lnTo>
                      <a:lnTo>
                        <a:pt x="249" y="357"/>
                      </a:lnTo>
                      <a:lnTo>
                        <a:pt x="164" y="249"/>
                      </a:lnTo>
                      <a:lnTo>
                        <a:pt x="167" y="244"/>
                      </a:lnTo>
                      <a:lnTo>
                        <a:pt x="172" y="240"/>
                      </a:lnTo>
                      <a:lnTo>
                        <a:pt x="177" y="235"/>
                      </a:lnTo>
                      <a:lnTo>
                        <a:pt x="180" y="231"/>
                      </a:lnTo>
                      <a:lnTo>
                        <a:pt x="185" y="226"/>
                      </a:lnTo>
                      <a:lnTo>
                        <a:pt x="189" y="221"/>
                      </a:lnTo>
                      <a:lnTo>
                        <a:pt x="194" y="217"/>
                      </a:lnTo>
                      <a:lnTo>
                        <a:pt x="198" y="212"/>
                      </a:lnTo>
                      <a:lnTo>
                        <a:pt x="318" y="281"/>
                      </a:lnTo>
                      <a:lnTo>
                        <a:pt x="329" y="272"/>
                      </a:lnTo>
                      <a:lnTo>
                        <a:pt x="338" y="264"/>
                      </a:lnTo>
                      <a:lnTo>
                        <a:pt x="346" y="257"/>
                      </a:lnTo>
                      <a:lnTo>
                        <a:pt x="355" y="250"/>
                      </a:lnTo>
                      <a:lnTo>
                        <a:pt x="364" y="243"/>
                      </a:lnTo>
                      <a:lnTo>
                        <a:pt x="373" y="238"/>
                      </a:lnTo>
                      <a:lnTo>
                        <a:pt x="383" y="232"/>
                      </a:lnTo>
                      <a:lnTo>
                        <a:pt x="392" y="225"/>
                      </a:lnTo>
                      <a:lnTo>
                        <a:pt x="401" y="219"/>
                      </a:lnTo>
                      <a:lnTo>
                        <a:pt x="414" y="211"/>
                      </a:lnTo>
                      <a:lnTo>
                        <a:pt x="377" y="79"/>
                      </a:lnTo>
                      <a:lnTo>
                        <a:pt x="383" y="76"/>
                      </a:lnTo>
                      <a:lnTo>
                        <a:pt x="388" y="73"/>
                      </a:lnTo>
                      <a:lnTo>
                        <a:pt x="394" y="70"/>
                      </a:lnTo>
                      <a:lnTo>
                        <a:pt x="400" y="67"/>
                      </a:lnTo>
                      <a:lnTo>
                        <a:pt x="406" y="65"/>
                      </a:lnTo>
                      <a:lnTo>
                        <a:pt x="413" y="62"/>
                      </a:lnTo>
                      <a:lnTo>
                        <a:pt x="418" y="59"/>
                      </a:lnTo>
                      <a:lnTo>
                        <a:pt x="424" y="57"/>
                      </a:lnTo>
                      <a:lnTo>
                        <a:pt x="507" y="167"/>
                      </a:lnTo>
                      <a:lnTo>
                        <a:pt x="521" y="163"/>
                      </a:lnTo>
                      <a:lnTo>
                        <a:pt x="531" y="159"/>
                      </a:lnTo>
                      <a:lnTo>
                        <a:pt x="542" y="156"/>
                      </a:lnTo>
                      <a:lnTo>
                        <a:pt x="552" y="153"/>
                      </a:lnTo>
                      <a:lnTo>
                        <a:pt x="562" y="150"/>
                      </a:lnTo>
                      <a:lnTo>
                        <a:pt x="573" y="148"/>
                      </a:lnTo>
                      <a:lnTo>
                        <a:pt x="583" y="145"/>
                      </a:lnTo>
                      <a:lnTo>
                        <a:pt x="593" y="143"/>
                      </a:lnTo>
                      <a:lnTo>
                        <a:pt x="604" y="141"/>
                      </a:lnTo>
                      <a:lnTo>
                        <a:pt x="619" y="138"/>
                      </a:lnTo>
                      <a:lnTo>
                        <a:pt x="636" y="4"/>
                      </a:lnTo>
                      <a:lnTo>
                        <a:pt x="643" y="2"/>
                      </a:lnTo>
                      <a:lnTo>
                        <a:pt x="649" y="2"/>
                      </a:lnTo>
                      <a:lnTo>
                        <a:pt x="656" y="1"/>
                      </a:lnTo>
                      <a:lnTo>
                        <a:pt x="662" y="1"/>
                      </a:lnTo>
                      <a:lnTo>
                        <a:pt x="669" y="0"/>
                      </a:lnTo>
                      <a:lnTo>
                        <a:pt x="676" y="0"/>
                      </a:lnTo>
                      <a:lnTo>
                        <a:pt x="683" y="0"/>
                      </a:lnTo>
                      <a:lnTo>
                        <a:pt x="690" y="0"/>
                      </a:lnTo>
                      <a:lnTo>
                        <a:pt x="725" y="134"/>
                      </a:lnTo>
                      <a:lnTo>
                        <a:pt x="738" y="135"/>
                      </a:lnTo>
                      <a:lnTo>
                        <a:pt x="749" y="136"/>
                      </a:lnTo>
                      <a:lnTo>
                        <a:pt x="759" y="137"/>
                      </a:lnTo>
                      <a:lnTo>
                        <a:pt x="770" y="138"/>
                      </a:lnTo>
                      <a:lnTo>
                        <a:pt x="780" y="140"/>
                      </a:lnTo>
                      <a:lnTo>
                        <a:pt x="790" y="142"/>
                      </a:lnTo>
                      <a:lnTo>
                        <a:pt x="801" y="143"/>
                      </a:lnTo>
                      <a:lnTo>
                        <a:pt x="811" y="145"/>
                      </a:lnTo>
                      <a:lnTo>
                        <a:pt x="821" y="148"/>
                      </a:lnTo>
                      <a:lnTo>
                        <a:pt x="836" y="151"/>
                      </a:lnTo>
                      <a:lnTo>
                        <a:pt x="904" y="31"/>
                      </a:lnTo>
                      <a:lnTo>
                        <a:pt x="911" y="34"/>
                      </a:lnTo>
                      <a:lnTo>
                        <a:pt x="917" y="36"/>
                      </a:lnTo>
                      <a:lnTo>
                        <a:pt x="923" y="38"/>
                      </a:lnTo>
                      <a:lnTo>
                        <a:pt x="930" y="41"/>
                      </a:lnTo>
                      <a:lnTo>
                        <a:pt x="935" y="43"/>
                      </a:lnTo>
                      <a:lnTo>
                        <a:pt x="942" y="45"/>
                      </a:lnTo>
                      <a:lnTo>
                        <a:pt x="949" y="47"/>
                      </a:lnTo>
                      <a:lnTo>
                        <a:pt x="956" y="50"/>
                      </a:lnTo>
                      <a:lnTo>
                        <a:pt x="937" y="188"/>
                      </a:lnTo>
                      <a:lnTo>
                        <a:pt x="949" y="195"/>
                      </a:lnTo>
                      <a:lnTo>
                        <a:pt x="958" y="200"/>
                      </a:lnTo>
                      <a:lnTo>
                        <a:pt x="968" y="204"/>
                      </a:lnTo>
                      <a:lnTo>
                        <a:pt x="976" y="209"/>
                      </a:lnTo>
                      <a:lnTo>
                        <a:pt x="985" y="213"/>
                      </a:lnTo>
                      <a:lnTo>
                        <a:pt x="993" y="219"/>
                      </a:lnTo>
                      <a:lnTo>
                        <a:pt x="1002" y="224"/>
                      </a:lnTo>
                      <a:lnTo>
                        <a:pt x="1010" y="229"/>
                      </a:lnTo>
                      <a:lnTo>
                        <a:pt x="1018" y="235"/>
                      </a:lnTo>
                      <a:lnTo>
                        <a:pt x="1030" y="244"/>
                      </a:lnTo>
                      <a:lnTo>
                        <a:pt x="1140" y="159"/>
                      </a:lnTo>
                      <a:lnTo>
                        <a:pt x="1146" y="164"/>
                      </a:lnTo>
                      <a:lnTo>
                        <a:pt x="1151" y="168"/>
                      </a:lnTo>
                      <a:lnTo>
                        <a:pt x="1157" y="173"/>
                      </a:lnTo>
                      <a:lnTo>
                        <a:pt x="1161" y="178"/>
                      </a:lnTo>
                      <a:lnTo>
                        <a:pt x="1167" y="182"/>
                      </a:lnTo>
                      <a:lnTo>
                        <a:pt x="1171" y="187"/>
                      </a:lnTo>
                      <a:lnTo>
                        <a:pt x="1177" y="191"/>
                      </a:lnTo>
                      <a:lnTo>
                        <a:pt x="1182" y="196"/>
                      </a:lnTo>
                      <a:lnTo>
                        <a:pt x="1110" y="317"/>
                      </a:lnTo>
                      <a:lnTo>
                        <a:pt x="1120" y="327"/>
                      </a:lnTo>
                      <a:lnTo>
                        <a:pt x="1127" y="334"/>
                      </a:lnTo>
                      <a:lnTo>
                        <a:pt x="1132" y="342"/>
                      </a:lnTo>
                      <a:lnTo>
                        <a:pt x="1138" y="350"/>
                      </a:lnTo>
                      <a:lnTo>
                        <a:pt x="1144" y="357"/>
                      </a:lnTo>
                      <a:lnTo>
                        <a:pt x="1150" y="365"/>
                      </a:lnTo>
                      <a:lnTo>
                        <a:pt x="1155" y="374"/>
                      </a:lnTo>
                      <a:lnTo>
                        <a:pt x="1160" y="382"/>
                      </a:lnTo>
                      <a:lnTo>
                        <a:pt x="1166" y="390"/>
                      </a:lnTo>
                      <a:lnTo>
                        <a:pt x="1174" y="402"/>
                      </a:lnTo>
                      <a:lnTo>
                        <a:pt x="1310" y="364"/>
                      </a:lnTo>
                      <a:lnTo>
                        <a:pt x="1317" y="377"/>
                      </a:lnTo>
                      <a:lnTo>
                        <a:pt x="1323" y="390"/>
                      </a:lnTo>
                      <a:lnTo>
                        <a:pt x="1329" y="402"/>
                      </a:lnTo>
                      <a:lnTo>
                        <a:pt x="1335" y="416"/>
                      </a:lnTo>
                      <a:lnTo>
                        <a:pt x="1222" y="501"/>
                      </a:lnTo>
                      <a:lnTo>
                        <a:pt x="1227" y="515"/>
                      </a:lnTo>
                      <a:lnTo>
                        <a:pt x="1231" y="533"/>
                      </a:lnTo>
                      <a:lnTo>
                        <a:pt x="1237" y="551"/>
                      </a:lnTo>
                      <a:lnTo>
                        <a:pt x="1242" y="569"/>
                      </a:lnTo>
                      <a:lnTo>
                        <a:pt x="1245" y="588"/>
                      </a:lnTo>
                      <a:lnTo>
                        <a:pt x="1247" y="603"/>
                      </a:lnTo>
                      <a:lnTo>
                        <a:pt x="1390" y="620"/>
                      </a:lnTo>
                      <a:lnTo>
                        <a:pt x="1391" y="634"/>
                      </a:lnTo>
                      <a:lnTo>
                        <a:pt x="1393" y="648"/>
                      </a:lnTo>
                      <a:lnTo>
                        <a:pt x="1394" y="663"/>
                      </a:lnTo>
                      <a:lnTo>
                        <a:pt x="1395" y="677"/>
                      </a:lnTo>
                      <a:lnTo>
                        <a:pt x="1254" y="713"/>
                      </a:lnTo>
                      <a:lnTo>
                        <a:pt x="1253" y="727"/>
                      </a:lnTo>
                      <a:lnTo>
                        <a:pt x="1252" y="746"/>
                      </a:lnTo>
                      <a:lnTo>
                        <a:pt x="1250" y="764"/>
                      </a:lnTo>
                      <a:lnTo>
                        <a:pt x="1247" y="783"/>
                      </a:lnTo>
                      <a:lnTo>
                        <a:pt x="1244" y="801"/>
                      </a:lnTo>
                      <a:lnTo>
                        <a:pt x="1241" y="816"/>
                      </a:lnTo>
                      <a:lnTo>
                        <a:pt x="1368" y="889"/>
                      </a:lnTo>
                      <a:lnTo>
                        <a:pt x="1364" y="902"/>
                      </a:lnTo>
                      <a:lnTo>
                        <a:pt x="1360" y="916"/>
                      </a:lnTo>
                      <a:lnTo>
                        <a:pt x="1356" y="929"/>
                      </a:lnTo>
                      <a:lnTo>
                        <a:pt x="1351" y="942"/>
                      </a:lnTo>
                      <a:lnTo>
                        <a:pt x="1205" y="921"/>
                      </a:lnTo>
                      <a:lnTo>
                        <a:pt x="1199" y="935"/>
                      </a:lnTo>
                      <a:lnTo>
                        <a:pt x="1195" y="943"/>
                      </a:lnTo>
                      <a:lnTo>
                        <a:pt x="1190" y="952"/>
                      </a:lnTo>
                      <a:lnTo>
                        <a:pt x="1186" y="960"/>
                      </a:lnTo>
                      <a:lnTo>
                        <a:pt x="1182" y="968"/>
                      </a:lnTo>
                      <a:lnTo>
                        <a:pt x="1177" y="976"/>
                      </a:lnTo>
                      <a:lnTo>
                        <a:pt x="1173" y="984"/>
                      </a:lnTo>
                      <a:lnTo>
                        <a:pt x="1167" y="992"/>
                      </a:lnTo>
                      <a:lnTo>
                        <a:pt x="1162" y="999"/>
                      </a:lnTo>
                      <a:lnTo>
                        <a:pt x="1154" y="1012"/>
                      </a:lnTo>
                      <a:lnTo>
                        <a:pt x="1246" y="1129"/>
                      </a:lnTo>
                      <a:lnTo>
                        <a:pt x="1242" y="1134"/>
                      </a:lnTo>
                      <a:lnTo>
                        <a:pt x="1237" y="1140"/>
                      </a:lnTo>
                      <a:lnTo>
                        <a:pt x="1233" y="1144"/>
                      </a:lnTo>
                      <a:lnTo>
                        <a:pt x="1229" y="1150"/>
                      </a:lnTo>
                      <a:lnTo>
                        <a:pt x="1224" y="1155"/>
                      </a:lnTo>
                      <a:lnTo>
                        <a:pt x="1220" y="1161"/>
                      </a:lnTo>
                      <a:lnTo>
                        <a:pt x="1215" y="1165"/>
                      </a:lnTo>
                      <a:lnTo>
                        <a:pt x="1211" y="1171"/>
                      </a:lnTo>
                      <a:lnTo>
                        <a:pt x="1083" y="1095"/>
                      </a:lnTo>
                      <a:lnTo>
                        <a:pt x="1071" y="1105"/>
                      </a:lnTo>
                      <a:lnTo>
                        <a:pt x="1064" y="1112"/>
                      </a:lnTo>
                      <a:lnTo>
                        <a:pt x="1056" y="1118"/>
                      </a:lnTo>
                      <a:lnTo>
                        <a:pt x="1049" y="1124"/>
                      </a:lnTo>
                      <a:lnTo>
                        <a:pt x="1041" y="1131"/>
                      </a:lnTo>
                      <a:lnTo>
                        <a:pt x="1034" y="1136"/>
                      </a:lnTo>
                      <a:lnTo>
                        <a:pt x="1026" y="1142"/>
                      </a:lnTo>
                      <a:lnTo>
                        <a:pt x="1019" y="1147"/>
                      </a:lnTo>
                      <a:lnTo>
                        <a:pt x="1011" y="1153"/>
                      </a:lnTo>
                      <a:lnTo>
                        <a:pt x="1000" y="1161"/>
                      </a:lnTo>
                      <a:lnTo>
                        <a:pt x="1039" y="1306"/>
                      </a:lnTo>
                      <a:lnTo>
                        <a:pt x="1033" y="1309"/>
                      </a:lnTo>
                      <a:lnTo>
                        <a:pt x="1028" y="1313"/>
                      </a:lnTo>
                      <a:lnTo>
                        <a:pt x="1022" y="1316"/>
                      </a:lnTo>
                      <a:lnTo>
                        <a:pt x="1016" y="1318"/>
                      </a:lnTo>
                      <a:lnTo>
                        <a:pt x="1010" y="1322"/>
                      </a:lnTo>
                      <a:lnTo>
                        <a:pt x="1003" y="1324"/>
                      </a:lnTo>
                      <a:lnTo>
                        <a:pt x="998" y="1328"/>
                      </a:lnTo>
                      <a:lnTo>
                        <a:pt x="992" y="1330"/>
                      </a:lnTo>
                      <a:lnTo>
                        <a:pt x="902" y="1211"/>
                      </a:lnTo>
                      <a:lnTo>
                        <a:pt x="888" y="1216"/>
                      </a:lnTo>
                      <a:lnTo>
                        <a:pt x="879" y="1219"/>
                      </a:lnTo>
                      <a:lnTo>
                        <a:pt x="870" y="1223"/>
                      </a:lnTo>
                      <a:lnTo>
                        <a:pt x="859" y="1225"/>
                      </a:lnTo>
                      <a:lnTo>
                        <a:pt x="850" y="1229"/>
                      </a:lnTo>
                      <a:lnTo>
                        <a:pt x="841" y="1231"/>
                      </a:lnTo>
                      <a:lnTo>
                        <a:pt x="832" y="1233"/>
                      </a:lnTo>
                      <a:lnTo>
                        <a:pt x="821" y="1235"/>
                      </a:lnTo>
                      <a:lnTo>
                        <a:pt x="812" y="1238"/>
                      </a:lnTo>
                      <a:lnTo>
                        <a:pt x="798" y="12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215920" y="5256720"/>
                  <a:ext cx="360360" cy="372240"/>
                </a:xfrm>
                <a:custGeom>
                  <a:avLst/>
                  <a:gdLst/>
                  <a:ahLst/>
                  <a:rect l="l" t="t" r="r" b="b"/>
                  <a:pathLst>
                    <a:path w="592" h="593">
                      <a:moveTo>
                        <a:pt x="133" y="544"/>
                      </a:moveTo>
                      <a:lnTo>
                        <a:pt x="87" y="506"/>
                      </a:lnTo>
                      <a:lnTo>
                        <a:pt x="50" y="459"/>
                      </a:lnTo>
                      <a:lnTo>
                        <a:pt x="23" y="409"/>
                      </a:lnTo>
                      <a:lnTo>
                        <a:pt x="7" y="355"/>
                      </a:lnTo>
                      <a:lnTo>
                        <a:pt x="0" y="298"/>
                      </a:lnTo>
                      <a:lnTo>
                        <a:pt x="6" y="240"/>
                      </a:lnTo>
                      <a:lnTo>
                        <a:pt x="22" y="185"/>
                      </a:lnTo>
                      <a:lnTo>
                        <a:pt x="50" y="132"/>
                      </a:lnTo>
                      <a:lnTo>
                        <a:pt x="59" y="121"/>
                      </a:lnTo>
                      <a:lnTo>
                        <a:pt x="67" y="108"/>
                      </a:lnTo>
                      <a:lnTo>
                        <a:pt x="77" y="98"/>
                      </a:lnTo>
                      <a:lnTo>
                        <a:pt x="88" y="87"/>
                      </a:lnTo>
                      <a:lnTo>
                        <a:pt x="98" y="77"/>
                      </a:lnTo>
                      <a:lnTo>
                        <a:pt x="109" y="68"/>
                      </a:lnTo>
                      <a:lnTo>
                        <a:pt x="120" y="58"/>
                      </a:lnTo>
                      <a:lnTo>
                        <a:pt x="132" y="50"/>
                      </a:lnTo>
                      <a:lnTo>
                        <a:pt x="143" y="42"/>
                      </a:lnTo>
                      <a:lnTo>
                        <a:pt x="156" y="35"/>
                      </a:lnTo>
                      <a:lnTo>
                        <a:pt x="168" y="28"/>
                      </a:lnTo>
                      <a:lnTo>
                        <a:pt x="182" y="23"/>
                      </a:lnTo>
                      <a:lnTo>
                        <a:pt x="195" y="17"/>
                      </a:lnTo>
                      <a:lnTo>
                        <a:pt x="209" y="12"/>
                      </a:lnTo>
                      <a:lnTo>
                        <a:pt x="224" y="9"/>
                      </a:lnTo>
                      <a:lnTo>
                        <a:pt x="238" y="5"/>
                      </a:lnTo>
                      <a:lnTo>
                        <a:pt x="253" y="3"/>
                      </a:lnTo>
                      <a:lnTo>
                        <a:pt x="266" y="1"/>
                      </a:lnTo>
                      <a:lnTo>
                        <a:pt x="281" y="0"/>
                      </a:lnTo>
                      <a:lnTo>
                        <a:pt x="295" y="0"/>
                      </a:lnTo>
                      <a:lnTo>
                        <a:pt x="310" y="0"/>
                      </a:lnTo>
                      <a:lnTo>
                        <a:pt x="324" y="1"/>
                      </a:lnTo>
                      <a:lnTo>
                        <a:pt x="339" y="3"/>
                      </a:lnTo>
                      <a:lnTo>
                        <a:pt x="353" y="5"/>
                      </a:lnTo>
                      <a:lnTo>
                        <a:pt x="367" y="9"/>
                      </a:lnTo>
                      <a:lnTo>
                        <a:pt x="381" y="12"/>
                      </a:lnTo>
                      <a:lnTo>
                        <a:pt x="394" y="17"/>
                      </a:lnTo>
                      <a:lnTo>
                        <a:pt x="408" y="22"/>
                      </a:lnTo>
                      <a:lnTo>
                        <a:pt x="422" y="27"/>
                      </a:lnTo>
                      <a:lnTo>
                        <a:pt x="434" y="34"/>
                      </a:lnTo>
                      <a:lnTo>
                        <a:pt x="447" y="41"/>
                      </a:lnTo>
                      <a:lnTo>
                        <a:pt x="460" y="49"/>
                      </a:lnTo>
                      <a:lnTo>
                        <a:pt x="506" y="87"/>
                      </a:lnTo>
                      <a:lnTo>
                        <a:pt x="543" y="133"/>
                      </a:lnTo>
                      <a:lnTo>
                        <a:pt x="569" y="184"/>
                      </a:lnTo>
                      <a:lnTo>
                        <a:pt x="586" y="238"/>
                      </a:lnTo>
                      <a:lnTo>
                        <a:pt x="592" y="295"/>
                      </a:lnTo>
                      <a:lnTo>
                        <a:pt x="586" y="352"/>
                      </a:lnTo>
                      <a:lnTo>
                        <a:pt x="570" y="408"/>
                      </a:lnTo>
                      <a:lnTo>
                        <a:pt x="543" y="461"/>
                      </a:lnTo>
                      <a:lnTo>
                        <a:pt x="535" y="472"/>
                      </a:lnTo>
                      <a:lnTo>
                        <a:pt x="525" y="485"/>
                      </a:lnTo>
                      <a:lnTo>
                        <a:pt x="516" y="495"/>
                      </a:lnTo>
                      <a:lnTo>
                        <a:pt x="506" y="506"/>
                      </a:lnTo>
                      <a:lnTo>
                        <a:pt x="495" y="516"/>
                      </a:lnTo>
                      <a:lnTo>
                        <a:pt x="484" y="525"/>
                      </a:lnTo>
                      <a:lnTo>
                        <a:pt x="472" y="534"/>
                      </a:lnTo>
                      <a:lnTo>
                        <a:pt x="461" y="542"/>
                      </a:lnTo>
                      <a:lnTo>
                        <a:pt x="449" y="550"/>
                      </a:lnTo>
                      <a:lnTo>
                        <a:pt x="437" y="557"/>
                      </a:lnTo>
                      <a:lnTo>
                        <a:pt x="424" y="564"/>
                      </a:lnTo>
                      <a:lnTo>
                        <a:pt x="410" y="570"/>
                      </a:lnTo>
                      <a:lnTo>
                        <a:pt x="396" y="576"/>
                      </a:lnTo>
                      <a:lnTo>
                        <a:pt x="383" y="580"/>
                      </a:lnTo>
                      <a:lnTo>
                        <a:pt x="369" y="584"/>
                      </a:lnTo>
                      <a:lnTo>
                        <a:pt x="354" y="587"/>
                      </a:lnTo>
                      <a:lnTo>
                        <a:pt x="339" y="590"/>
                      </a:lnTo>
                      <a:lnTo>
                        <a:pt x="325" y="592"/>
                      </a:lnTo>
                      <a:lnTo>
                        <a:pt x="310" y="593"/>
                      </a:lnTo>
                      <a:lnTo>
                        <a:pt x="296" y="593"/>
                      </a:lnTo>
                      <a:lnTo>
                        <a:pt x="281" y="593"/>
                      </a:lnTo>
                      <a:lnTo>
                        <a:pt x="267" y="592"/>
                      </a:lnTo>
                      <a:lnTo>
                        <a:pt x="253" y="590"/>
                      </a:lnTo>
                      <a:lnTo>
                        <a:pt x="239" y="587"/>
                      </a:lnTo>
                      <a:lnTo>
                        <a:pt x="225" y="584"/>
                      </a:lnTo>
                      <a:lnTo>
                        <a:pt x="211" y="580"/>
                      </a:lnTo>
                      <a:lnTo>
                        <a:pt x="197" y="576"/>
                      </a:lnTo>
                      <a:lnTo>
                        <a:pt x="183" y="571"/>
                      </a:lnTo>
                      <a:lnTo>
                        <a:pt x="171" y="565"/>
                      </a:lnTo>
                      <a:lnTo>
                        <a:pt x="158" y="559"/>
                      </a:lnTo>
                      <a:lnTo>
                        <a:pt x="145" y="552"/>
                      </a:lnTo>
                      <a:lnTo>
                        <a:pt x="133" y="544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" name=""/>
            <p:cNvSpPr/>
            <p:nvPr/>
          </p:nvSpPr>
          <p:spPr>
            <a:xfrm>
              <a:off x="6960600" y="5741280"/>
              <a:ext cx="112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937800" y="23684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User</a:t>
            </a:r>
            <a:r>
              <a:rPr b="1" lang="en-US" sz="1800" spc="-1" strike="noStrike">
                <a:solidFill>
                  <a:srgbClr val="ffc92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1828800"/>
            <a:ext cx="2667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200" y="1523880"/>
            <a:ext cx="975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38862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92680" y="3276720"/>
            <a:ext cx="11131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alog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4114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92120" y="4229280"/>
            <a:ext cx="975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23623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2438280"/>
            <a:ext cx="95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48440" y="2478240"/>
            <a:ext cx="84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ok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42" idx="0"/>
            <a:endCxn id="136" idx="2"/>
          </p:cNvCxnSpPr>
          <p:nvPr/>
        </p:nvCxnSpPr>
        <p:spPr>
          <a:xfrm flipV="1" rot="16200000">
            <a:off x="2698200" y="4653720"/>
            <a:ext cx="940680" cy="77544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0" name=""/>
          <p:cNvCxnSpPr>
            <a:stCxn id="142" idx="6"/>
            <a:endCxn id="153" idx="0"/>
          </p:cNvCxnSpPr>
          <p:nvPr/>
        </p:nvCxnSpPr>
        <p:spPr>
          <a:xfrm flipV="1">
            <a:off x="4241880" y="5492160"/>
            <a:ext cx="3342240" cy="324360"/>
          </a:xfrm>
          <a:prstGeom prst="curvedConnector2">
            <a:avLst/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71" name=""/>
          <p:cNvCxnSpPr>
            <a:stCxn id="142" idx="6"/>
          </p:cNvCxnSpPr>
          <p:nvPr/>
        </p:nvCxnSpPr>
        <p:spPr>
          <a:xfrm flipV="1">
            <a:off x="4241880" y="4890240"/>
            <a:ext cx="1016640" cy="92628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72" name=""/>
          <p:cNvSpPr/>
          <p:nvPr/>
        </p:nvSpPr>
        <p:spPr>
          <a:xfrm>
            <a:off x="4340880" y="6045120"/>
            <a:ext cx="98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39" idx="3"/>
            <a:endCxn id="153" idx="1"/>
          </p:cNvCxnSpPr>
          <p:nvPr/>
        </p:nvCxnSpPr>
        <p:spPr>
          <a:xfrm>
            <a:off x="6946560" y="2018880"/>
            <a:ext cx="1159560" cy="2880360"/>
          </a:xfrm>
          <a:prstGeom prst="curvedConnector5">
            <a:avLst>
              <a:gd name="adj1" fmla="val 122857"/>
              <a:gd name="adj2" fmla="val 50000"/>
              <a:gd name="adj3" fmla="val 122857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4" name=""/>
          <p:cNvSpPr/>
          <p:nvPr/>
        </p:nvSpPr>
        <p:spPr>
          <a:xfrm>
            <a:off x="6897600" y="668160"/>
            <a:ext cx="207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 Percivall, Feb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14200" y="2514600"/>
            <a:ext cx="1508400" cy="3701880"/>
          </a:xfrm>
          <a:prstGeom prst="rect">
            <a:avLst/>
          </a:prstGeom>
          <a:solidFill>
            <a:srgbClr val="00cc99">
              <a:alpha val="24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39920" y="2511360"/>
            <a:ext cx="1622520" cy="3687840"/>
          </a:xfrm>
          <a:prstGeom prst="rect">
            <a:avLst/>
          </a:prstGeom>
          <a:solidFill>
            <a:srgbClr val="ffcc99">
              <a:alpha val="32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08640" y="2522520"/>
            <a:ext cx="4303440" cy="3662280"/>
          </a:xfrm>
          <a:prstGeom prst="rect">
            <a:avLst/>
          </a:prstGeom>
          <a:solidFill>
            <a:srgbClr val="ffffc2">
              <a:alpha val="43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98600" y="2984400"/>
            <a:ext cx="108432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01920" y="2905200"/>
            <a:ext cx="108432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38280" y="966600"/>
            <a:ext cx="606096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GEOSS Architecture</a:t>
            </a:r>
            <a:br>
              <a:rPr sz="1800"/>
            </a:b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 for the Air Quality Community (March 2008)</a:t>
            </a:r>
            <a:endParaRPr b="1" lang="en-US" sz="1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60360" y="4253040"/>
            <a:ext cx="1095480" cy="453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SS Co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87680" y="2840040"/>
            <a:ext cx="108432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Q 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1120" y="2786040"/>
            <a:ext cx="668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ra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29040" y="5419800"/>
            <a:ext cx="824040" cy="514440"/>
          </a:xfrm>
          <a:prstGeom prst="ellipse">
            <a:avLst/>
          </a:prstGeom>
          <a:solidFill>
            <a:srgbClr val="9933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e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4880" y="4551480"/>
            <a:ext cx="7171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5960" y="2776680"/>
            <a:ext cx="116856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earing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7120" y="3728880"/>
            <a:ext cx="9255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talog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60480" y="3689280"/>
            <a:ext cx="812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rches,  harv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49600" y="3511440"/>
            <a:ext cx="873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bin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91" idx="2"/>
            <a:endCxn id="181" idx="3"/>
          </p:cNvCxnSpPr>
          <p:nvPr/>
        </p:nvCxnSpPr>
        <p:spPr>
          <a:xfrm flipV="1" rot="10800000">
            <a:off x="1455120" y="4456800"/>
            <a:ext cx="1134000" cy="2268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4" idx="0"/>
            <a:endCxn id="193" idx="2"/>
          </p:cNvCxnSpPr>
          <p:nvPr/>
        </p:nvCxnSpPr>
        <p:spPr>
          <a:xfrm flipV="1" rot="16200000">
            <a:off x="4902480" y="5080320"/>
            <a:ext cx="659520" cy="19800"/>
          </a:xfrm>
          <a:prstGeom prst="curvedConnector5">
            <a:avLst>
              <a:gd name="adj1" fmla="val 49863"/>
              <a:gd name="adj2" fmla="val 50000"/>
              <a:gd name="adj3" fmla="val 49863"/>
            </a:avLst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853920" y="5057640"/>
            <a:ext cx="8524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6" idx="4"/>
            <a:endCxn id="193" idx="0"/>
          </p:cNvCxnSpPr>
          <p:nvPr/>
        </p:nvCxnSpPr>
        <p:spPr>
          <a:xfrm rot="5400000">
            <a:off x="4776120" y="3744720"/>
            <a:ext cx="894600" cy="2160"/>
          </a:xfrm>
          <a:prstGeom prst="curvedConnector5">
            <a:avLst>
              <a:gd name="adj1" fmla="val 49879"/>
              <a:gd name="adj2" fmla="val 40000"/>
              <a:gd name="adj3" fmla="val 49879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7" name=""/>
          <p:cNvCxnSpPr>
            <a:stCxn id="186" idx="2"/>
            <a:endCxn id="191" idx="1"/>
          </p:cNvCxnSpPr>
          <p:nvPr/>
        </p:nvCxnSpPr>
        <p:spPr>
          <a:xfrm flipH="1" rot="16200000">
            <a:off x="1536480" y="2689920"/>
            <a:ext cx="905760" cy="212004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82" idx="1"/>
            <a:endCxn id="186" idx="3"/>
          </p:cNvCxnSpPr>
          <p:nvPr/>
        </p:nvCxnSpPr>
        <p:spPr>
          <a:xfrm rot="10800000">
            <a:off x="1513800" y="3036240"/>
            <a:ext cx="1073520" cy="1332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3781440" y="4732200"/>
            <a:ext cx="8031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ubl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08360" y="491184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2440" y="5438880"/>
            <a:ext cx="1095480" cy="46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 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81" idx="2"/>
            <a:endCxn id="201" idx="0"/>
          </p:cNvCxnSpPr>
          <p:nvPr/>
        </p:nvCxnSpPr>
        <p:spPr>
          <a:xfrm rot="5400000">
            <a:off x="537480" y="5068800"/>
            <a:ext cx="732600" cy="8640"/>
          </a:xfrm>
          <a:prstGeom prst="curvedConnector5">
            <a:avLst>
              <a:gd name="adj1" fmla="val 49852"/>
              <a:gd name="adj2" fmla="val 47826"/>
              <a:gd name="adj3" fmla="val 4985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1" idx="0"/>
            <a:endCxn id="186" idx="2"/>
          </p:cNvCxnSpPr>
          <p:nvPr/>
        </p:nvCxnSpPr>
        <p:spPr>
          <a:xfrm flipH="1" flipV="1" rot="5400000">
            <a:off x="441000" y="3763440"/>
            <a:ext cx="956520" cy="23040"/>
          </a:xfrm>
          <a:prstGeom prst="curvedConnector5">
            <a:avLst>
              <a:gd name="adj1" fmla="val 50000"/>
              <a:gd name="adj2" fmla="val 49206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5699160" y="6330960"/>
            <a:ext cx="344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opted from 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ercivall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, Feb 2008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by R. Husar, March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17760" y="4313160"/>
            <a:ext cx="919080" cy="5097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8120" y="4254480"/>
            <a:ext cx="919440" cy="5097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89120" y="4202280"/>
            <a:ext cx="919080" cy="5094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Q Cat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184" idx="0"/>
            <a:endCxn id="191" idx="3"/>
          </p:cNvCxnSpPr>
          <p:nvPr/>
        </p:nvCxnSpPr>
        <p:spPr>
          <a:xfrm flipV="1" rot="16200000">
            <a:off x="3791160" y="3968640"/>
            <a:ext cx="708840" cy="2193120"/>
          </a:xfrm>
          <a:prstGeom prst="curvedConnector5">
            <a:avLst>
              <a:gd name="adj1" fmla="val 50000"/>
              <a:gd name="adj2" fmla="val 49991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8" name=""/>
          <p:cNvSpPr/>
          <p:nvPr/>
        </p:nvSpPr>
        <p:spPr>
          <a:xfrm>
            <a:off x="3998880" y="278280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86280" y="307008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95640" y="291924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86280" y="319716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79800" y="332892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196" idx="2"/>
            <a:endCxn id="209" idx="7"/>
          </p:cNvCxnSpPr>
          <p:nvPr/>
        </p:nvCxnSpPr>
        <p:spPr>
          <a:xfrm flipH="1">
            <a:off x="4061880" y="3041280"/>
            <a:ext cx="750240" cy="41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811760" y="2784600"/>
            <a:ext cx="824040" cy="514080"/>
          </a:xfrm>
          <a:prstGeom prst="ellipse">
            <a:avLst/>
          </a:prstGeom>
          <a:solidFill>
            <a:srgbClr val="ff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09" idx="2"/>
            <a:endCxn id="182" idx="3"/>
          </p:cNvCxnSpPr>
          <p:nvPr/>
        </p:nvCxnSpPr>
        <p:spPr>
          <a:xfrm flipH="1" flipV="1">
            <a:off x="3671280" y="3049200"/>
            <a:ext cx="315000" cy="65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6283440" y="2884320"/>
            <a:ext cx="129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08" idx="2"/>
            <a:endCxn id="182" idx="3"/>
          </p:cNvCxnSpPr>
          <p:nvPr/>
        </p:nvCxnSpPr>
        <p:spPr>
          <a:xfrm flipH="1">
            <a:off x="3671640" y="2827080"/>
            <a:ext cx="327600" cy="22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0" idx="2"/>
            <a:endCxn id="182" idx="3"/>
          </p:cNvCxnSpPr>
          <p:nvPr/>
        </p:nvCxnSpPr>
        <p:spPr>
          <a:xfrm flipH="1">
            <a:off x="3671280" y="2963880"/>
            <a:ext cx="324360" cy="86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1" idx="2"/>
            <a:endCxn id="182" idx="3"/>
          </p:cNvCxnSpPr>
          <p:nvPr/>
        </p:nvCxnSpPr>
        <p:spPr>
          <a:xfrm flipH="1" flipV="1">
            <a:off x="3671280" y="3049200"/>
            <a:ext cx="315000" cy="192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2" idx="2"/>
            <a:endCxn id="182" idx="3"/>
          </p:cNvCxnSpPr>
          <p:nvPr/>
        </p:nvCxnSpPr>
        <p:spPr>
          <a:xfrm flipH="1" flipV="1">
            <a:off x="3671280" y="3049200"/>
            <a:ext cx="308520" cy="324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0" name=""/>
          <p:cNvGrpSpPr/>
          <p:nvPr/>
        </p:nvGrpSpPr>
        <p:grpSpPr>
          <a:xfrm>
            <a:off x="4721400" y="4192560"/>
            <a:ext cx="961560" cy="568440"/>
            <a:chOff x="4721400" y="4192560"/>
            <a:chExt cx="961560" cy="568440"/>
          </a:xfrm>
        </p:grpSpPr>
        <p:sp>
          <p:nvSpPr>
            <p:cNvPr id="193" name=""/>
            <p:cNvSpPr/>
            <p:nvPr/>
          </p:nvSpPr>
          <p:spPr>
            <a:xfrm>
              <a:off x="4762440" y="4192560"/>
              <a:ext cx="920520" cy="568440"/>
            </a:xfrm>
            <a:prstGeom prst="rect">
              <a:avLst/>
            </a:prstGeom>
            <a:solidFill>
              <a:srgbClr val="9933f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71240" y="4216680"/>
              <a:ext cx="389160" cy="297720"/>
            </a:xfrm>
            <a:custGeom>
              <a:avLst/>
              <a:gdLst/>
              <a:ahLst/>
              <a:rect l="l" t="t" r="r" b="b"/>
              <a:pathLst>
                <a:path w="1395" h="1396">
                  <a:moveTo>
                    <a:pt x="798" y="1241"/>
                  </a:moveTo>
                  <a:lnTo>
                    <a:pt x="779" y="1391"/>
                  </a:lnTo>
                  <a:lnTo>
                    <a:pt x="772" y="1392"/>
                  </a:lnTo>
                  <a:lnTo>
                    <a:pt x="766" y="1392"/>
                  </a:lnTo>
                  <a:lnTo>
                    <a:pt x="759" y="1393"/>
                  </a:lnTo>
                  <a:lnTo>
                    <a:pt x="753" y="1393"/>
                  </a:lnTo>
                  <a:lnTo>
                    <a:pt x="748" y="1395"/>
                  </a:lnTo>
                  <a:lnTo>
                    <a:pt x="741" y="1395"/>
                  </a:lnTo>
                  <a:lnTo>
                    <a:pt x="735" y="1396"/>
                  </a:lnTo>
                  <a:lnTo>
                    <a:pt x="728" y="1396"/>
                  </a:lnTo>
                  <a:lnTo>
                    <a:pt x="690" y="1250"/>
                  </a:lnTo>
                  <a:lnTo>
                    <a:pt x="675" y="1249"/>
                  </a:lnTo>
                  <a:lnTo>
                    <a:pt x="665" y="1249"/>
                  </a:lnTo>
                  <a:lnTo>
                    <a:pt x="654" y="1248"/>
                  </a:lnTo>
                  <a:lnTo>
                    <a:pt x="644" y="1248"/>
                  </a:lnTo>
                  <a:lnTo>
                    <a:pt x="635" y="1247"/>
                  </a:lnTo>
                  <a:lnTo>
                    <a:pt x="624" y="1246"/>
                  </a:lnTo>
                  <a:lnTo>
                    <a:pt x="614" y="1244"/>
                  </a:lnTo>
                  <a:lnTo>
                    <a:pt x="604" y="1242"/>
                  </a:lnTo>
                  <a:lnTo>
                    <a:pt x="593" y="1240"/>
                  </a:lnTo>
                  <a:lnTo>
                    <a:pt x="580" y="1238"/>
                  </a:lnTo>
                  <a:lnTo>
                    <a:pt x="506" y="1369"/>
                  </a:lnTo>
                  <a:lnTo>
                    <a:pt x="498" y="1367"/>
                  </a:lnTo>
                  <a:lnTo>
                    <a:pt x="490" y="1363"/>
                  </a:lnTo>
                  <a:lnTo>
                    <a:pt x="482" y="1361"/>
                  </a:lnTo>
                  <a:lnTo>
                    <a:pt x="474" y="1359"/>
                  </a:lnTo>
                  <a:lnTo>
                    <a:pt x="470" y="1358"/>
                  </a:lnTo>
                  <a:lnTo>
                    <a:pt x="467" y="1356"/>
                  </a:lnTo>
                  <a:lnTo>
                    <a:pt x="463" y="1355"/>
                  </a:lnTo>
                  <a:lnTo>
                    <a:pt x="459" y="1354"/>
                  </a:lnTo>
                  <a:lnTo>
                    <a:pt x="479" y="1206"/>
                  </a:lnTo>
                  <a:lnTo>
                    <a:pt x="466" y="1200"/>
                  </a:lnTo>
                  <a:lnTo>
                    <a:pt x="455" y="1195"/>
                  </a:lnTo>
                  <a:lnTo>
                    <a:pt x="446" y="1191"/>
                  </a:lnTo>
                  <a:lnTo>
                    <a:pt x="437" y="1186"/>
                  </a:lnTo>
                  <a:lnTo>
                    <a:pt x="426" y="1180"/>
                  </a:lnTo>
                  <a:lnTo>
                    <a:pt x="417" y="1174"/>
                  </a:lnTo>
                  <a:lnTo>
                    <a:pt x="408" y="1170"/>
                  </a:lnTo>
                  <a:lnTo>
                    <a:pt x="399" y="1164"/>
                  </a:lnTo>
                  <a:lnTo>
                    <a:pt x="390" y="1158"/>
                  </a:lnTo>
                  <a:lnTo>
                    <a:pt x="378" y="1150"/>
                  </a:lnTo>
                  <a:lnTo>
                    <a:pt x="261" y="1241"/>
                  </a:lnTo>
                  <a:lnTo>
                    <a:pt x="256" y="1238"/>
                  </a:lnTo>
                  <a:lnTo>
                    <a:pt x="251" y="1233"/>
                  </a:lnTo>
                  <a:lnTo>
                    <a:pt x="247" y="1230"/>
                  </a:lnTo>
                  <a:lnTo>
                    <a:pt x="242" y="1225"/>
                  </a:lnTo>
                  <a:lnTo>
                    <a:pt x="238" y="1222"/>
                  </a:lnTo>
                  <a:lnTo>
                    <a:pt x="233" y="1218"/>
                  </a:lnTo>
                  <a:lnTo>
                    <a:pt x="228" y="1214"/>
                  </a:lnTo>
                  <a:lnTo>
                    <a:pt x="224" y="1210"/>
                  </a:lnTo>
                  <a:lnTo>
                    <a:pt x="299" y="1082"/>
                  </a:lnTo>
                  <a:lnTo>
                    <a:pt x="288" y="1072"/>
                  </a:lnTo>
                  <a:lnTo>
                    <a:pt x="281" y="1064"/>
                  </a:lnTo>
                  <a:lnTo>
                    <a:pt x="273" y="1056"/>
                  </a:lnTo>
                  <a:lnTo>
                    <a:pt x="266" y="1047"/>
                  </a:lnTo>
                  <a:lnTo>
                    <a:pt x="259" y="1038"/>
                  </a:lnTo>
                  <a:lnTo>
                    <a:pt x="253" y="1029"/>
                  </a:lnTo>
                  <a:lnTo>
                    <a:pt x="246" y="1020"/>
                  </a:lnTo>
                  <a:lnTo>
                    <a:pt x="240" y="1011"/>
                  </a:lnTo>
                  <a:lnTo>
                    <a:pt x="233" y="1002"/>
                  </a:lnTo>
                  <a:lnTo>
                    <a:pt x="225" y="990"/>
                  </a:lnTo>
                  <a:lnTo>
                    <a:pt x="84" y="1028"/>
                  </a:lnTo>
                  <a:lnTo>
                    <a:pt x="79" y="1018"/>
                  </a:lnTo>
                  <a:lnTo>
                    <a:pt x="73" y="1007"/>
                  </a:lnTo>
                  <a:lnTo>
                    <a:pt x="68" y="997"/>
                  </a:lnTo>
                  <a:lnTo>
                    <a:pt x="63" y="985"/>
                  </a:lnTo>
                  <a:lnTo>
                    <a:pt x="179" y="898"/>
                  </a:lnTo>
                  <a:lnTo>
                    <a:pt x="173" y="884"/>
                  </a:lnTo>
                  <a:lnTo>
                    <a:pt x="166" y="862"/>
                  </a:lnTo>
                  <a:lnTo>
                    <a:pt x="159" y="840"/>
                  </a:lnTo>
                  <a:lnTo>
                    <a:pt x="153" y="817"/>
                  </a:lnTo>
                  <a:lnTo>
                    <a:pt x="149" y="795"/>
                  </a:lnTo>
                  <a:lnTo>
                    <a:pt x="147" y="781"/>
                  </a:lnTo>
                  <a:lnTo>
                    <a:pt x="4" y="764"/>
                  </a:lnTo>
                  <a:lnTo>
                    <a:pt x="3" y="752"/>
                  </a:lnTo>
                  <a:lnTo>
                    <a:pt x="1" y="740"/>
                  </a:lnTo>
                  <a:lnTo>
                    <a:pt x="1" y="727"/>
                  </a:lnTo>
                  <a:lnTo>
                    <a:pt x="0" y="716"/>
                  </a:lnTo>
                  <a:lnTo>
                    <a:pt x="139" y="679"/>
                  </a:lnTo>
                  <a:lnTo>
                    <a:pt x="140" y="665"/>
                  </a:lnTo>
                  <a:lnTo>
                    <a:pt x="141" y="642"/>
                  </a:lnTo>
                  <a:lnTo>
                    <a:pt x="144" y="619"/>
                  </a:lnTo>
                  <a:lnTo>
                    <a:pt x="147" y="596"/>
                  </a:lnTo>
                  <a:lnTo>
                    <a:pt x="151" y="573"/>
                  </a:lnTo>
                  <a:lnTo>
                    <a:pt x="155" y="559"/>
                  </a:lnTo>
                  <a:lnTo>
                    <a:pt x="33" y="489"/>
                  </a:lnTo>
                  <a:lnTo>
                    <a:pt x="34" y="484"/>
                  </a:lnTo>
                  <a:lnTo>
                    <a:pt x="35" y="481"/>
                  </a:lnTo>
                  <a:lnTo>
                    <a:pt x="36" y="477"/>
                  </a:lnTo>
                  <a:lnTo>
                    <a:pt x="37" y="473"/>
                  </a:lnTo>
                  <a:lnTo>
                    <a:pt x="39" y="466"/>
                  </a:lnTo>
                  <a:lnTo>
                    <a:pt x="43" y="458"/>
                  </a:lnTo>
                  <a:lnTo>
                    <a:pt x="45" y="451"/>
                  </a:lnTo>
                  <a:lnTo>
                    <a:pt x="49" y="443"/>
                  </a:lnTo>
                  <a:lnTo>
                    <a:pt x="188" y="462"/>
                  </a:lnTo>
                  <a:lnTo>
                    <a:pt x="194" y="450"/>
                  </a:lnTo>
                  <a:lnTo>
                    <a:pt x="200" y="439"/>
                  </a:lnTo>
                  <a:lnTo>
                    <a:pt x="204" y="429"/>
                  </a:lnTo>
                  <a:lnTo>
                    <a:pt x="210" y="418"/>
                  </a:lnTo>
                  <a:lnTo>
                    <a:pt x="216" y="408"/>
                  </a:lnTo>
                  <a:lnTo>
                    <a:pt x="221" y="399"/>
                  </a:lnTo>
                  <a:lnTo>
                    <a:pt x="228" y="389"/>
                  </a:lnTo>
                  <a:lnTo>
                    <a:pt x="234" y="379"/>
                  </a:lnTo>
                  <a:lnTo>
                    <a:pt x="241" y="370"/>
                  </a:lnTo>
                  <a:lnTo>
                    <a:pt x="249" y="357"/>
                  </a:lnTo>
                  <a:lnTo>
                    <a:pt x="164" y="249"/>
                  </a:lnTo>
                  <a:lnTo>
                    <a:pt x="167" y="244"/>
                  </a:lnTo>
                  <a:lnTo>
                    <a:pt x="172" y="240"/>
                  </a:lnTo>
                  <a:lnTo>
                    <a:pt x="177" y="235"/>
                  </a:lnTo>
                  <a:lnTo>
                    <a:pt x="180" y="231"/>
                  </a:lnTo>
                  <a:lnTo>
                    <a:pt x="185" y="226"/>
                  </a:lnTo>
                  <a:lnTo>
                    <a:pt x="189" y="221"/>
                  </a:lnTo>
                  <a:lnTo>
                    <a:pt x="194" y="217"/>
                  </a:lnTo>
                  <a:lnTo>
                    <a:pt x="198" y="212"/>
                  </a:lnTo>
                  <a:lnTo>
                    <a:pt x="318" y="281"/>
                  </a:lnTo>
                  <a:lnTo>
                    <a:pt x="329" y="272"/>
                  </a:lnTo>
                  <a:lnTo>
                    <a:pt x="338" y="264"/>
                  </a:lnTo>
                  <a:lnTo>
                    <a:pt x="346" y="257"/>
                  </a:lnTo>
                  <a:lnTo>
                    <a:pt x="355" y="250"/>
                  </a:lnTo>
                  <a:lnTo>
                    <a:pt x="364" y="243"/>
                  </a:lnTo>
                  <a:lnTo>
                    <a:pt x="373" y="238"/>
                  </a:lnTo>
                  <a:lnTo>
                    <a:pt x="383" y="232"/>
                  </a:lnTo>
                  <a:lnTo>
                    <a:pt x="392" y="225"/>
                  </a:lnTo>
                  <a:lnTo>
                    <a:pt x="401" y="219"/>
                  </a:lnTo>
                  <a:lnTo>
                    <a:pt x="414" y="211"/>
                  </a:lnTo>
                  <a:lnTo>
                    <a:pt x="377" y="79"/>
                  </a:lnTo>
                  <a:lnTo>
                    <a:pt x="383" y="76"/>
                  </a:lnTo>
                  <a:lnTo>
                    <a:pt x="388" y="73"/>
                  </a:lnTo>
                  <a:lnTo>
                    <a:pt x="394" y="70"/>
                  </a:lnTo>
                  <a:lnTo>
                    <a:pt x="400" y="67"/>
                  </a:lnTo>
                  <a:lnTo>
                    <a:pt x="406" y="65"/>
                  </a:lnTo>
                  <a:lnTo>
                    <a:pt x="413" y="62"/>
                  </a:lnTo>
                  <a:lnTo>
                    <a:pt x="418" y="59"/>
                  </a:lnTo>
                  <a:lnTo>
                    <a:pt x="424" y="57"/>
                  </a:lnTo>
                  <a:lnTo>
                    <a:pt x="507" y="167"/>
                  </a:lnTo>
                  <a:lnTo>
                    <a:pt x="521" y="163"/>
                  </a:lnTo>
                  <a:lnTo>
                    <a:pt x="531" y="159"/>
                  </a:lnTo>
                  <a:lnTo>
                    <a:pt x="542" y="156"/>
                  </a:lnTo>
                  <a:lnTo>
                    <a:pt x="552" y="153"/>
                  </a:lnTo>
                  <a:lnTo>
                    <a:pt x="562" y="150"/>
                  </a:lnTo>
                  <a:lnTo>
                    <a:pt x="573" y="148"/>
                  </a:lnTo>
                  <a:lnTo>
                    <a:pt x="583" y="145"/>
                  </a:lnTo>
                  <a:lnTo>
                    <a:pt x="593" y="143"/>
                  </a:lnTo>
                  <a:lnTo>
                    <a:pt x="604" y="141"/>
                  </a:lnTo>
                  <a:lnTo>
                    <a:pt x="619" y="138"/>
                  </a:lnTo>
                  <a:lnTo>
                    <a:pt x="636" y="4"/>
                  </a:lnTo>
                  <a:lnTo>
                    <a:pt x="643" y="2"/>
                  </a:lnTo>
                  <a:lnTo>
                    <a:pt x="649" y="2"/>
                  </a:lnTo>
                  <a:lnTo>
                    <a:pt x="656" y="1"/>
                  </a:lnTo>
                  <a:lnTo>
                    <a:pt x="662" y="1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83" y="0"/>
                  </a:lnTo>
                  <a:lnTo>
                    <a:pt x="690" y="0"/>
                  </a:lnTo>
                  <a:lnTo>
                    <a:pt x="725" y="134"/>
                  </a:lnTo>
                  <a:lnTo>
                    <a:pt x="738" y="135"/>
                  </a:lnTo>
                  <a:lnTo>
                    <a:pt x="749" y="136"/>
                  </a:lnTo>
                  <a:lnTo>
                    <a:pt x="759" y="137"/>
                  </a:lnTo>
                  <a:lnTo>
                    <a:pt x="770" y="138"/>
                  </a:lnTo>
                  <a:lnTo>
                    <a:pt x="780" y="140"/>
                  </a:lnTo>
                  <a:lnTo>
                    <a:pt x="790" y="142"/>
                  </a:lnTo>
                  <a:lnTo>
                    <a:pt x="801" y="143"/>
                  </a:lnTo>
                  <a:lnTo>
                    <a:pt x="811" y="145"/>
                  </a:lnTo>
                  <a:lnTo>
                    <a:pt x="821" y="148"/>
                  </a:lnTo>
                  <a:lnTo>
                    <a:pt x="836" y="151"/>
                  </a:lnTo>
                  <a:lnTo>
                    <a:pt x="904" y="31"/>
                  </a:lnTo>
                  <a:lnTo>
                    <a:pt x="911" y="34"/>
                  </a:lnTo>
                  <a:lnTo>
                    <a:pt x="917" y="36"/>
                  </a:lnTo>
                  <a:lnTo>
                    <a:pt x="923" y="38"/>
                  </a:lnTo>
                  <a:lnTo>
                    <a:pt x="930" y="41"/>
                  </a:lnTo>
                  <a:lnTo>
                    <a:pt x="935" y="43"/>
                  </a:lnTo>
                  <a:lnTo>
                    <a:pt x="942" y="45"/>
                  </a:lnTo>
                  <a:lnTo>
                    <a:pt x="949" y="47"/>
                  </a:lnTo>
                  <a:lnTo>
                    <a:pt x="956" y="50"/>
                  </a:lnTo>
                  <a:lnTo>
                    <a:pt x="937" y="188"/>
                  </a:lnTo>
                  <a:lnTo>
                    <a:pt x="949" y="195"/>
                  </a:lnTo>
                  <a:lnTo>
                    <a:pt x="958" y="200"/>
                  </a:lnTo>
                  <a:lnTo>
                    <a:pt x="968" y="204"/>
                  </a:lnTo>
                  <a:lnTo>
                    <a:pt x="976" y="209"/>
                  </a:lnTo>
                  <a:lnTo>
                    <a:pt x="985" y="213"/>
                  </a:lnTo>
                  <a:lnTo>
                    <a:pt x="993" y="219"/>
                  </a:lnTo>
                  <a:lnTo>
                    <a:pt x="1002" y="224"/>
                  </a:lnTo>
                  <a:lnTo>
                    <a:pt x="1010" y="229"/>
                  </a:lnTo>
                  <a:lnTo>
                    <a:pt x="1018" y="235"/>
                  </a:lnTo>
                  <a:lnTo>
                    <a:pt x="1030" y="244"/>
                  </a:lnTo>
                  <a:lnTo>
                    <a:pt x="1140" y="159"/>
                  </a:lnTo>
                  <a:lnTo>
                    <a:pt x="1146" y="164"/>
                  </a:lnTo>
                  <a:lnTo>
                    <a:pt x="1151" y="168"/>
                  </a:lnTo>
                  <a:lnTo>
                    <a:pt x="1157" y="173"/>
                  </a:lnTo>
                  <a:lnTo>
                    <a:pt x="1161" y="178"/>
                  </a:lnTo>
                  <a:lnTo>
                    <a:pt x="1167" y="182"/>
                  </a:lnTo>
                  <a:lnTo>
                    <a:pt x="1171" y="187"/>
                  </a:lnTo>
                  <a:lnTo>
                    <a:pt x="1177" y="191"/>
                  </a:lnTo>
                  <a:lnTo>
                    <a:pt x="1182" y="196"/>
                  </a:lnTo>
                  <a:lnTo>
                    <a:pt x="1110" y="317"/>
                  </a:lnTo>
                  <a:lnTo>
                    <a:pt x="1120" y="327"/>
                  </a:lnTo>
                  <a:lnTo>
                    <a:pt x="1127" y="334"/>
                  </a:lnTo>
                  <a:lnTo>
                    <a:pt x="1132" y="342"/>
                  </a:lnTo>
                  <a:lnTo>
                    <a:pt x="1138" y="350"/>
                  </a:lnTo>
                  <a:lnTo>
                    <a:pt x="1144" y="357"/>
                  </a:lnTo>
                  <a:lnTo>
                    <a:pt x="1150" y="365"/>
                  </a:lnTo>
                  <a:lnTo>
                    <a:pt x="1155" y="374"/>
                  </a:lnTo>
                  <a:lnTo>
                    <a:pt x="1160" y="382"/>
                  </a:lnTo>
                  <a:lnTo>
                    <a:pt x="1166" y="390"/>
                  </a:lnTo>
                  <a:lnTo>
                    <a:pt x="1174" y="402"/>
                  </a:lnTo>
                  <a:lnTo>
                    <a:pt x="1310" y="364"/>
                  </a:lnTo>
                  <a:lnTo>
                    <a:pt x="1317" y="377"/>
                  </a:lnTo>
                  <a:lnTo>
                    <a:pt x="1323" y="390"/>
                  </a:lnTo>
                  <a:lnTo>
                    <a:pt x="1329" y="402"/>
                  </a:lnTo>
                  <a:lnTo>
                    <a:pt x="1335" y="416"/>
                  </a:lnTo>
                  <a:lnTo>
                    <a:pt x="1222" y="501"/>
                  </a:lnTo>
                  <a:lnTo>
                    <a:pt x="1227" y="515"/>
                  </a:lnTo>
                  <a:lnTo>
                    <a:pt x="1231" y="533"/>
                  </a:lnTo>
                  <a:lnTo>
                    <a:pt x="1237" y="551"/>
                  </a:lnTo>
                  <a:lnTo>
                    <a:pt x="1242" y="569"/>
                  </a:lnTo>
                  <a:lnTo>
                    <a:pt x="1245" y="588"/>
                  </a:lnTo>
                  <a:lnTo>
                    <a:pt x="1247" y="603"/>
                  </a:lnTo>
                  <a:lnTo>
                    <a:pt x="1390" y="620"/>
                  </a:lnTo>
                  <a:lnTo>
                    <a:pt x="1391" y="634"/>
                  </a:lnTo>
                  <a:lnTo>
                    <a:pt x="1393" y="648"/>
                  </a:lnTo>
                  <a:lnTo>
                    <a:pt x="1394" y="663"/>
                  </a:lnTo>
                  <a:lnTo>
                    <a:pt x="1395" y="677"/>
                  </a:lnTo>
                  <a:lnTo>
                    <a:pt x="1254" y="713"/>
                  </a:lnTo>
                  <a:lnTo>
                    <a:pt x="1253" y="727"/>
                  </a:lnTo>
                  <a:lnTo>
                    <a:pt x="1252" y="746"/>
                  </a:lnTo>
                  <a:lnTo>
                    <a:pt x="1250" y="764"/>
                  </a:lnTo>
                  <a:lnTo>
                    <a:pt x="1247" y="783"/>
                  </a:lnTo>
                  <a:lnTo>
                    <a:pt x="1244" y="801"/>
                  </a:lnTo>
                  <a:lnTo>
                    <a:pt x="1241" y="816"/>
                  </a:lnTo>
                  <a:lnTo>
                    <a:pt x="1368" y="889"/>
                  </a:lnTo>
                  <a:lnTo>
                    <a:pt x="1364" y="902"/>
                  </a:lnTo>
                  <a:lnTo>
                    <a:pt x="1360" y="916"/>
                  </a:lnTo>
                  <a:lnTo>
                    <a:pt x="1356" y="929"/>
                  </a:lnTo>
                  <a:lnTo>
                    <a:pt x="1351" y="942"/>
                  </a:lnTo>
                  <a:lnTo>
                    <a:pt x="1205" y="921"/>
                  </a:lnTo>
                  <a:lnTo>
                    <a:pt x="1199" y="935"/>
                  </a:lnTo>
                  <a:lnTo>
                    <a:pt x="1195" y="943"/>
                  </a:lnTo>
                  <a:lnTo>
                    <a:pt x="1190" y="952"/>
                  </a:lnTo>
                  <a:lnTo>
                    <a:pt x="1186" y="960"/>
                  </a:lnTo>
                  <a:lnTo>
                    <a:pt x="1182" y="968"/>
                  </a:lnTo>
                  <a:lnTo>
                    <a:pt x="1177" y="976"/>
                  </a:lnTo>
                  <a:lnTo>
                    <a:pt x="1173" y="984"/>
                  </a:lnTo>
                  <a:lnTo>
                    <a:pt x="1167" y="992"/>
                  </a:lnTo>
                  <a:lnTo>
                    <a:pt x="1162" y="999"/>
                  </a:lnTo>
                  <a:lnTo>
                    <a:pt x="1154" y="1012"/>
                  </a:lnTo>
                  <a:lnTo>
                    <a:pt x="1246" y="1129"/>
                  </a:lnTo>
                  <a:lnTo>
                    <a:pt x="1242" y="1134"/>
                  </a:lnTo>
                  <a:lnTo>
                    <a:pt x="1237" y="1140"/>
                  </a:lnTo>
                  <a:lnTo>
                    <a:pt x="1233" y="1144"/>
                  </a:lnTo>
                  <a:lnTo>
                    <a:pt x="1229" y="1150"/>
                  </a:lnTo>
                  <a:lnTo>
                    <a:pt x="1224" y="1155"/>
                  </a:lnTo>
                  <a:lnTo>
                    <a:pt x="1220" y="1161"/>
                  </a:lnTo>
                  <a:lnTo>
                    <a:pt x="1215" y="1165"/>
                  </a:lnTo>
                  <a:lnTo>
                    <a:pt x="1211" y="1171"/>
                  </a:lnTo>
                  <a:lnTo>
                    <a:pt x="1083" y="1095"/>
                  </a:lnTo>
                  <a:lnTo>
                    <a:pt x="1071" y="1105"/>
                  </a:lnTo>
                  <a:lnTo>
                    <a:pt x="1064" y="1112"/>
                  </a:lnTo>
                  <a:lnTo>
                    <a:pt x="1056" y="1118"/>
                  </a:lnTo>
                  <a:lnTo>
                    <a:pt x="1049" y="1124"/>
                  </a:lnTo>
                  <a:lnTo>
                    <a:pt x="1041" y="1131"/>
                  </a:lnTo>
                  <a:lnTo>
                    <a:pt x="1034" y="1136"/>
                  </a:lnTo>
                  <a:lnTo>
                    <a:pt x="1026" y="1142"/>
                  </a:lnTo>
                  <a:lnTo>
                    <a:pt x="1019" y="1147"/>
                  </a:lnTo>
                  <a:lnTo>
                    <a:pt x="1011" y="1153"/>
                  </a:lnTo>
                  <a:lnTo>
                    <a:pt x="1000" y="1161"/>
                  </a:lnTo>
                  <a:lnTo>
                    <a:pt x="1039" y="1306"/>
                  </a:lnTo>
                  <a:lnTo>
                    <a:pt x="1033" y="1309"/>
                  </a:lnTo>
                  <a:lnTo>
                    <a:pt x="1028" y="1313"/>
                  </a:lnTo>
                  <a:lnTo>
                    <a:pt x="1022" y="1316"/>
                  </a:lnTo>
                  <a:lnTo>
                    <a:pt x="1016" y="1318"/>
                  </a:lnTo>
                  <a:lnTo>
                    <a:pt x="1010" y="1322"/>
                  </a:lnTo>
                  <a:lnTo>
                    <a:pt x="1003" y="1324"/>
                  </a:lnTo>
                  <a:lnTo>
                    <a:pt x="998" y="1328"/>
                  </a:lnTo>
                  <a:lnTo>
                    <a:pt x="992" y="1330"/>
                  </a:lnTo>
                  <a:lnTo>
                    <a:pt x="902" y="1211"/>
                  </a:lnTo>
                  <a:lnTo>
                    <a:pt x="888" y="1216"/>
                  </a:lnTo>
                  <a:lnTo>
                    <a:pt x="879" y="1219"/>
                  </a:lnTo>
                  <a:lnTo>
                    <a:pt x="870" y="1223"/>
                  </a:lnTo>
                  <a:lnTo>
                    <a:pt x="859" y="1225"/>
                  </a:lnTo>
                  <a:lnTo>
                    <a:pt x="850" y="1229"/>
                  </a:lnTo>
                  <a:lnTo>
                    <a:pt x="841" y="1231"/>
                  </a:lnTo>
                  <a:lnTo>
                    <a:pt x="832" y="1233"/>
                  </a:lnTo>
                  <a:lnTo>
                    <a:pt x="821" y="1235"/>
                  </a:lnTo>
                  <a:lnTo>
                    <a:pt x="812" y="1238"/>
                  </a:lnTo>
                  <a:lnTo>
                    <a:pt x="798" y="124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83560" y="4302360"/>
              <a:ext cx="164880" cy="127440"/>
            </a:xfrm>
            <a:custGeom>
              <a:avLst/>
              <a:gdLst/>
              <a:ahLst/>
              <a:rect l="l" t="t" r="r" b="b"/>
              <a:pathLst>
                <a:path w="592" h="593">
                  <a:moveTo>
                    <a:pt x="133" y="544"/>
                  </a:moveTo>
                  <a:lnTo>
                    <a:pt x="87" y="506"/>
                  </a:lnTo>
                  <a:lnTo>
                    <a:pt x="50" y="459"/>
                  </a:lnTo>
                  <a:lnTo>
                    <a:pt x="23" y="409"/>
                  </a:lnTo>
                  <a:lnTo>
                    <a:pt x="7" y="355"/>
                  </a:lnTo>
                  <a:lnTo>
                    <a:pt x="0" y="298"/>
                  </a:lnTo>
                  <a:lnTo>
                    <a:pt x="6" y="240"/>
                  </a:lnTo>
                  <a:lnTo>
                    <a:pt x="22" y="185"/>
                  </a:lnTo>
                  <a:lnTo>
                    <a:pt x="50" y="132"/>
                  </a:lnTo>
                  <a:lnTo>
                    <a:pt x="59" y="121"/>
                  </a:lnTo>
                  <a:lnTo>
                    <a:pt x="67" y="108"/>
                  </a:lnTo>
                  <a:lnTo>
                    <a:pt x="77" y="98"/>
                  </a:lnTo>
                  <a:lnTo>
                    <a:pt x="88" y="87"/>
                  </a:lnTo>
                  <a:lnTo>
                    <a:pt x="98" y="77"/>
                  </a:lnTo>
                  <a:lnTo>
                    <a:pt x="109" y="68"/>
                  </a:lnTo>
                  <a:lnTo>
                    <a:pt x="120" y="58"/>
                  </a:lnTo>
                  <a:lnTo>
                    <a:pt x="132" y="50"/>
                  </a:lnTo>
                  <a:lnTo>
                    <a:pt x="143" y="42"/>
                  </a:lnTo>
                  <a:lnTo>
                    <a:pt x="156" y="35"/>
                  </a:lnTo>
                  <a:lnTo>
                    <a:pt x="168" y="28"/>
                  </a:lnTo>
                  <a:lnTo>
                    <a:pt x="182" y="23"/>
                  </a:lnTo>
                  <a:lnTo>
                    <a:pt x="195" y="17"/>
                  </a:lnTo>
                  <a:lnTo>
                    <a:pt x="209" y="12"/>
                  </a:lnTo>
                  <a:lnTo>
                    <a:pt x="224" y="9"/>
                  </a:lnTo>
                  <a:lnTo>
                    <a:pt x="238" y="5"/>
                  </a:lnTo>
                  <a:lnTo>
                    <a:pt x="253" y="3"/>
                  </a:lnTo>
                  <a:lnTo>
                    <a:pt x="266" y="1"/>
                  </a:lnTo>
                  <a:lnTo>
                    <a:pt x="281" y="0"/>
                  </a:lnTo>
                  <a:lnTo>
                    <a:pt x="295" y="0"/>
                  </a:lnTo>
                  <a:lnTo>
                    <a:pt x="310" y="0"/>
                  </a:lnTo>
                  <a:lnTo>
                    <a:pt x="324" y="1"/>
                  </a:lnTo>
                  <a:lnTo>
                    <a:pt x="339" y="3"/>
                  </a:lnTo>
                  <a:lnTo>
                    <a:pt x="353" y="5"/>
                  </a:lnTo>
                  <a:lnTo>
                    <a:pt x="367" y="9"/>
                  </a:lnTo>
                  <a:lnTo>
                    <a:pt x="381" y="12"/>
                  </a:lnTo>
                  <a:lnTo>
                    <a:pt x="394" y="17"/>
                  </a:lnTo>
                  <a:lnTo>
                    <a:pt x="408" y="22"/>
                  </a:lnTo>
                  <a:lnTo>
                    <a:pt x="422" y="27"/>
                  </a:lnTo>
                  <a:lnTo>
                    <a:pt x="434" y="34"/>
                  </a:lnTo>
                  <a:lnTo>
                    <a:pt x="447" y="41"/>
                  </a:lnTo>
                  <a:lnTo>
                    <a:pt x="460" y="49"/>
                  </a:lnTo>
                  <a:lnTo>
                    <a:pt x="506" y="87"/>
                  </a:lnTo>
                  <a:lnTo>
                    <a:pt x="543" y="133"/>
                  </a:lnTo>
                  <a:lnTo>
                    <a:pt x="569" y="184"/>
                  </a:lnTo>
                  <a:lnTo>
                    <a:pt x="586" y="238"/>
                  </a:lnTo>
                  <a:lnTo>
                    <a:pt x="592" y="295"/>
                  </a:lnTo>
                  <a:lnTo>
                    <a:pt x="586" y="352"/>
                  </a:lnTo>
                  <a:lnTo>
                    <a:pt x="570" y="408"/>
                  </a:lnTo>
                  <a:lnTo>
                    <a:pt x="543" y="461"/>
                  </a:lnTo>
                  <a:lnTo>
                    <a:pt x="535" y="472"/>
                  </a:lnTo>
                  <a:lnTo>
                    <a:pt x="525" y="485"/>
                  </a:lnTo>
                  <a:lnTo>
                    <a:pt x="516" y="495"/>
                  </a:lnTo>
                  <a:lnTo>
                    <a:pt x="506" y="506"/>
                  </a:lnTo>
                  <a:lnTo>
                    <a:pt x="495" y="516"/>
                  </a:lnTo>
                  <a:lnTo>
                    <a:pt x="484" y="525"/>
                  </a:lnTo>
                  <a:lnTo>
                    <a:pt x="472" y="534"/>
                  </a:lnTo>
                  <a:lnTo>
                    <a:pt x="461" y="542"/>
                  </a:lnTo>
                  <a:lnTo>
                    <a:pt x="449" y="550"/>
                  </a:lnTo>
                  <a:lnTo>
                    <a:pt x="437" y="557"/>
                  </a:lnTo>
                  <a:lnTo>
                    <a:pt x="424" y="564"/>
                  </a:lnTo>
                  <a:lnTo>
                    <a:pt x="410" y="570"/>
                  </a:lnTo>
                  <a:lnTo>
                    <a:pt x="396" y="576"/>
                  </a:lnTo>
                  <a:lnTo>
                    <a:pt x="383" y="580"/>
                  </a:lnTo>
                  <a:lnTo>
                    <a:pt x="369" y="584"/>
                  </a:lnTo>
                  <a:lnTo>
                    <a:pt x="354" y="587"/>
                  </a:lnTo>
                  <a:lnTo>
                    <a:pt x="339" y="590"/>
                  </a:lnTo>
                  <a:lnTo>
                    <a:pt x="325" y="592"/>
                  </a:lnTo>
                  <a:lnTo>
                    <a:pt x="310" y="593"/>
                  </a:lnTo>
                  <a:lnTo>
                    <a:pt x="296" y="593"/>
                  </a:lnTo>
                  <a:lnTo>
                    <a:pt x="281" y="593"/>
                  </a:lnTo>
                  <a:lnTo>
                    <a:pt x="267" y="592"/>
                  </a:lnTo>
                  <a:lnTo>
                    <a:pt x="253" y="590"/>
                  </a:lnTo>
                  <a:lnTo>
                    <a:pt x="239" y="587"/>
                  </a:lnTo>
                  <a:lnTo>
                    <a:pt x="225" y="584"/>
                  </a:lnTo>
                  <a:lnTo>
                    <a:pt x="211" y="580"/>
                  </a:lnTo>
                  <a:lnTo>
                    <a:pt x="197" y="576"/>
                  </a:lnTo>
                  <a:lnTo>
                    <a:pt x="183" y="571"/>
                  </a:lnTo>
                  <a:lnTo>
                    <a:pt x="171" y="565"/>
                  </a:lnTo>
                  <a:lnTo>
                    <a:pt x="158" y="559"/>
                  </a:lnTo>
                  <a:lnTo>
                    <a:pt x="145" y="552"/>
                  </a:lnTo>
                  <a:lnTo>
                    <a:pt x="133" y="544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83000" y="4341960"/>
              <a:ext cx="388800" cy="299160"/>
            </a:xfrm>
            <a:custGeom>
              <a:avLst/>
              <a:gdLst/>
              <a:ahLst/>
              <a:rect l="l" t="t" r="r" b="b"/>
              <a:pathLst>
                <a:path w="1395" h="1396">
                  <a:moveTo>
                    <a:pt x="798" y="1241"/>
                  </a:moveTo>
                  <a:lnTo>
                    <a:pt x="779" y="1391"/>
                  </a:lnTo>
                  <a:lnTo>
                    <a:pt x="772" y="1392"/>
                  </a:lnTo>
                  <a:lnTo>
                    <a:pt x="766" y="1392"/>
                  </a:lnTo>
                  <a:lnTo>
                    <a:pt x="759" y="1393"/>
                  </a:lnTo>
                  <a:lnTo>
                    <a:pt x="753" y="1393"/>
                  </a:lnTo>
                  <a:lnTo>
                    <a:pt x="748" y="1395"/>
                  </a:lnTo>
                  <a:lnTo>
                    <a:pt x="741" y="1395"/>
                  </a:lnTo>
                  <a:lnTo>
                    <a:pt x="735" y="1396"/>
                  </a:lnTo>
                  <a:lnTo>
                    <a:pt x="728" y="1396"/>
                  </a:lnTo>
                  <a:lnTo>
                    <a:pt x="690" y="1250"/>
                  </a:lnTo>
                  <a:lnTo>
                    <a:pt x="675" y="1249"/>
                  </a:lnTo>
                  <a:lnTo>
                    <a:pt x="665" y="1249"/>
                  </a:lnTo>
                  <a:lnTo>
                    <a:pt x="654" y="1248"/>
                  </a:lnTo>
                  <a:lnTo>
                    <a:pt x="644" y="1248"/>
                  </a:lnTo>
                  <a:lnTo>
                    <a:pt x="635" y="1247"/>
                  </a:lnTo>
                  <a:lnTo>
                    <a:pt x="624" y="1246"/>
                  </a:lnTo>
                  <a:lnTo>
                    <a:pt x="614" y="1244"/>
                  </a:lnTo>
                  <a:lnTo>
                    <a:pt x="604" y="1242"/>
                  </a:lnTo>
                  <a:lnTo>
                    <a:pt x="593" y="1240"/>
                  </a:lnTo>
                  <a:lnTo>
                    <a:pt x="580" y="1238"/>
                  </a:lnTo>
                  <a:lnTo>
                    <a:pt x="506" y="1369"/>
                  </a:lnTo>
                  <a:lnTo>
                    <a:pt x="498" y="1367"/>
                  </a:lnTo>
                  <a:lnTo>
                    <a:pt x="490" y="1363"/>
                  </a:lnTo>
                  <a:lnTo>
                    <a:pt x="482" y="1361"/>
                  </a:lnTo>
                  <a:lnTo>
                    <a:pt x="474" y="1359"/>
                  </a:lnTo>
                  <a:lnTo>
                    <a:pt x="470" y="1358"/>
                  </a:lnTo>
                  <a:lnTo>
                    <a:pt x="467" y="1356"/>
                  </a:lnTo>
                  <a:lnTo>
                    <a:pt x="463" y="1355"/>
                  </a:lnTo>
                  <a:lnTo>
                    <a:pt x="459" y="1354"/>
                  </a:lnTo>
                  <a:lnTo>
                    <a:pt x="479" y="1206"/>
                  </a:lnTo>
                  <a:lnTo>
                    <a:pt x="466" y="1200"/>
                  </a:lnTo>
                  <a:lnTo>
                    <a:pt x="455" y="1195"/>
                  </a:lnTo>
                  <a:lnTo>
                    <a:pt x="446" y="1191"/>
                  </a:lnTo>
                  <a:lnTo>
                    <a:pt x="437" y="1186"/>
                  </a:lnTo>
                  <a:lnTo>
                    <a:pt x="426" y="1180"/>
                  </a:lnTo>
                  <a:lnTo>
                    <a:pt x="417" y="1174"/>
                  </a:lnTo>
                  <a:lnTo>
                    <a:pt x="408" y="1170"/>
                  </a:lnTo>
                  <a:lnTo>
                    <a:pt x="399" y="1164"/>
                  </a:lnTo>
                  <a:lnTo>
                    <a:pt x="390" y="1158"/>
                  </a:lnTo>
                  <a:lnTo>
                    <a:pt x="378" y="1150"/>
                  </a:lnTo>
                  <a:lnTo>
                    <a:pt x="261" y="1241"/>
                  </a:lnTo>
                  <a:lnTo>
                    <a:pt x="256" y="1238"/>
                  </a:lnTo>
                  <a:lnTo>
                    <a:pt x="251" y="1233"/>
                  </a:lnTo>
                  <a:lnTo>
                    <a:pt x="247" y="1230"/>
                  </a:lnTo>
                  <a:lnTo>
                    <a:pt x="242" y="1225"/>
                  </a:lnTo>
                  <a:lnTo>
                    <a:pt x="238" y="1222"/>
                  </a:lnTo>
                  <a:lnTo>
                    <a:pt x="233" y="1218"/>
                  </a:lnTo>
                  <a:lnTo>
                    <a:pt x="228" y="1214"/>
                  </a:lnTo>
                  <a:lnTo>
                    <a:pt x="224" y="1210"/>
                  </a:lnTo>
                  <a:lnTo>
                    <a:pt x="299" y="1082"/>
                  </a:lnTo>
                  <a:lnTo>
                    <a:pt x="288" y="1072"/>
                  </a:lnTo>
                  <a:lnTo>
                    <a:pt x="281" y="1064"/>
                  </a:lnTo>
                  <a:lnTo>
                    <a:pt x="273" y="1056"/>
                  </a:lnTo>
                  <a:lnTo>
                    <a:pt x="266" y="1047"/>
                  </a:lnTo>
                  <a:lnTo>
                    <a:pt x="259" y="1038"/>
                  </a:lnTo>
                  <a:lnTo>
                    <a:pt x="253" y="1029"/>
                  </a:lnTo>
                  <a:lnTo>
                    <a:pt x="246" y="1020"/>
                  </a:lnTo>
                  <a:lnTo>
                    <a:pt x="240" y="1011"/>
                  </a:lnTo>
                  <a:lnTo>
                    <a:pt x="233" y="1002"/>
                  </a:lnTo>
                  <a:lnTo>
                    <a:pt x="225" y="990"/>
                  </a:lnTo>
                  <a:lnTo>
                    <a:pt x="84" y="1028"/>
                  </a:lnTo>
                  <a:lnTo>
                    <a:pt x="79" y="1018"/>
                  </a:lnTo>
                  <a:lnTo>
                    <a:pt x="73" y="1007"/>
                  </a:lnTo>
                  <a:lnTo>
                    <a:pt x="68" y="997"/>
                  </a:lnTo>
                  <a:lnTo>
                    <a:pt x="63" y="985"/>
                  </a:lnTo>
                  <a:lnTo>
                    <a:pt x="179" y="898"/>
                  </a:lnTo>
                  <a:lnTo>
                    <a:pt x="173" y="884"/>
                  </a:lnTo>
                  <a:lnTo>
                    <a:pt x="166" y="862"/>
                  </a:lnTo>
                  <a:lnTo>
                    <a:pt x="159" y="840"/>
                  </a:lnTo>
                  <a:lnTo>
                    <a:pt x="153" y="817"/>
                  </a:lnTo>
                  <a:lnTo>
                    <a:pt x="149" y="795"/>
                  </a:lnTo>
                  <a:lnTo>
                    <a:pt x="147" y="781"/>
                  </a:lnTo>
                  <a:lnTo>
                    <a:pt x="4" y="764"/>
                  </a:lnTo>
                  <a:lnTo>
                    <a:pt x="3" y="752"/>
                  </a:lnTo>
                  <a:lnTo>
                    <a:pt x="1" y="740"/>
                  </a:lnTo>
                  <a:lnTo>
                    <a:pt x="1" y="727"/>
                  </a:lnTo>
                  <a:lnTo>
                    <a:pt x="0" y="716"/>
                  </a:lnTo>
                  <a:lnTo>
                    <a:pt x="139" y="679"/>
                  </a:lnTo>
                  <a:lnTo>
                    <a:pt x="140" y="665"/>
                  </a:lnTo>
                  <a:lnTo>
                    <a:pt x="141" y="642"/>
                  </a:lnTo>
                  <a:lnTo>
                    <a:pt x="144" y="619"/>
                  </a:lnTo>
                  <a:lnTo>
                    <a:pt x="147" y="596"/>
                  </a:lnTo>
                  <a:lnTo>
                    <a:pt x="151" y="573"/>
                  </a:lnTo>
                  <a:lnTo>
                    <a:pt x="155" y="559"/>
                  </a:lnTo>
                  <a:lnTo>
                    <a:pt x="33" y="489"/>
                  </a:lnTo>
                  <a:lnTo>
                    <a:pt x="34" y="484"/>
                  </a:lnTo>
                  <a:lnTo>
                    <a:pt x="35" y="481"/>
                  </a:lnTo>
                  <a:lnTo>
                    <a:pt x="36" y="477"/>
                  </a:lnTo>
                  <a:lnTo>
                    <a:pt x="37" y="473"/>
                  </a:lnTo>
                  <a:lnTo>
                    <a:pt x="39" y="466"/>
                  </a:lnTo>
                  <a:lnTo>
                    <a:pt x="43" y="458"/>
                  </a:lnTo>
                  <a:lnTo>
                    <a:pt x="45" y="451"/>
                  </a:lnTo>
                  <a:lnTo>
                    <a:pt x="49" y="443"/>
                  </a:lnTo>
                  <a:lnTo>
                    <a:pt x="188" y="462"/>
                  </a:lnTo>
                  <a:lnTo>
                    <a:pt x="194" y="450"/>
                  </a:lnTo>
                  <a:lnTo>
                    <a:pt x="200" y="439"/>
                  </a:lnTo>
                  <a:lnTo>
                    <a:pt x="204" y="429"/>
                  </a:lnTo>
                  <a:lnTo>
                    <a:pt x="210" y="418"/>
                  </a:lnTo>
                  <a:lnTo>
                    <a:pt x="216" y="408"/>
                  </a:lnTo>
                  <a:lnTo>
                    <a:pt x="221" y="399"/>
                  </a:lnTo>
                  <a:lnTo>
                    <a:pt x="228" y="389"/>
                  </a:lnTo>
                  <a:lnTo>
                    <a:pt x="234" y="379"/>
                  </a:lnTo>
                  <a:lnTo>
                    <a:pt x="241" y="370"/>
                  </a:lnTo>
                  <a:lnTo>
                    <a:pt x="249" y="357"/>
                  </a:lnTo>
                  <a:lnTo>
                    <a:pt x="164" y="249"/>
                  </a:lnTo>
                  <a:lnTo>
                    <a:pt x="167" y="244"/>
                  </a:lnTo>
                  <a:lnTo>
                    <a:pt x="172" y="240"/>
                  </a:lnTo>
                  <a:lnTo>
                    <a:pt x="177" y="235"/>
                  </a:lnTo>
                  <a:lnTo>
                    <a:pt x="180" y="231"/>
                  </a:lnTo>
                  <a:lnTo>
                    <a:pt x="185" y="226"/>
                  </a:lnTo>
                  <a:lnTo>
                    <a:pt x="189" y="221"/>
                  </a:lnTo>
                  <a:lnTo>
                    <a:pt x="194" y="217"/>
                  </a:lnTo>
                  <a:lnTo>
                    <a:pt x="198" y="212"/>
                  </a:lnTo>
                  <a:lnTo>
                    <a:pt x="318" y="281"/>
                  </a:lnTo>
                  <a:lnTo>
                    <a:pt x="329" y="272"/>
                  </a:lnTo>
                  <a:lnTo>
                    <a:pt x="338" y="264"/>
                  </a:lnTo>
                  <a:lnTo>
                    <a:pt x="346" y="257"/>
                  </a:lnTo>
                  <a:lnTo>
                    <a:pt x="355" y="250"/>
                  </a:lnTo>
                  <a:lnTo>
                    <a:pt x="364" y="243"/>
                  </a:lnTo>
                  <a:lnTo>
                    <a:pt x="373" y="238"/>
                  </a:lnTo>
                  <a:lnTo>
                    <a:pt x="383" y="232"/>
                  </a:lnTo>
                  <a:lnTo>
                    <a:pt x="392" y="225"/>
                  </a:lnTo>
                  <a:lnTo>
                    <a:pt x="401" y="219"/>
                  </a:lnTo>
                  <a:lnTo>
                    <a:pt x="414" y="211"/>
                  </a:lnTo>
                  <a:lnTo>
                    <a:pt x="377" y="79"/>
                  </a:lnTo>
                  <a:lnTo>
                    <a:pt x="383" y="76"/>
                  </a:lnTo>
                  <a:lnTo>
                    <a:pt x="388" y="73"/>
                  </a:lnTo>
                  <a:lnTo>
                    <a:pt x="394" y="70"/>
                  </a:lnTo>
                  <a:lnTo>
                    <a:pt x="400" y="67"/>
                  </a:lnTo>
                  <a:lnTo>
                    <a:pt x="406" y="65"/>
                  </a:lnTo>
                  <a:lnTo>
                    <a:pt x="413" y="62"/>
                  </a:lnTo>
                  <a:lnTo>
                    <a:pt x="418" y="59"/>
                  </a:lnTo>
                  <a:lnTo>
                    <a:pt x="424" y="57"/>
                  </a:lnTo>
                  <a:lnTo>
                    <a:pt x="507" y="167"/>
                  </a:lnTo>
                  <a:lnTo>
                    <a:pt x="521" y="163"/>
                  </a:lnTo>
                  <a:lnTo>
                    <a:pt x="531" y="159"/>
                  </a:lnTo>
                  <a:lnTo>
                    <a:pt x="542" y="156"/>
                  </a:lnTo>
                  <a:lnTo>
                    <a:pt x="552" y="153"/>
                  </a:lnTo>
                  <a:lnTo>
                    <a:pt x="562" y="150"/>
                  </a:lnTo>
                  <a:lnTo>
                    <a:pt x="573" y="148"/>
                  </a:lnTo>
                  <a:lnTo>
                    <a:pt x="583" y="145"/>
                  </a:lnTo>
                  <a:lnTo>
                    <a:pt x="593" y="143"/>
                  </a:lnTo>
                  <a:lnTo>
                    <a:pt x="604" y="141"/>
                  </a:lnTo>
                  <a:lnTo>
                    <a:pt x="619" y="138"/>
                  </a:lnTo>
                  <a:lnTo>
                    <a:pt x="636" y="4"/>
                  </a:lnTo>
                  <a:lnTo>
                    <a:pt x="643" y="2"/>
                  </a:lnTo>
                  <a:lnTo>
                    <a:pt x="649" y="2"/>
                  </a:lnTo>
                  <a:lnTo>
                    <a:pt x="656" y="1"/>
                  </a:lnTo>
                  <a:lnTo>
                    <a:pt x="662" y="1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83" y="0"/>
                  </a:lnTo>
                  <a:lnTo>
                    <a:pt x="690" y="0"/>
                  </a:lnTo>
                  <a:lnTo>
                    <a:pt x="725" y="134"/>
                  </a:lnTo>
                  <a:lnTo>
                    <a:pt x="738" y="135"/>
                  </a:lnTo>
                  <a:lnTo>
                    <a:pt x="749" y="136"/>
                  </a:lnTo>
                  <a:lnTo>
                    <a:pt x="759" y="137"/>
                  </a:lnTo>
                  <a:lnTo>
                    <a:pt x="770" y="138"/>
                  </a:lnTo>
                  <a:lnTo>
                    <a:pt x="780" y="140"/>
                  </a:lnTo>
                  <a:lnTo>
                    <a:pt x="790" y="142"/>
                  </a:lnTo>
                  <a:lnTo>
                    <a:pt x="801" y="143"/>
                  </a:lnTo>
                  <a:lnTo>
                    <a:pt x="811" y="145"/>
                  </a:lnTo>
                  <a:lnTo>
                    <a:pt x="821" y="148"/>
                  </a:lnTo>
                  <a:lnTo>
                    <a:pt x="836" y="151"/>
                  </a:lnTo>
                  <a:lnTo>
                    <a:pt x="904" y="31"/>
                  </a:lnTo>
                  <a:lnTo>
                    <a:pt x="911" y="34"/>
                  </a:lnTo>
                  <a:lnTo>
                    <a:pt x="917" y="36"/>
                  </a:lnTo>
                  <a:lnTo>
                    <a:pt x="923" y="38"/>
                  </a:lnTo>
                  <a:lnTo>
                    <a:pt x="930" y="41"/>
                  </a:lnTo>
                  <a:lnTo>
                    <a:pt x="935" y="43"/>
                  </a:lnTo>
                  <a:lnTo>
                    <a:pt x="942" y="45"/>
                  </a:lnTo>
                  <a:lnTo>
                    <a:pt x="949" y="47"/>
                  </a:lnTo>
                  <a:lnTo>
                    <a:pt x="956" y="50"/>
                  </a:lnTo>
                  <a:lnTo>
                    <a:pt x="937" y="188"/>
                  </a:lnTo>
                  <a:lnTo>
                    <a:pt x="949" y="195"/>
                  </a:lnTo>
                  <a:lnTo>
                    <a:pt x="958" y="200"/>
                  </a:lnTo>
                  <a:lnTo>
                    <a:pt x="968" y="204"/>
                  </a:lnTo>
                  <a:lnTo>
                    <a:pt x="976" y="209"/>
                  </a:lnTo>
                  <a:lnTo>
                    <a:pt x="985" y="213"/>
                  </a:lnTo>
                  <a:lnTo>
                    <a:pt x="993" y="219"/>
                  </a:lnTo>
                  <a:lnTo>
                    <a:pt x="1002" y="224"/>
                  </a:lnTo>
                  <a:lnTo>
                    <a:pt x="1010" y="229"/>
                  </a:lnTo>
                  <a:lnTo>
                    <a:pt x="1018" y="235"/>
                  </a:lnTo>
                  <a:lnTo>
                    <a:pt x="1030" y="244"/>
                  </a:lnTo>
                  <a:lnTo>
                    <a:pt x="1140" y="159"/>
                  </a:lnTo>
                  <a:lnTo>
                    <a:pt x="1146" y="164"/>
                  </a:lnTo>
                  <a:lnTo>
                    <a:pt x="1151" y="168"/>
                  </a:lnTo>
                  <a:lnTo>
                    <a:pt x="1157" y="173"/>
                  </a:lnTo>
                  <a:lnTo>
                    <a:pt x="1161" y="178"/>
                  </a:lnTo>
                  <a:lnTo>
                    <a:pt x="1167" y="182"/>
                  </a:lnTo>
                  <a:lnTo>
                    <a:pt x="1171" y="187"/>
                  </a:lnTo>
                  <a:lnTo>
                    <a:pt x="1177" y="191"/>
                  </a:lnTo>
                  <a:lnTo>
                    <a:pt x="1182" y="196"/>
                  </a:lnTo>
                  <a:lnTo>
                    <a:pt x="1110" y="317"/>
                  </a:lnTo>
                  <a:lnTo>
                    <a:pt x="1120" y="327"/>
                  </a:lnTo>
                  <a:lnTo>
                    <a:pt x="1127" y="334"/>
                  </a:lnTo>
                  <a:lnTo>
                    <a:pt x="1132" y="342"/>
                  </a:lnTo>
                  <a:lnTo>
                    <a:pt x="1138" y="350"/>
                  </a:lnTo>
                  <a:lnTo>
                    <a:pt x="1144" y="357"/>
                  </a:lnTo>
                  <a:lnTo>
                    <a:pt x="1150" y="365"/>
                  </a:lnTo>
                  <a:lnTo>
                    <a:pt x="1155" y="374"/>
                  </a:lnTo>
                  <a:lnTo>
                    <a:pt x="1160" y="382"/>
                  </a:lnTo>
                  <a:lnTo>
                    <a:pt x="1166" y="390"/>
                  </a:lnTo>
                  <a:lnTo>
                    <a:pt x="1174" y="402"/>
                  </a:lnTo>
                  <a:lnTo>
                    <a:pt x="1310" y="364"/>
                  </a:lnTo>
                  <a:lnTo>
                    <a:pt x="1317" y="377"/>
                  </a:lnTo>
                  <a:lnTo>
                    <a:pt x="1323" y="390"/>
                  </a:lnTo>
                  <a:lnTo>
                    <a:pt x="1329" y="402"/>
                  </a:lnTo>
                  <a:lnTo>
                    <a:pt x="1335" y="416"/>
                  </a:lnTo>
                  <a:lnTo>
                    <a:pt x="1222" y="501"/>
                  </a:lnTo>
                  <a:lnTo>
                    <a:pt x="1227" y="515"/>
                  </a:lnTo>
                  <a:lnTo>
                    <a:pt x="1231" y="533"/>
                  </a:lnTo>
                  <a:lnTo>
                    <a:pt x="1237" y="551"/>
                  </a:lnTo>
                  <a:lnTo>
                    <a:pt x="1242" y="569"/>
                  </a:lnTo>
                  <a:lnTo>
                    <a:pt x="1245" y="588"/>
                  </a:lnTo>
                  <a:lnTo>
                    <a:pt x="1247" y="603"/>
                  </a:lnTo>
                  <a:lnTo>
                    <a:pt x="1390" y="620"/>
                  </a:lnTo>
                  <a:lnTo>
                    <a:pt x="1391" y="634"/>
                  </a:lnTo>
                  <a:lnTo>
                    <a:pt x="1393" y="648"/>
                  </a:lnTo>
                  <a:lnTo>
                    <a:pt x="1394" y="663"/>
                  </a:lnTo>
                  <a:lnTo>
                    <a:pt x="1395" y="677"/>
                  </a:lnTo>
                  <a:lnTo>
                    <a:pt x="1254" y="713"/>
                  </a:lnTo>
                  <a:lnTo>
                    <a:pt x="1253" y="727"/>
                  </a:lnTo>
                  <a:lnTo>
                    <a:pt x="1252" y="746"/>
                  </a:lnTo>
                  <a:lnTo>
                    <a:pt x="1250" y="764"/>
                  </a:lnTo>
                  <a:lnTo>
                    <a:pt x="1247" y="783"/>
                  </a:lnTo>
                  <a:lnTo>
                    <a:pt x="1244" y="801"/>
                  </a:lnTo>
                  <a:lnTo>
                    <a:pt x="1241" y="816"/>
                  </a:lnTo>
                  <a:lnTo>
                    <a:pt x="1368" y="889"/>
                  </a:lnTo>
                  <a:lnTo>
                    <a:pt x="1364" y="902"/>
                  </a:lnTo>
                  <a:lnTo>
                    <a:pt x="1360" y="916"/>
                  </a:lnTo>
                  <a:lnTo>
                    <a:pt x="1356" y="929"/>
                  </a:lnTo>
                  <a:lnTo>
                    <a:pt x="1351" y="942"/>
                  </a:lnTo>
                  <a:lnTo>
                    <a:pt x="1205" y="921"/>
                  </a:lnTo>
                  <a:lnTo>
                    <a:pt x="1199" y="935"/>
                  </a:lnTo>
                  <a:lnTo>
                    <a:pt x="1195" y="943"/>
                  </a:lnTo>
                  <a:lnTo>
                    <a:pt x="1190" y="952"/>
                  </a:lnTo>
                  <a:lnTo>
                    <a:pt x="1186" y="960"/>
                  </a:lnTo>
                  <a:lnTo>
                    <a:pt x="1182" y="968"/>
                  </a:lnTo>
                  <a:lnTo>
                    <a:pt x="1177" y="976"/>
                  </a:lnTo>
                  <a:lnTo>
                    <a:pt x="1173" y="984"/>
                  </a:lnTo>
                  <a:lnTo>
                    <a:pt x="1167" y="992"/>
                  </a:lnTo>
                  <a:lnTo>
                    <a:pt x="1162" y="999"/>
                  </a:lnTo>
                  <a:lnTo>
                    <a:pt x="1154" y="1012"/>
                  </a:lnTo>
                  <a:lnTo>
                    <a:pt x="1246" y="1129"/>
                  </a:lnTo>
                  <a:lnTo>
                    <a:pt x="1242" y="1134"/>
                  </a:lnTo>
                  <a:lnTo>
                    <a:pt x="1237" y="1140"/>
                  </a:lnTo>
                  <a:lnTo>
                    <a:pt x="1233" y="1144"/>
                  </a:lnTo>
                  <a:lnTo>
                    <a:pt x="1229" y="1150"/>
                  </a:lnTo>
                  <a:lnTo>
                    <a:pt x="1224" y="1155"/>
                  </a:lnTo>
                  <a:lnTo>
                    <a:pt x="1220" y="1161"/>
                  </a:lnTo>
                  <a:lnTo>
                    <a:pt x="1215" y="1165"/>
                  </a:lnTo>
                  <a:lnTo>
                    <a:pt x="1211" y="1171"/>
                  </a:lnTo>
                  <a:lnTo>
                    <a:pt x="1083" y="1095"/>
                  </a:lnTo>
                  <a:lnTo>
                    <a:pt x="1071" y="1105"/>
                  </a:lnTo>
                  <a:lnTo>
                    <a:pt x="1064" y="1112"/>
                  </a:lnTo>
                  <a:lnTo>
                    <a:pt x="1056" y="1118"/>
                  </a:lnTo>
                  <a:lnTo>
                    <a:pt x="1049" y="1124"/>
                  </a:lnTo>
                  <a:lnTo>
                    <a:pt x="1041" y="1131"/>
                  </a:lnTo>
                  <a:lnTo>
                    <a:pt x="1034" y="1136"/>
                  </a:lnTo>
                  <a:lnTo>
                    <a:pt x="1026" y="1142"/>
                  </a:lnTo>
                  <a:lnTo>
                    <a:pt x="1019" y="1147"/>
                  </a:lnTo>
                  <a:lnTo>
                    <a:pt x="1011" y="1153"/>
                  </a:lnTo>
                  <a:lnTo>
                    <a:pt x="1000" y="1161"/>
                  </a:lnTo>
                  <a:lnTo>
                    <a:pt x="1039" y="1306"/>
                  </a:lnTo>
                  <a:lnTo>
                    <a:pt x="1033" y="1309"/>
                  </a:lnTo>
                  <a:lnTo>
                    <a:pt x="1028" y="1313"/>
                  </a:lnTo>
                  <a:lnTo>
                    <a:pt x="1022" y="1316"/>
                  </a:lnTo>
                  <a:lnTo>
                    <a:pt x="1016" y="1318"/>
                  </a:lnTo>
                  <a:lnTo>
                    <a:pt x="1010" y="1322"/>
                  </a:lnTo>
                  <a:lnTo>
                    <a:pt x="1003" y="1324"/>
                  </a:lnTo>
                  <a:lnTo>
                    <a:pt x="998" y="1328"/>
                  </a:lnTo>
                  <a:lnTo>
                    <a:pt x="992" y="1330"/>
                  </a:lnTo>
                  <a:lnTo>
                    <a:pt x="902" y="1211"/>
                  </a:lnTo>
                  <a:lnTo>
                    <a:pt x="888" y="1216"/>
                  </a:lnTo>
                  <a:lnTo>
                    <a:pt x="879" y="1219"/>
                  </a:lnTo>
                  <a:lnTo>
                    <a:pt x="870" y="1223"/>
                  </a:lnTo>
                  <a:lnTo>
                    <a:pt x="859" y="1225"/>
                  </a:lnTo>
                  <a:lnTo>
                    <a:pt x="850" y="1229"/>
                  </a:lnTo>
                  <a:lnTo>
                    <a:pt x="841" y="1231"/>
                  </a:lnTo>
                  <a:lnTo>
                    <a:pt x="832" y="1233"/>
                  </a:lnTo>
                  <a:lnTo>
                    <a:pt x="821" y="1235"/>
                  </a:lnTo>
                  <a:lnTo>
                    <a:pt x="812" y="1238"/>
                  </a:lnTo>
                  <a:lnTo>
                    <a:pt x="798" y="124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94600" y="4429080"/>
              <a:ext cx="165240" cy="126360"/>
            </a:xfrm>
            <a:custGeom>
              <a:avLst/>
              <a:gdLst/>
              <a:ahLst/>
              <a:rect l="l" t="t" r="r" b="b"/>
              <a:pathLst>
                <a:path w="592" h="593">
                  <a:moveTo>
                    <a:pt x="133" y="544"/>
                  </a:moveTo>
                  <a:lnTo>
                    <a:pt x="87" y="506"/>
                  </a:lnTo>
                  <a:lnTo>
                    <a:pt x="50" y="459"/>
                  </a:lnTo>
                  <a:lnTo>
                    <a:pt x="23" y="409"/>
                  </a:lnTo>
                  <a:lnTo>
                    <a:pt x="7" y="355"/>
                  </a:lnTo>
                  <a:lnTo>
                    <a:pt x="0" y="298"/>
                  </a:lnTo>
                  <a:lnTo>
                    <a:pt x="6" y="240"/>
                  </a:lnTo>
                  <a:lnTo>
                    <a:pt x="22" y="185"/>
                  </a:lnTo>
                  <a:lnTo>
                    <a:pt x="50" y="132"/>
                  </a:lnTo>
                  <a:lnTo>
                    <a:pt x="59" y="121"/>
                  </a:lnTo>
                  <a:lnTo>
                    <a:pt x="67" y="108"/>
                  </a:lnTo>
                  <a:lnTo>
                    <a:pt x="77" y="98"/>
                  </a:lnTo>
                  <a:lnTo>
                    <a:pt x="88" y="87"/>
                  </a:lnTo>
                  <a:lnTo>
                    <a:pt x="98" y="77"/>
                  </a:lnTo>
                  <a:lnTo>
                    <a:pt x="109" y="68"/>
                  </a:lnTo>
                  <a:lnTo>
                    <a:pt x="120" y="58"/>
                  </a:lnTo>
                  <a:lnTo>
                    <a:pt x="132" y="50"/>
                  </a:lnTo>
                  <a:lnTo>
                    <a:pt x="143" y="42"/>
                  </a:lnTo>
                  <a:lnTo>
                    <a:pt x="156" y="35"/>
                  </a:lnTo>
                  <a:lnTo>
                    <a:pt x="168" y="28"/>
                  </a:lnTo>
                  <a:lnTo>
                    <a:pt x="182" y="23"/>
                  </a:lnTo>
                  <a:lnTo>
                    <a:pt x="195" y="17"/>
                  </a:lnTo>
                  <a:lnTo>
                    <a:pt x="209" y="12"/>
                  </a:lnTo>
                  <a:lnTo>
                    <a:pt x="224" y="9"/>
                  </a:lnTo>
                  <a:lnTo>
                    <a:pt x="238" y="5"/>
                  </a:lnTo>
                  <a:lnTo>
                    <a:pt x="253" y="3"/>
                  </a:lnTo>
                  <a:lnTo>
                    <a:pt x="266" y="1"/>
                  </a:lnTo>
                  <a:lnTo>
                    <a:pt x="281" y="0"/>
                  </a:lnTo>
                  <a:lnTo>
                    <a:pt x="295" y="0"/>
                  </a:lnTo>
                  <a:lnTo>
                    <a:pt x="310" y="0"/>
                  </a:lnTo>
                  <a:lnTo>
                    <a:pt x="324" y="1"/>
                  </a:lnTo>
                  <a:lnTo>
                    <a:pt x="339" y="3"/>
                  </a:lnTo>
                  <a:lnTo>
                    <a:pt x="353" y="5"/>
                  </a:lnTo>
                  <a:lnTo>
                    <a:pt x="367" y="9"/>
                  </a:lnTo>
                  <a:lnTo>
                    <a:pt x="381" y="12"/>
                  </a:lnTo>
                  <a:lnTo>
                    <a:pt x="394" y="17"/>
                  </a:lnTo>
                  <a:lnTo>
                    <a:pt x="408" y="22"/>
                  </a:lnTo>
                  <a:lnTo>
                    <a:pt x="422" y="27"/>
                  </a:lnTo>
                  <a:lnTo>
                    <a:pt x="434" y="34"/>
                  </a:lnTo>
                  <a:lnTo>
                    <a:pt x="447" y="41"/>
                  </a:lnTo>
                  <a:lnTo>
                    <a:pt x="460" y="49"/>
                  </a:lnTo>
                  <a:lnTo>
                    <a:pt x="506" y="87"/>
                  </a:lnTo>
                  <a:lnTo>
                    <a:pt x="543" y="133"/>
                  </a:lnTo>
                  <a:lnTo>
                    <a:pt x="569" y="184"/>
                  </a:lnTo>
                  <a:lnTo>
                    <a:pt x="586" y="238"/>
                  </a:lnTo>
                  <a:lnTo>
                    <a:pt x="592" y="295"/>
                  </a:lnTo>
                  <a:lnTo>
                    <a:pt x="586" y="352"/>
                  </a:lnTo>
                  <a:lnTo>
                    <a:pt x="570" y="408"/>
                  </a:lnTo>
                  <a:lnTo>
                    <a:pt x="543" y="461"/>
                  </a:lnTo>
                  <a:lnTo>
                    <a:pt x="535" y="472"/>
                  </a:lnTo>
                  <a:lnTo>
                    <a:pt x="525" y="485"/>
                  </a:lnTo>
                  <a:lnTo>
                    <a:pt x="516" y="495"/>
                  </a:lnTo>
                  <a:lnTo>
                    <a:pt x="506" y="506"/>
                  </a:lnTo>
                  <a:lnTo>
                    <a:pt x="495" y="516"/>
                  </a:lnTo>
                  <a:lnTo>
                    <a:pt x="484" y="525"/>
                  </a:lnTo>
                  <a:lnTo>
                    <a:pt x="472" y="534"/>
                  </a:lnTo>
                  <a:lnTo>
                    <a:pt x="461" y="542"/>
                  </a:lnTo>
                  <a:lnTo>
                    <a:pt x="449" y="550"/>
                  </a:lnTo>
                  <a:lnTo>
                    <a:pt x="437" y="557"/>
                  </a:lnTo>
                  <a:lnTo>
                    <a:pt x="424" y="564"/>
                  </a:lnTo>
                  <a:lnTo>
                    <a:pt x="410" y="570"/>
                  </a:lnTo>
                  <a:lnTo>
                    <a:pt x="396" y="576"/>
                  </a:lnTo>
                  <a:lnTo>
                    <a:pt x="383" y="580"/>
                  </a:lnTo>
                  <a:lnTo>
                    <a:pt x="369" y="584"/>
                  </a:lnTo>
                  <a:lnTo>
                    <a:pt x="354" y="587"/>
                  </a:lnTo>
                  <a:lnTo>
                    <a:pt x="339" y="590"/>
                  </a:lnTo>
                  <a:lnTo>
                    <a:pt x="325" y="592"/>
                  </a:lnTo>
                  <a:lnTo>
                    <a:pt x="310" y="593"/>
                  </a:lnTo>
                  <a:lnTo>
                    <a:pt x="296" y="593"/>
                  </a:lnTo>
                  <a:lnTo>
                    <a:pt x="281" y="593"/>
                  </a:lnTo>
                  <a:lnTo>
                    <a:pt x="267" y="592"/>
                  </a:lnTo>
                  <a:lnTo>
                    <a:pt x="253" y="590"/>
                  </a:lnTo>
                  <a:lnTo>
                    <a:pt x="239" y="587"/>
                  </a:lnTo>
                  <a:lnTo>
                    <a:pt x="225" y="584"/>
                  </a:lnTo>
                  <a:lnTo>
                    <a:pt x="211" y="580"/>
                  </a:lnTo>
                  <a:lnTo>
                    <a:pt x="197" y="576"/>
                  </a:lnTo>
                  <a:lnTo>
                    <a:pt x="183" y="571"/>
                  </a:lnTo>
                  <a:lnTo>
                    <a:pt x="171" y="565"/>
                  </a:lnTo>
                  <a:lnTo>
                    <a:pt x="158" y="559"/>
                  </a:lnTo>
                  <a:lnTo>
                    <a:pt x="145" y="552"/>
                  </a:lnTo>
                  <a:lnTo>
                    <a:pt x="133" y="544"/>
                  </a:lnTo>
                  <a:close/>
                </a:path>
              </a:pathLst>
            </a:custGeom>
            <a:solidFill>
              <a:srgbClr val="77777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21400" y="4478040"/>
              <a:ext cx="71028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054320" y="2587680"/>
            <a:ext cx="8035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ind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57680" y="4071960"/>
            <a:ext cx="1131840" cy="1949400"/>
          </a:xfrm>
          <a:prstGeom prst="rect">
            <a:avLst/>
          </a:prstGeom>
          <a:solidFill>
            <a:srgbClr val="9933ff">
              <a:alpha val="23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48000" y="5018040"/>
            <a:ext cx="6271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ks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1080" y="21337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28760" y="21337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66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86320" y="207648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Offerors,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14200" y="2514600"/>
            <a:ext cx="1508400" cy="3701880"/>
          </a:xfrm>
          <a:prstGeom prst="rect">
            <a:avLst/>
          </a:prstGeom>
          <a:solidFill>
            <a:srgbClr val="00cc99">
              <a:alpha val="24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39920" y="2511360"/>
            <a:ext cx="1622520" cy="3687840"/>
          </a:xfrm>
          <a:prstGeom prst="rect">
            <a:avLst/>
          </a:prstGeom>
          <a:solidFill>
            <a:srgbClr val="ffcc99">
              <a:alpha val="32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08640" y="2522520"/>
            <a:ext cx="4303440" cy="3662280"/>
          </a:xfrm>
          <a:prstGeom prst="rect">
            <a:avLst/>
          </a:prstGeom>
          <a:solidFill>
            <a:srgbClr val="ffffc2">
              <a:alpha val="43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98600" y="2984400"/>
            <a:ext cx="108432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01920" y="2905200"/>
            <a:ext cx="108432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38280" y="966600"/>
            <a:ext cx="606096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GEOSS Architecture</a:t>
            </a:r>
            <a:br>
              <a:rPr sz="1800"/>
            </a:b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 for the Air Quality Community (March 2008)</a:t>
            </a:r>
            <a:endParaRPr b="1" lang="en-US" sz="1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360360" y="4253040"/>
            <a:ext cx="1095480" cy="453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SS Co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87680" y="2840040"/>
            <a:ext cx="108432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Q 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81120" y="2786040"/>
            <a:ext cx="668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ra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29040" y="5419800"/>
            <a:ext cx="824040" cy="514440"/>
          </a:xfrm>
          <a:prstGeom prst="ellipse">
            <a:avLst/>
          </a:prstGeom>
          <a:solidFill>
            <a:srgbClr val="9933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e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4880" y="4551480"/>
            <a:ext cx="7171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5960" y="2776680"/>
            <a:ext cx="116856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earing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7120" y="3728880"/>
            <a:ext cx="9255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talog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60480" y="3689280"/>
            <a:ext cx="812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rches,  harv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40240" y="3568680"/>
            <a:ext cx="873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nvo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8" idx="2"/>
            <a:endCxn id="238" idx="3"/>
          </p:cNvCxnSpPr>
          <p:nvPr/>
        </p:nvCxnSpPr>
        <p:spPr>
          <a:xfrm flipV="1" rot="10800000">
            <a:off x="1455120" y="4456800"/>
            <a:ext cx="1134000" cy="2268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1" idx="0"/>
            <a:endCxn id="250" idx="2"/>
          </p:cNvCxnSpPr>
          <p:nvPr/>
        </p:nvCxnSpPr>
        <p:spPr>
          <a:xfrm flipV="1" rot="16200000">
            <a:off x="4902480" y="5080320"/>
            <a:ext cx="659520" cy="19800"/>
          </a:xfrm>
          <a:prstGeom prst="curvedConnector5">
            <a:avLst>
              <a:gd name="adj1" fmla="val 49863"/>
              <a:gd name="adj2" fmla="val 50000"/>
              <a:gd name="adj3" fmla="val 49863"/>
            </a:avLst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853920" y="5057640"/>
            <a:ext cx="8524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53" idx="4"/>
            <a:endCxn id="250" idx="0"/>
          </p:cNvCxnSpPr>
          <p:nvPr/>
        </p:nvCxnSpPr>
        <p:spPr>
          <a:xfrm rot="5400000">
            <a:off x="4776120" y="3744720"/>
            <a:ext cx="894600" cy="2160"/>
          </a:xfrm>
          <a:prstGeom prst="curvedConnector5">
            <a:avLst>
              <a:gd name="adj1" fmla="val 49879"/>
              <a:gd name="adj2" fmla="val 40000"/>
              <a:gd name="adj3" fmla="val 49879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4" name=""/>
          <p:cNvCxnSpPr>
            <a:stCxn id="243" idx="2"/>
            <a:endCxn id="248" idx="1"/>
          </p:cNvCxnSpPr>
          <p:nvPr/>
        </p:nvCxnSpPr>
        <p:spPr>
          <a:xfrm flipH="1" rot="16200000">
            <a:off x="1536480" y="2689920"/>
            <a:ext cx="905760" cy="212004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39" idx="1"/>
            <a:endCxn id="243" idx="3"/>
          </p:cNvCxnSpPr>
          <p:nvPr/>
        </p:nvCxnSpPr>
        <p:spPr>
          <a:xfrm rot="10800000">
            <a:off x="1513800" y="3036240"/>
            <a:ext cx="1073520" cy="1332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3400560" y="5160960"/>
            <a:ext cx="1155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ubli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08360" y="491184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2440" y="5438880"/>
            <a:ext cx="1095480" cy="46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 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38" idx="2"/>
            <a:endCxn id="258" idx="0"/>
          </p:cNvCxnSpPr>
          <p:nvPr/>
        </p:nvCxnSpPr>
        <p:spPr>
          <a:xfrm rot="5400000">
            <a:off x="537480" y="5068800"/>
            <a:ext cx="732600" cy="8640"/>
          </a:xfrm>
          <a:prstGeom prst="curvedConnector5">
            <a:avLst>
              <a:gd name="adj1" fmla="val 49852"/>
              <a:gd name="adj2" fmla="val 47826"/>
              <a:gd name="adj3" fmla="val 4985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38" idx="0"/>
            <a:endCxn id="243" idx="2"/>
          </p:cNvCxnSpPr>
          <p:nvPr/>
        </p:nvCxnSpPr>
        <p:spPr>
          <a:xfrm flipH="1" flipV="1" rot="5400000">
            <a:off x="441000" y="3763440"/>
            <a:ext cx="956520" cy="23040"/>
          </a:xfrm>
          <a:prstGeom prst="curvedConnector5">
            <a:avLst>
              <a:gd name="adj1" fmla="val 50000"/>
              <a:gd name="adj2" fmla="val 49206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"/>
          <p:cNvSpPr/>
          <p:nvPr/>
        </p:nvSpPr>
        <p:spPr>
          <a:xfrm>
            <a:off x="5699160" y="6330960"/>
            <a:ext cx="344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opted from 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ercivall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, Feb 2008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by R. Husar, March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17760" y="4313160"/>
            <a:ext cx="919080" cy="5097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08120" y="4254480"/>
            <a:ext cx="919440" cy="5097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89120" y="4202280"/>
            <a:ext cx="919080" cy="5094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Q Cat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41" idx="0"/>
            <a:endCxn id="248" idx="3"/>
          </p:cNvCxnSpPr>
          <p:nvPr/>
        </p:nvCxnSpPr>
        <p:spPr>
          <a:xfrm flipV="1" rot="16200000">
            <a:off x="3791160" y="3968640"/>
            <a:ext cx="708840" cy="2193120"/>
          </a:xfrm>
          <a:prstGeom prst="curvedConnector5">
            <a:avLst>
              <a:gd name="adj1" fmla="val 50000"/>
              <a:gd name="adj2" fmla="val 49991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5" name=""/>
          <p:cNvSpPr/>
          <p:nvPr/>
        </p:nvSpPr>
        <p:spPr>
          <a:xfrm>
            <a:off x="3998880" y="278280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86280" y="307008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95640" y="291924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86280" y="319716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79800" y="332892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53" idx="2"/>
            <a:endCxn id="266" idx="7"/>
          </p:cNvCxnSpPr>
          <p:nvPr/>
        </p:nvCxnSpPr>
        <p:spPr>
          <a:xfrm flipH="1">
            <a:off x="4061880" y="3041280"/>
            <a:ext cx="750240" cy="41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4811760" y="2784600"/>
            <a:ext cx="824040" cy="514080"/>
          </a:xfrm>
          <a:prstGeom prst="ellipse">
            <a:avLst/>
          </a:prstGeom>
          <a:solidFill>
            <a:srgbClr val="ff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66" idx="2"/>
            <a:endCxn id="239" idx="3"/>
          </p:cNvCxnSpPr>
          <p:nvPr/>
        </p:nvCxnSpPr>
        <p:spPr>
          <a:xfrm flipH="1" flipV="1">
            <a:off x="3671280" y="3049200"/>
            <a:ext cx="315000" cy="65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53" idx="6"/>
            <a:endCxn id="273" idx="1"/>
          </p:cNvCxnSpPr>
          <p:nvPr/>
        </p:nvCxnSpPr>
        <p:spPr>
          <a:xfrm>
            <a:off x="5635440" y="3041280"/>
            <a:ext cx="689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6283440" y="2884320"/>
            <a:ext cx="129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2808360"/>
            <a:ext cx="928800" cy="459000"/>
          </a:xfrm>
          <a:prstGeom prst="rect">
            <a:avLst/>
          </a:prstGeom>
          <a:solidFill>
            <a:srgbClr val="ff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 Work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99000" y="2762280"/>
            <a:ext cx="812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3" idx="3"/>
            <a:endCxn id="277" idx="2"/>
          </p:cNvCxnSpPr>
          <p:nvPr/>
        </p:nvCxnSpPr>
        <p:spPr>
          <a:xfrm flipV="1">
            <a:off x="7253280" y="3012480"/>
            <a:ext cx="603720" cy="2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5" idx="2"/>
            <a:endCxn id="239" idx="3"/>
          </p:cNvCxnSpPr>
          <p:nvPr/>
        </p:nvCxnSpPr>
        <p:spPr>
          <a:xfrm flipH="1">
            <a:off x="3671640" y="2827080"/>
            <a:ext cx="327600" cy="22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67" idx="2"/>
            <a:endCxn id="239" idx="3"/>
          </p:cNvCxnSpPr>
          <p:nvPr/>
        </p:nvCxnSpPr>
        <p:spPr>
          <a:xfrm flipH="1">
            <a:off x="3671280" y="2963880"/>
            <a:ext cx="324360" cy="86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68" idx="2"/>
            <a:endCxn id="239" idx="3"/>
          </p:cNvCxnSpPr>
          <p:nvPr/>
        </p:nvCxnSpPr>
        <p:spPr>
          <a:xfrm flipH="1" flipV="1">
            <a:off x="3671280" y="3049200"/>
            <a:ext cx="315000" cy="192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69" idx="2"/>
            <a:endCxn id="239" idx="3"/>
          </p:cNvCxnSpPr>
          <p:nvPr/>
        </p:nvCxnSpPr>
        <p:spPr>
          <a:xfrm flipH="1" flipV="1">
            <a:off x="3671280" y="3049200"/>
            <a:ext cx="308520" cy="324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7856640" y="2755800"/>
            <a:ext cx="823680" cy="514440"/>
          </a:xfrm>
          <a:prstGeom prst="ellipse">
            <a:avLst/>
          </a:prstGeom>
          <a:solidFill>
            <a:srgbClr val="ff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01080" y="2784600"/>
            <a:ext cx="8125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sualiz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77" idx="4"/>
            <a:endCxn id="284" idx="0"/>
          </p:cNvCxnSpPr>
          <p:nvPr/>
        </p:nvCxnSpPr>
        <p:spPr>
          <a:xfrm>
            <a:off x="8268840" y="3269880"/>
            <a:ext cx="540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0560" y="3370320"/>
            <a:ext cx="673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62760" y="5324400"/>
            <a:ext cx="824040" cy="514440"/>
          </a:xfrm>
          <a:prstGeom prst="ellipse">
            <a:avLst/>
          </a:prstGeom>
          <a:solidFill>
            <a:srgbClr val="ff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61320" y="4032360"/>
            <a:ext cx="824040" cy="514080"/>
          </a:xfrm>
          <a:prstGeom prst="ellipse">
            <a:avLst/>
          </a:prstGeom>
          <a:solidFill>
            <a:srgbClr val="ff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4" idx="4"/>
            <a:endCxn id="286" idx="0"/>
          </p:cNvCxnSpPr>
          <p:nvPr/>
        </p:nvCxnSpPr>
        <p:spPr>
          <a:xfrm>
            <a:off x="8273520" y="4546080"/>
            <a:ext cx="2520" cy="778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7496280" y="4718160"/>
            <a:ext cx="672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721400" y="4192560"/>
            <a:ext cx="961560" cy="568440"/>
            <a:chOff x="4721400" y="4192560"/>
            <a:chExt cx="961560" cy="568440"/>
          </a:xfrm>
        </p:grpSpPr>
        <p:sp>
          <p:nvSpPr>
            <p:cNvPr id="250" name=""/>
            <p:cNvSpPr/>
            <p:nvPr/>
          </p:nvSpPr>
          <p:spPr>
            <a:xfrm>
              <a:off x="4762440" y="4192560"/>
              <a:ext cx="920520" cy="568440"/>
            </a:xfrm>
            <a:prstGeom prst="rect">
              <a:avLst/>
            </a:prstGeom>
            <a:solidFill>
              <a:srgbClr val="9933f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71240" y="4216680"/>
              <a:ext cx="389160" cy="297720"/>
            </a:xfrm>
            <a:custGeom>
              <a:avLst/>
              <a:gdLst/>
              <a:ahLst/>
              <a:rect l="l" t="t" r="r" b="b"/>
              <a:pathLst>
                <a:path w="1395" h="1396">
                  <a:moveTo>
                    <a:pt x="798" y="1241"/>
                  </a:moveTo>
                  <a:lnTo>
                    <a:pt x="779" y="1391"/>
                  </a:lnTo>
                  <a:lnTo>
                    <a:pt x="772" y="1392"/>
                  </a:lnTo>
                  <a:lnTo>
                    <a:pt x="766" y="1392"/>
                  </a:lnTo>
                  <a:lnTo>
                    <a:pt x="759" y="1393"/>
                  </a:lnTo>
                  <a:lnTo>
                    <a:pt x="753" y="1393"/>
                  </a:lnTo>
                  <a:lnTo>
                    <a:pt x="748" y="1395"/>
                  </a:lnTo>
                  <a:lnTo>
                    <a:pt x="741" y="1395"/>
                  </a:lnTo>
                  <a:lnTo>
                    <a:pt x="735" y="1396"/>
                  </a:lnTo>
                  <a:lnTo>
                    <a:pt x="728" y="1396"/>
                  </a:lnTo>
                  <a:lnTo>
                    <a:pt x="690" y="1250"/>
                  </a:lnTo>
                  <a:lnTo>
                    <a:pt x="675" y="1249"/>
                  </a:lnTo>
                  <a:lnTo>
                    <a:pt x="665" y="1249"/>
                  </a:lnTo>
                  <a:lnTo>
                    <a:pt x="654" y="1248"/>
                  </a:lnTo>
                  <a:lnTo>
                    <a:pt x="644" y="1248"/>
                  </a:lnTo>
                  <a:lnTo>
                    <a:pt x="635" y="1247"/>
                  </a:lnTo>
                  <a:lnTo>
                    <a:pt x="624" y="1246"/>
                  </a:lnTo>
                  <a:lnTo>
                    <a:pt x="614" y="1244"/>
                  </a:lnTo>
                  <a:lnTo>
                    <a:pt x="604" y="1242"/>
                  </a:lnTo>
                  <a:lnTo>
                    <a:pt x="593" y="1240"/>
                  </a:lnTo>
                  <a:lnTo>
                    <a:pt x="580" y="1238"/>
                  </a:lnTo>
                  <a:lnTo>
                    <a:pt x="506" y="1369"/>
                  </a:lnTo>
                  <a:lnTo>
                    <a:pt x="498" y="1367"/>
                  </a:lnTo>
                  <a:lnTo>
                    <a:pt x="490" y="1363"/>
                  </a:lnTo>
                  <a:lnTo>
                    <a:pt x="482" y="1361"/>
                  </a:lnTo>
                  <a:lnTo>
                    <a:pt x="474" y="1359"/>
                  </a:lnTo>
                  <a:lnTo>
                    <a:pt x="470" y="1358"/>
                  </a:lnTo>
                  <a:lnTo>
                    <a:pt x="467" y="1356"/>
                  </a:lnTo>
                  <a:lnTo>
                    <a:pt x="463" y="1355"/>
                  </a:lnTo>
                  <a:lnTo>
                    <a:pt x="459" y="1354"/>
                  </a:lnTo>
                  <a:lnTo>
                    <a:pt x="479" y="1206"/>
                  </a:lnTo>
                  <a:lnTo>
                    <a:pt x="466" y="1200"/>
                  </a:lnTo>
                  <a:lnTo>
                    <a:pt x="455" y="1195"/>
                  </a:lnTo>
                  <a:lnTo>
                    <a:pt x="446" y="1191"/>
                  </a:lnTo>
                  <a:lnTo>
                    <a:pt x="437" y="1186"/>
                  </a:lnTo>
                  <a:lnTo>
                    <a:pt x="426" y="1180"/>
                  </a:lnTo>
                  <a:lnTo>
                    <a:pt x="417" y="1174"/>
                  </a:lnTo>
                  <a:lnTo>
                    <a:pt x="408" y="1170"/>
                  </a:lnTo>
                  <a:lnTo>
                    <a:pt x="399" y="1164"/>
                  </a:lnTo>
                  <a:lnTo>
                    <a:pt x="390" y="1158"/>
                  </a:lnTo>
                  <a:lnTo>
                    <a:pt x="378" y="1150"/>
                  </a:lnTo>
                  <a:lnTo>
                    <a:pt x="261" y="1241"/>
                  </a:lnTo>
                  <a:lnTo>
                    <a:pt x="256" y="1238"/>
                  </a:lnTo>
                  <a:lnTo>
                    <a:pt x="251" y="1233"/>
                  </a:lnTo>
                  <a:lnTo>
                    <a:pt x="247" y="1230"/>
                  </a:lnTo>
                  <a:lnTo>
                    <a:pt x="242" y="1225"/>
                  </a:lnTo>
                  <a:lnTo>
                    <a:pt x="238" y="1222"/>
                  </a:lnTo>
                  <a:lnTo>
                    <a:pt x="233" y="1218"/>
                  </a:lnTo>
                  <a:lnTo>
                    <a:pt x="228" y="1214"/>
                  </a:lnTo>
                  <a:lnTo>
                    <a:pt x="224" y="1210"/>
                  </a:lnTo>
                  <a:lnTo>
                    <a:pt x="299" y="1082"/>
                  </a:lnTo>
                  <a:lnTo>
                    <a:pt x="288" y="1072"/>
                  </a:lnTo>
                  <a:lnTo>
                    <a:pt x="281" y="1064"/>
                  </a:lnTo>
                  <a:lnTo>
                    <a:pt x="273" y="1056"/>
                  </a:lnTo>
                  <a:lnTo>
                    <a:pt x="266" y="1047"/>
                  </a:lnTo>
                  <a:lnTo>
                    <a:pt x="259" y="1038"/>
                  </a:lnTo>
                  <a:lnTo>
                    <a:pt x="253" y="1029"/>
                  </a:lnTo>
                  <a:lnTo>
                    <a:pt x="246" y="1020"/>
                  </a:lnTo>
                  <a:lnTo>
                    <a:pt x="240" y="1011"/>
                  </a:lnTo>
                  <a:lnTo>
                    <a:pt x="233" y="1002"/>
                  </a:lnTo>
                  <a:lnTo>
                    <a:pt x="225" y="990"/>
                  </a:lnTo>
                  <a:lnTo>
                    <a:pt x="84" y="1028"/>
                  </a:lnTo>
                  <a:lnTo>
                    <a:pt x="79" y="1018"/>
                  </a:lnTo>
                  <a:lnTo>
                    <a:pt x="73" y="1007"/>
                  </a:lnTo>
                  <a:lnTo>
                    <a:pt x="68" y="997"/>
                  </a:lnTo>
                  <a:lnTo>
                    <a:pt x="63" y="985"/>
                  </a:lnTo>
                  <a:lnTo>
                    <a:pt x="179" y="898"/>
                  </a:lnTo>
                  <a:lnTo>
                    <a:pt x="173" y="884"/>
                  </a:lnTo>
                  <a:lnTo>
                    <a:pt x="166" y="862"/>
                  </a:lnTo>
                  <a:lnTo>
                    <a:pt x="159" y="840"/>
                  </a:lnTo>
                  <a:lnTo>
                    <a:pt x="153" y="817"/>
                  </a:lnTo>
                  <a:lnTo>
                    <a:pt x="149" y="795"/>
                  </a:lnTo>
                  <a:lnTo>
                    <a:pt x="147" y="781"/>
                  </a:lnTo>
                  <a:lnTo>
                    <a:pt x="4" y="764"/>
                  </a:lnTo>
                  <a:lnTo>
                    <a:pt x="3" y="752"/>
                  </a:lnTo>
                  <a:lnTo>
                    <a:pt x="1" y="740"/>
                  </a:lnTo>
                  <a:lnTo>
                    <a:pt x="1" y="727"/>
                  </a:lnTo>
                  <a:lnTo>
                    <a:pt x="0" y="716"/>
                  </a:lnTo>
                  <a:lnTo>
                    <a:pt x="139" y="679"/>
                  </a:lnTo>
                  <a:lnTo>
                    <a:pt x="140" y="665"/>
                  </a:lnTo>
                  <a:lnTo>
                    <a:pt x="141" y="642"/>
                  </a:lnTo>
                  <a:lnTo>
                    <a:pt x="144" y="619"/>
                  </a:lnTo>
                  <a:lnTo>
                    <a:pt x="147" y="596"/>
                  </a:lnTo>
                  <a:lnTo>
                    <a:pt x="151" y="573"/>
                  </a:lnTo>
                  <a:lnTo>
                    <a:pt x="155" y="559"/>
                  </a:lnTo>
                  <a:lnTo>
                    <a:pt x="33" y="489"/>
                  </a:lnTo>
                  <a:lnTo>
                    <a:pt x="34" y="484"/>
                  </a:lnTo>
                  <a:lnTo>
                    <a:pt x="35" y="481"/>
                  </a:lnTo>
                  <a:lnTo>
                    <a:pt x="36" y="477"/>
                  </a:lnTo>
                  <a:lnTo>
                    <a:pt x="37" y="473"/>
                  </a:lnTo>
                  <a:lnTo>
                    <a:pt x="39" y="466"/>
                  </a:lnTo>
                  <a:lnTo>
                    <a:pt x="43" y="458"/>
                  </a:lnTo>
                  <a:lnTo>
                    <a:pt x="45" y="451"/>
                  </a:lnTo>
                  <a:lnTo>
                    <a:pt x="49" y="443"/>
                  </a:lnTo>
                  <a:lnTo>
                    <a:pt x="188" y="462"/>
                  </a:lnTo>
                  <a:lnTo>
                    <a:pt x="194" y="450"/>
                  </a:lnTo>
                  <a:lnTo>
                    <a:pt x="200" y="439"/>
                  </a:lnTo>
                  <a:lnTo>
                    <a:pt x="204" y="429"/>
                  </a:lnTo>
                  <a:lnTo>
                    <a:pt x="210" y="418"/>
                  </a:lnTo>
                  <a:lnTo>
                    <a:pt x="216" y="408"/>
                  </a:lnTo>
                  <a:lnTo>
                    <a:pt x="221" y="399"/>
                  </a:lnTo>
                  <a:lnTo>
                    <a:pt x="228" y="389"/>
                  </a:lnTo>
                  <a:lnTo>
                    <a:pt x="234" y="379"/>
                  </a:lnTo>
                  <a:lnTo>
                    <a:pt x="241" y="370"/>
                  </a:lnTo>
                  <a:lnTo>
                    <a:pt x="249" y="357"/>
                  </a:lnTo>
                  <a:lnTo>
                    <a:pt x="164" y="249"/>
                  </a:lnTo>
                  <a:lnTo>
                    <a:pt x="167" y="244"/>
                  </a:lnTo>
                  <a:lnTo>
                    <a:pt x="172" y="240"/>
                  </a:lnTo>
                  <a:lnTo>
                    <a:pt x="177" y="235"/>
                  </a:lnTo>
                  <a:lnTo>
                    <a:pt x="180" y="231"/>
                  </a:lnTo>
                  <a:lnTo>
                    <a:pt x="185" y="226"/>
                  </a:lnTo>
                  <a:lnTo>
                    <a:pt x="189" y="221"/>
                  </a:lnTo>
                  <a:lnTo>
                    <a:pt x="194" y="217"/>
                  </a:lnTo>
                  <a:lnTo>
                    <a:pt x="198" y="212"/>
                  </a:lnTo>
                  <a:lnTo>
                    <a:pt x="318" y="281"/>
                  </a:lnTo>
                  <a:lnTo>
                    <a:pt x="329" y="272"/>
                  </a:lnTo>
                  <a:lnTo>
                    <a:pt x="338" y="264"/>
                  </a:lnTo>
                  <a:lnTo>
                    <a:pt x="346" y="257"/>
                  </a:lnTo>
                  <a:lnTo>
                    <a:pt x="355" y="250"/>
                  </a:lnTo>
                  <a:lnTo>
                    <a:pt x="364" y="243"/>
                  </a:lnTo>
                  <a:lnTo>
                    <a:pt x="373" y="238"/>
                  </a:lnTo>
                  <a:lnTo>
                    <a:pt x="383" y="232"/>
                  </a:lnTo>
                  <a:lnTo>
                    <a:pt x="392" y="225"/>
                  </a:lnTo>
                  <a:lnTo>
                    <a:pt x="401" y="219"/>
                  </a:lnTo>
                  <a:lnTo>
                    <a:pt x="414" y="211"/>
                  </a:lnTo>
                  <a:lnTo>
                    <a:pt x="377" y="79"/>
                  </a:lnTo>
                  <a:lnTo>
                    <a:pt x="383" y="76"/>
                  </a:lnTo>
                  <a:lnTo>
                    <a:pt x="388" y="73"/>
                  </a:lnTo>
                  <a:lnTo>
                    <a:pt x="394" y="70"/>
                  </a:lnTo>
                  <a:lnTo>
                    <a:pt x="400" y="67"/>
                  </a:lnTo>
                  <a:lnTo>
                    <a:pt x="406" y="65"/>
                  </a:lnTo>
                  <a:lnTo>
                    <a:pt x="413" y="62"/>
                  </a:lnTo>
                  <a:lnTo>
                    <a:pt x="418" y="59"/>
                  </a:lnTo>
                  <a:lnTo>
                    <a:pt x="424" y="57"/>
                  </a:lnTo>
                  <a:lnTo>
                    <a:pt x="507" y="167"/>
                  </a:lnTo>
                  <a:lnTo>
                    <a:pt x="521" y="163"/>
                  </a:lnTo>
                  <a:lnTo>
                    <a:pt x="531" y="159"/>
                  </a:lnTo>
                  <a:lnTo>
                    <a:pt x="542" y="156"/>
                  </a:lnTo>
                  <a:lnTo>
                    <a:pt x="552" y="153"/>
                  </a:lnTo>
                  <a:lnTo>
                    <a:pt x="562" y="150"/>
                  </a:lnTo>
                  <a:lnTo>
                    <a:pt x="573" y="148"/>
                  </a:lnTo>
                  <a:lnTo>
                    <a:pt x="583" y="145"/>
                  </a:lnTo>
                  <a:lnTo>
                    <a:pt x="593" y="143"/>
                  </a:lnTo>
                  <a:lnTo>
                    <a:pt x="604" y="141"/>
                  </a:lnTo>
                  <a:lnTo>
                    <a:pt x="619" y="138"/>
                  </a:lnTo>
                  <a:lnTo>
                    <a:pt x="636" y="4"/>
                  </a:lnTo>
                  <a:lnTo>
                    <a:pt x="643" y="2"/>
                  </a:lnTo>
                  <a:lnTo>
                    <a:pt x="649" y="2"/>
                  </a:lnTo>
                  <a:lnTo>
                    <a:pt x="656" y="1"/>
                  </a:lnTo>
                  <a:lnTo>
                    <a:pt x="662" y="1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83" y="0"/>
                  </a:lnTo>
                  <a:lnTo>
                    <a:pt x="690" y="0"/>
                  </a:lnTo>
                  <a:lnTo>
                    <a:pt x="725" y="134"/>
                  </a:lnTo>
                  <a:lnTo>
                    <a:pt x="738" y="135"/>
                  </a:lnTo>
                  <a:lnTo>
                    <a:pt x="749" y="136"/>
                  </a:lnTo>
                  <a:lnTo>
                    <a:pt x="759" y="137"/>
                  </a:lnTo>
                  <a:lnTo>
                    <a:pt x="770" y="138"/>
                  </a:lnTo>
                  <a:lnTo>
                    <a:pt x="780" y="140"/>
                  </a:lnTo>
                  <a:lnTo>
                    <a:pt x="790" y="142"/>
                  </a:lnTo>
                  <a:lnTo>
                    <a:pt x="801" y="143"/>
                  </a:lnTo>
                  <a:lnTo>
                    <a:pt x="811" y="145"/>
                  </a:lnTo>
                  <a:lnTo>
                    <a:pt x="821" y="148"/>
                  </a:lnTo>
                  <a:lnTo>
                    <a:pt x="836" y="151"/>
                  </a:lnTo>
                  <a:lnTo>
                    <a:pt x="904" y="31"/>
                  </a:lnTo>
                  <a:lnTo>
                    <a:pt x="911" y="34"/>
                  </a:lnTo>
                  <a:lnTo>
                    <a:pt x="917" y="36"/>
                  </a:lnTo>
                  <a:lnTo>
                    <a:pt x="923" y="38"/>
                  </a:lnTo>
                  <a:lnTo>
                    <a:pt x="930" y="41"/>
                  </a:lnTo>
                  <a:lnTo>
                    <a:pt x="935" y="43"/>
                  </a:lnTo>
                  <a:lnTo>
                    <a:pt x="942" y="45"/>
                  </a:lnTo>
                  <a:lnTo>
                    <a:pt x="949" y="47"/>
                  </a:lnTo>
                  <a:lnTo>
                    <a:pt x="956" y="50"/>
                  </a:lnTo>
                  <a:lnTo>
                    <a:pt x="937" y="188"/>
                  </a:lnTo>
                  <a:lnTo>
                    <a:pt x="949" y="195"/>
                  </a:lnTo>
                  <a:lnTo>
                    <a:pt x="958" y="200"/>
                  </a:lnTo>
                  <a:lnTo>
                    <a:pt x="968" y="204"/>
                  </a:lnTo>
                  <a:lnTo>
                    <a:pt x="976" y="209"/>
                  </a:lnTo>
                  <a:lnTo>
                    <a:pt x="985" y="213"/>
                  </a:lnTo>
                  <a:lnTo>
                    <a:pt x="993" y="219"/>
                  </a:lnTo>
                  <a:lnTo>
                    <a:pt x="1002" y="224"/>
                  </a:lnTo>
                  <a:lnTo>
                    <a:pt x="1010" y="229"/>
                  </a:lnTo>
                  <a:lnTo>
                    <a:pt x="1018" y="235"/>
                  </a:lnTo>
                  <a:lnTo>
                    <a:pt x="1030" y="244"/>
                  </a:lnTo>
                  <a:lnTo>
                    <a:pt x="1140" y="159"/>
                  </a:lnTo>
                  <a:lnTo>
                    <a:pt x="1146" y="164"/>
                  </a:lnTo>
                  <a:lnTo>
                    <a:pt x="1151" y="168"/>
                  </a:lnTo>
                  <a:lnTo>
                    <a:pt x="1157" y="173"/>
                  </a:lnTo>
                  <a:lnTo>
                    <a:pt x="1161" y="178"/>
                  </a:lnTo>
                  <a:lnTo>
                    <a:pt x="1167" y="182"/>
                  </a:lnTo>
                  <a:lnTo>
                    <a:pt x="1171" y="187"/>
                  </a:lnTo>
                  <a:lnTo>
                    <a:pt x="1177" y="191"/>
                  </a:lnTo>
                  <a:lnTo>
                    <a:pt x="1182" y="196"/>
                  </a:lnTo>
                  <a:lnTo>
                    <a:pt x="1110" y="317"/>
                  </a:lnTo>
                  <a:lnTo>
                    <a:pt x="1120" y="327"/>
                  </a:lnTo>
                  <a:lnTo>
                    <a:pt x="1127" y="334"/>
                  </a:lnTo>
                  <a:lnTo>
                    <a:pt x="1132" y="342"/>
                  </a:lnTo>
                  <a:lnTo>
                    <a:pt x="1138" y="350"/>
                  </a:lnTo>
                  <a:lnTo>
                    <a:pt x="1144" y="357"/>
                  </a:lnTo>
                  <a:lnTo>
                    <a:pt x="1150" y="365"/>
                  </a:lnTo>
                  <a:lnTo>
                    <a:pt x="1155" y="374"/>
                  </a:lnTo>
                  <a:lnTo>
                    <a:pt x="1160" y="382"/>
                  </a:lnTo>
                  <a:lnTo>
                    <a:pt x="1166" y="390"/>
                  </a:lnTo>
                  <a:lnTo>
                    <a:pt x="1174" y="402"/>
                  </a:lnTo>
                  <a:lnTo>
                    <a:pt x="1310" y="364"/>
                  </a:lnTo>
                  <a:lnTo>
                    <a:pt x="1317" y="377"/>
                  </a:lnTo>
                  <a:lnTo>
                    <a:pt x="1323" y="390"/>
                  </a:lnTo>
                  <a:lnTo>
                    <a:pt x="1329" y="402"/>
                  </a:lnTo>
                  <a:lnTo>
                    <a:pt x="1335" y="416"/>
                  </a:lnTo>
                  <a:lnTo>
                    <a:pt x="1222" y="501"/>
                  </a:lnTo>
                  <a:lnTo>
                    <a:pt x="1227" y="515"/>
                  </a:lnTo>
                  <a:lnTo>
                    <a:pt x="1231" y="533"/>
                  </a:lnTo>
                  <a:lnTo>
                    <a:pt x="1237" y="551"/>
                  </a:lnTo>
                  <a:lnTo>
                    <a:pt x="1242" y="569"/>
                  </a:lnTo>
                  <a:lnTo>
                    <a:pt x="1245" y="588"/>
                  </a:lnTo>
                  <a:lnTo>
                    <a:pt x="1247" y="603"/>
                  </a:lnTo>
                  <a:lnTo>
                    <a:pt x="1390" y="620"/>
                  </a:lnTo>
                  <a:lnTo>
                    <a:pt x="1391" y="634"/>
                  </a:lnTo>
                  <a:lnTo>
                    <a:pt x="1393" y="648"/>
                  </a:lnTo>
                  <a:lnTo>
                    <a:pt x="1394" y="663"/>
                  </a:lnTo>
                  <a:lnTo>
                    <a:pt x="1395" y="677"/>
                  </a:lnTo>
                  <a:lnTo>
                    <a:pt x="1254" y="713"/>
                  </a:lnTo>
                  <a:lnTo>
                    <a:pt x="1253" y="727"/>
                  </a:lnTo>
                  <a:lnTo>
                    <a:pt x="1252" y="746"/>
                  </a:lnTo>
                  <a:lnTo>
                    <a:pt x="1250" y="764"/>
                  </a:lnTo>
                  <a:lnTo>
                    <a:pt x="1247" y="783"/>
                  </a:lnTo>
                  <a:lnTo>
                    <a:pt x="1244" y="801"/>
                  </a:lnTo>
                  <a:lnTo>
                    <a:pt x="1241" y="816"/>
                  </a:lnTo>
                  <a:lnTo>
                    <a:pt x="1368" y="889"/>
                  </a:lnTo>
                  <a:lnTo>
                    <a:pt x="1364" y="902"/>
                  </a:lnTo>
                  <a:lnTo>
                    <a:pt x="1360" y="916"/>
                  </a:lnTo>
                  <a:lnTo>
                    <a:pt x="1356" y="929"/>
                  </a:lnTo>
                  <a:lnTo>
                    <a:pt x="1351" y="942"/>
                  </a:lnTo>
                  <a:lnTo>
                    <a:pt x="1205" y="921"/>
                  </a:lnTo>
                  <a:lnTo>
                    <a:pt x="1199" y="935"/>
                  </a:lnTo>
                  <a:lnTo>
                    <a:pt x="1195" y="943"/>
                  </a:lnTo>
                  <a:lnTo>
                    <a:pt x="1190" y="952"/>
                  </a:lnTo>
                  <a:lnTo>
                    <a:pt x="1186" y="960"/>
                  </a:lnTo>
                  <a:lnTo>
                    <a:pt x="1182" y="968"/>
                  </a:lnTo>
                  <a:lnTo>
                    <a:pt x="1177" y="976"/>
                  </a:lnTo>
                  <a:lnTo>
                    <a:pt x="1173" y="984"/>
                  </a:lnTo>
                  <a:lnTo>
                    <a:pt x="1167" y="992"/>
                  </a:lnTo>
                  <a:lnTo>
                    <a:pt x="1162" y="999"/>
                  </a:lnTo>
                  <a:lnTo>
                    <a:pt x="1154" y="1012"/>
                  </a:lnTo>
                  <a:lnTo>
                    <a:pt x="1246" y="1129"/>
                  </a:lnTo>
                  <a:lnTo>
                    <a:pt x="1242" y="1134"/>
                  </a:lnTo>
                  <a:lnTo>
                    <a:pt x="1237" y="1140"/>
                  </a:lnTo>
                  <a:lnTo>
                    <a:pt x="1233" y="1144"/>
                  </a:lnTo>
                  <a:lnTo>
                    <a:pt x="1229" y="1150"/>
                  </a:lnTo>
                  <a:lnTo>
                    <a:pt x="1224" y="1155"/>
                  </a:lnTo>
                  <a:lnTo>
                    <a:pt x="1220" y="1161"/>
                  </a:lnTo>
                  <a:lnTo>
                    <a:pt x="1215" y="1165"/>
                  </a:lnTo>
                  <a:lnTo>
                    <a:pt x="1211" y="1171"/>
                  </a:lnTo>
                  <a:lnTo>
                    <a:pt x="1083" y="1095"/>
                  </a:lnTo>
                  <a:lnTo>
                    <a:pt x="1071" y="1105"/>
                  </a:lnTo>
                  <a:lnTo>
                    <a:pt x="1064" y="1112"/>
                  </a:lnTo>
                  <a:lnTo>
                    <a:pt x="1056" y="1118"/>
                  </a:lnTo>
                  <a:lnTo>
                    <a:pt x="1049" y="1124"/>
                  </a:lnTo>
                  <a:lnTo>
                    <a:pt x="1041" y="1131"/>
                  </a:lnTo>
                  <a:lnTo>
                    <a:pt x="1034" y="1136"/>
                  </a:lnTo>
                  <a:lnTo>
                    <a:pt x="1026" y="1142"/>
                  </a:lnTo>
                  <a:lnTo>
                    <a:pt x="1019" y="1147"/>
                  </a:lnTo>
                  <a:lnTo>
                    <a:pt x="1011" y="1153"/>
                  </a:lnTo>
                  <a:lnTo>
                    <a:pt x="1000" y="1161"/>
                  </a:lnTo>
                  <a:lnTo>
                    <a:pt x="1039" y="1306"/>
                  </a:lnTo>
                  <a:lnTo>
                    <a:pt x="1033" y="1309"/>
                  </a:lnTo>
                  <a:lnTo>
                    <a:pt x="1028" y="1313"/>
                  </a:lnTo>
                  <a:lnTo>
                    <a:pt x="1022" y="1316"/>
                  </a:lnTo>
                  <a:lnTo>
                    <a:pt x="1016" y="1318"/>
                  </a:lnTo>
                  <a:lnTo>
                    <a:pt x="1010" y="1322"/>
                  </a:lnTo>
                  <a:lnTo>
                    <a:pt x="1003" y="1324"/>
                  </a:lnTo>
                  <a:lnTo>
                    <a:pt x="998" y="1328"/>
                  </a:lnTo>
                  <a:lnTo>
                    <a:pt x="992" y="1330"/>
                  </a:lnTo>
                  <a:lnTo>
                    <a:pt x="902" y="1211"/>
                  </a:lnTo>
                  <a:lnTo>
                    <a:pt x="888" y="1216"/>
                  </a:lnTo>
                  <a:lnTo>
                    <a:pt x="879" y="1219"/>
                  </a:lnTo>
                  <a:lnTo>
                    <a:pt x="870" y="1223"/>
                  </a:lnTo>
                  <a:lnTo>
                    <a:pt x="859" y="1225"/>
                  </a:lnTo>
                  <a:lnTo>
                    <a:pt x="850" y="1229"/>
                  </a:lnTo>
                  <a:lnTo>
                    <a:pt x="841" y="1231"/>
                  </a:lnTo>
                  <a:lnTo>
                    <a:pt x="832" y="1233"/>
                  </a:lnTo>
                  <a:lnTo>
                    <a:pt x="821" y="1235"/>
                  </a:lnTo>
                  <a:lnTo>
                    <a:pt x="812" y="1238"/>
                  </a:lnTo>
                  <a:lnTo>
                    <a:pt x="798" y="124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83560" y="4302360"/>
              <a:ext cx="164880" cy="127440"/>
            </a:xfrm>
            <a:custGeom>
              <a:avLst/>
              <a:gdLst/>
              <a:ahLst/>
              <a:rect l="l" t="t" r="r" b="b"/>
              <a:pathLst>
                <a:path w="592" h="593">
                  <a:moveTo>
                    <a:pt x="133" y="544"/>
                  </a:moveTo>
                  <a:lnTo>
                    <a:pt x="87" y="506"/>
                  </a:lnTo>
                  <a:lnTo>
                    <a:pt x="50" y="459"/>
                  </a:lnTo>
                  <a:lnTo>
                    <a:pt x="23" y="409"/>
                  </a:lnTo>
                  <a:lnTo>
                    <a:pt x="7" y="355"/>
                  </a:lnTo>
                  <a:lnTo>
                    <a:pt x="0" y="298"/>
                  </a:lnTo>
                  <a:lnTo>
                    <a:pt x="6" y="240"/>
                  </a:lnTo>
                  <a:lnTo>
                    <a:pt x="22" y="185"/>
                  </a:lnTo>
                  <a:lnTo>
                    <a:pt x="50" y="132"/>
                  </a:lnTo>
                  <a:lnTo>
                    <a:pt x="59" y="121"/>
                  </a:lnTo>
                  <a:lnTo>
                    <a:pt x="67" y="108"/>
                  </a:lnTo>
                  <a:lnTo>
                    <a:pt x="77" y="98"/>
                  </a:lnTo>
                  <a:lnTo>
                    <a:pt x="88" y="87"/>
                  </a:lnTo>
                  <a:lnTo>
                    <a:pt x="98" y="77"/>
                  </a:lnTo>
                  <a:lnTo>
                    <a:pt x="109" y="68"/>
                  </a:lnTo>
                  <a:lnTo>
                    <a:pt x="120" y="58"/>
                  </a:lnTo>
                  <a:lnTo>
                    <a:pt x="132" y="50"/>
                  </a:lnTo>
                  <a:lnTo>
                    <a:pt x="143" y="42"/>
                  </a:lnTo>
                  <a:lnTo>
                    <a:pt x="156" y="35"/>
                  </a:lnTo>
                  <a:lnTo>
                    <a:pt x="168" y="28"/>
                  </a:lnTo>
                  <a:lnTo>
                    <a:pt x="182" y="23"/>
                  </a:lnTo>
                  <a:lnTo>
                    <a:pt x="195" y="17"/>
                  </a:lnTo>
                  <a:lnTo>
                    <a:pt x="209" y="12"/>
                  </a:lnTo>
                  <a:lnTo>
                    <a:pt x="224" y="9"/>
                  </a:lnTo>
                  <a:lnTo>
                    <a:pt x="238" y="5"/>
                  </a:lnTo>
                  <a:lnTo>
                    <a:pt x="253" y="3"/>
                  </a:lnTo>
                  <a:lnTo>
                    <a:pt x="266" y="1"/>
                  </a:lnTo>
                  <a:lnTo>
                    <a:pt x="281" y="0"/>
                  </a:lnTo>
                  <a:lnTo>
                    <a:pt x="295" y="0"/>
                  </a:lnTo>
                  <a:lnTo>
                    <a:pt x="310" y="0"/>
                  </a:lnTo>
                  <a:lnTo>
                    <a:pt x="324" y="1"/>
                  </a:lnTo>
                  <a:lnTo>
                    <a:pt x="339" y="3"/>
                  </a:lnTo>
                  <a:lnTo>
                    <a:pt x="353" y="5"/>
                  </a:lnTo>
                  <a:lnTo>
                    <a:pt x="367" y="9"/>
                  </a:lnTo>
                  <a:lnTo>
                    <a:pt x="381" y="12"/>
                  </a:lnTo>
                  <a:lnTo>
                    <a:pt x="394" y="17"/>
                  </a:lnTo>
                  <a:lnTo>
                    <a:pt x="408" y="22"/>
                  </a:lnTo>
                  <a:lnTo>
                    <a:pt x="422" y="27"/>
                  </a:lnTo>
                  <a:lnTo>
                    <a:pt x="434" y="34"/>
                  </a:lnTo>
                  <a:lnTo>
                    <a:pt x="447" y="41"/>
                  </a:lnTo>
                  <a:lnTo>
                    <a:pt x="460" y="49"/>
                  </a:lnTo>
                  <a:lnTo>
                    <a:pt x="506" y="87"/>
                  </a:lnTo>
                  <a:lnTo>
                    <a:pt x="543" y="133"/>
                  </a:lnTo>
                  <a:lnTo>
                    <a:pt x="569" y="184"/>
                  </a:lnTo>
                  <a:lnTo>
                    <a:pt x="586" y="238"/>
                  </a:lnTo>
                  <a:lnTo>
                    <a:pt x="592" y="295"/>
                  </a:lnTo>
                  <a:lnTo>
                    <a:pt x="586" y="352"/>
                  </a:lnTo>
                  <a:lnTo>
                    <a:pt x="570" y="408"/>
                  </a:lnTo>
                  <a:lnTo>
                    <a:pt x="543" y="461"/>
                  </a:lnTo>
                  <a:lnTo>
                    <a:pt x="535" y="472"/>
                  </a:lnTo>
                  <a:lnTo>
                    <a:pt x="525" y="485"/>
                  </a:lnTo>
                  <a:lnTo>
                    <a:pt x="516" y="495"/>
                  </a:lnTo>
                  <a:lnTo>
                    <a:pt x="506" y="506"/>
                  </a:lnTo>
                  <a:lnTo>
                    <a:pt x="495" y="516"/>
                  </a:lnTo>
                  <a:lnTo>
                    <a:pt x="484" y="525"/>
                  </a:lnTo>
                  <a:lnTo>
                    <a:pt x="472" y="534"/>
                  </a:lnTo>
                  <a:lnTo>
                    <a:pt x="461" y="542"/>
                  </a:lnTo>
                  <a:lnTo>
                    <a:pt x="449" y="550"/>
                  </a:lnTo>
                  <a:lnTo>
                    <a:pt x="437" y="557"/>
                  </a:lnTo>
                  <a:lnTo>
                    <a:pt x="424" y="564"/>
                  </a:lnTo>
                  <a:lnTo>
                    <a:pt x="410" y="570"/>
                  </a:lnTo>
                  <a:lnTo>
                    <a:pt x="396" y="576"/>
                  </a:lnTo>
                  <a:lnTo>
                    <a:pt x="383" y="580"/>
                  </a:lnTo>
                  <a:lnTo>
                    <a:pt x="369" y="584"/>
                  </a:lnTo>
                  <a:lnTo>
                    <a:pt x="354" y="587"/>
                  </a:lnTo>
                  <a:lnTo>
                    <a:pt x="339" y="590"/>
                  </a:lnTo>
                  <a:lnTo>
                    <a:pt x="325" y="592"/>
                  </a:lnTo>
                  <a:lnTo>
                    <a:pt x="310" y="593"/>
                  </a:lnTo>
                  <a:lnTo>
                    <a:pt x="296" y="593"/>
                  </a:lnTo>
                  <a:lnTo>
                    <a:pt x="281" y="593"/>
                  </a:lnTo>
                  <a:lnTo>
                    <a:pt x="267" y="592"/>
                  </a:lnTo>
                  <a:lnTo>
                    <a:pt x="253" y="590"/>
                  </a:lnTo>
                  <a:lnTo>
                    <a:pt x="239" y="587"/>
                  </a:lnTo>
                  <a:lnTo>
                    <a:pt x="225" y="584"/>
                  </a:lnTo>
                  <a:lnTo>
                    <a:pt x="211" y="580"/>
                  </a:lnTo>
                  <a:lnTo>
                    <a:pt x="197" y="576"/>
                  </a:lnTo>
                  <a:lnTo>
                    <a:pt x="183" y="571"/>
                  </a:lnTo>
                  <a:lnTo>
                    <a:pt x="171" y="565"/>
                  </a:lnTo>
                  <a:lnTo>
                    <a:pt x="158" y="559"/>
                  </a:lnTo>
                  <a:lnTo>
                    <a:pt x="145" y="552"/>
                  </a:lnTo>
                  <a:lnTo>
                    <a:pt x="133" y="544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83000" y="4341960"/>
              <a:ext cx="388800" cy="299160"/>
            </a:xfrm>
            <a:custGeom>
              <a:avLst/>
              <a:gdLst/>
              <a:ahLst/>
              <a:rect l="l" t="t" r="r" b="b"/>
              <a:pathLst>
                <a:path w="1395" h="1396">
                  <a:moveTo>
                    <a:pt x="798" y="1241"/>
                  </a:moveTo>
                  <a:lnTo>
                    <a:pt x="779" y="1391"/>
                  </a:lnTo>
                  <a:lnTo>
                    <a:pt x="772" y="1392"/>
                  </a:lnTo>
                  <a:lnTo>
                    <a:pt x="766" y="1392"/>
                  </a:lnTo>
                  <a:lnTo>
                    <a:pt x="759" y="1393"/>
                  </a:lnTo>
                  <a:lnTo>
                    <a:pt x="753" y="1393"/>
                  </a:lnTo>
                  <a:lnTo>
                    <a:pt x="748" y="1395"/>
                  </a:lnTo>
                  <a:lnTo>
                    <a:pt x="741" y="1395"/>
                  </a:lnTo>
                  <a:lnTo>
                    <a:pt x="735" y="1396"/>
                  </a:lnTo>
                  <a:lnTo>
                    <a:pt x="728" y="1396"/>
                  </a:lnTo>
                  <a:lnTo>
                    <a:pt x="690" y="1250"/>
                  </a:lnTo>
                  <a:lnTo>
                    <a:pt x="675" y="1249"/>
                  </a:lnTo>
                  <a:lnTo>
                    <a:pt x="665" y="1249"/>
                  </a:lnTo>
                  <a:lnTo>
                    <a:pt x="654" y="1248"/>
                  </a:lnTo>
                  <a:lnTo>
                    <a:pt x="644" y="1248"/>
                  </a:lnTo>
                  <a:lnTo>
                    <a:pt x="635" y="1247"/>
                  </a:lnTo>
                  <a:lnTo>
                    <a:pt x="624" y="1246"/>
                  </a:lnTo>
                  <a:lnTo>
                    <a:pt x="614" y="1244"/>
                  </a:lnTo>
                  <a:lnTo>
                    <a:pt x="604" y="1242"/>
                  </a:lnTo>
                  <a:lnTo>
                    <a:pt x="593" y="1240"/>
                  </a:lnTo>
                  <a:lnTo>
                    <a:pt x="580" y="1238"/>
                  </a:lnTo>
                  <a:lnTo>
                    <a:pt x="506" y="1369"/>
                  </a:lnTo>
                  <a:lnTo>
                    <a:pt x="498" y="1367"/>
                  </a:lnTo>
                  <a:lnTo>
                    <a:pt x="490" y="1363"/>
                  </a:lnTo>
                  <a:lnTo>
                    <a:pt x="482" y="1361"/>
                  </a:lnTo>
                  <a:lnTo>
                    <a:pt x="474" y="1359"/>
                  </a:lnTo>
                  <a:lnTo>
                    <a:pt x="470" y="1358"/>
                  </a:lnTo>
                  <a:lnTo>
                    <a:pt x="467" y="1356"/>
                  </a:lnTo>
                  <a:lnTo>
                    <a:pt x="463" y="1355"/>
                  </a:lnTo>
                  <a:lnTo>
                    <a:pt x="459" y="1354"/>
                  </a:lnTo>
                  <a:lnTo>
                    <a:pt x="479" y="1206"/>
                  </a:lnTo>
                  <a:lnTo>
                    <a:pt x="466" y="1200"/>
                  </a:lnTo>
                  <a:lnTo>
                    <a:pt x="455" y="1195"/>
                  </a:lnTo>
                  <a:lnTo>
                    <a:pt x="446" y="1191"/>
                  </a:lnTo>
                  <a:lnTo>
                    <a:pt x="437" y="1186"/>
                  </a:lnTo>
                  <a:lnTo>
                    <a:pt x="426" y="1180"/>
                  </a:lnTo>
                  <a:lnTo>
                    <a:pt x="417" y="1174"/>
                  </a:lnTo>
                  <a:lnTo>
                    <a:pt x="408" y="1170"/>
                  </a:lnTo>
                  <a:lnTo>
                    <a:pt x="399" y="1164"/>
                  </a:lnTo>
                  <a:lnTo>
                    <a:pt x="390" y="1158"/>
                  </a:lnTo>
                  <a:lnTo>
                    <a:pt x="378" y="1150"/>
                  </a:lnTo>
                  <a:lnTo>
                    <a:pt x="261" y="1241"/>
                  </a:lnTo>
                  <a:lnTo>
                    <a:pt x="256" y="1238"/>
                  </a:lnTo>
                  <a:lnTo>
                    <a:pt x="251" y="1233"/>
                  </a:lnTo>
                  <a:lnTo>
                    <a:pt x="247" y="1230"/>
                  </a:lnTo>
                  <a:lnTo>
                    <a:pt x="242" y="1225"/>
                  </a:lnTo>
                  <a:lnTo>
                    <a:pt x="238" y="1222"/>
                  </a:lnTo>
                  <a:lnTo>
                    <a:pt x="233" y="1218"/>
                  </a:lnTo>
                  <a:lnTo>
                    <a:pt x="228" y="1214"/>
                  </a:lnTo>
                  <a:lnTo>
                    <a:pt x="224" y="1210"/>
                  </a:lnTo>
                  <a:lnTo>
                    <a:pt x="299" y="1082"/>
                  </a:lnTo>
                  <a:lnTo>
                    <a:pt x="288" y="1072"/>
                  </a:lnTo>
                  <a:lnTo>
                    <a:pt x="281" y="1064"/>
                  </a:lnTo>
                  <a:lnTo>
                    <a:pt x="273" y="1056"/>
                  </a:lnTo>
                  <a:lnTo>
                    <a:pt x="266" y="1047"/>
                  </a:lnTo>
                  <a:lnTo>
                    <a:pt x="259" y="1038"/>
                  </a:lnTo>
                  <a:lnTo>
                    <a:pt x="253" y="1029"/>
                  </a:lnTo>
                  <a:lnTo>
                    <a:pt x="246" y="1020"/>
                  </a:lnTo>
                  <a:lnTo>
                    <a:pt x="240" y="1011"/>
                  </a:lnTo>
                  <a:lnTo>
                    <a:pt x="233" y="1002"/>
                  </a:lnTo>
                  <a:lnTo>
                    <a:pt x="225" y="990"/>
                  </a:lnTo>
                  <a:lnTo>
                    <a:pt x="84" y="1028"/>
                  </a:lnTo>
                  <a:lnTo>
                    <a:pt x="79" y="1018"/>
                  </a:lnTo>
                  <a:lnTo>
                    <a:pt x="73" y="1007"/>
                  </a:lnTo>
                  <a:lnTo>
                    <a:pt x="68" y="997"/>
                  </a:lnTo>
                  <a:lnTo>
                    <a:pt x="63" y="985"/>
                  </a:lnTo>
                  <a:lnTo>
                    <a:pt x="179" y="898"/>
                  </a:lnTo>
                  <a:lnTo>
                    <a:pt x="173" y="884"/>
                  </a:lnTo>
                  <a:lnTo>
                    <a:pt x="166" y="862"/>
                  </a:lnTo>
                  <a:lnTo>
                    <a:pt x="159" y="840"/>
                  </a:lnTo>
                  <a:lnTo>
                    <a:pt x="153" y="817"/>
                  </a:lnTo>
                  <a:lnTo>
                    <a:pt x="149" y="795"/>
                  </a:lnTo>
                  <a:lnTo>
                    <a:pt x="147" y="781"/>
                  </a:lnTo>
                  <a:lnTo>
                    <a:pt x="4" y="764"/>
                  </a:lnTo>
                  <a:lnTo>
                    <a:pt x="3" y="752"/>
                  </a:lnTo>
                  <a:lnTo>
                    <a:pt x="1" y="740"/>
                  </a:lnTo>
                  <a:lnTo>
                    <a:pt x="1" y="727"/>
                  </a:lnTo>
                  <a:lnTo>
                    <a:pt x="0" y="716"/>
                  </a:lnTo>
                  <a:lnTo>
                    <a:pt x="139" y="679"/>
                  </a:lnTo>
                  <a:lnTo>
                    <a:pt x="140" y="665"/>
                  </a:lnTo>
                  <a:lnTo>
                    <a:pt x="141" y="642"/>
                  </a:lnTo>
                  <a:lnTo>
                    <a:pt x="144" y="619"/>
                  </a:lnTo>
                  <a:lnTo>
                    <a:pt x="147" y="596"/>
                  </a:lnTo>
                  <a:lnTo>
                    <a:pt x="151" y="573"/>
                  </a:lnTo>
                  <a:lnTo>
                    <a:pt x="155" y="559"/>
                  </a:lnTo>
                  <a:lnTo>
                    <a:pt x="33" y="489"/>
                  </a:lnTo>
                  <a:lnTo>
                    <a:pt x="34" y="484"/>
                  </a:lnTo>
                  <a:lnTo>
                    <a:pt x="35" y="481"/>
                  </a:lnTo>
                  <a:lnTo>
                    <a:pt x="36" y="477"/>
                  </a:lnTo>
                  <a:lnTo>
                    <a:pt x="37" y="473"/>
                  </a:lnTo>
                  <a:lnTo>
                    <a:pt x="39" y="466"/>
                  </a:lnTo>
                  <a:lnTo>
                    <a:pt x="43" y="458"/>
                  </a:lnTo>
                  <a:lnTo>
                    <a:pt x="45" y="451"/>
                  </a:lnTo>
                  <a:lnTo>
                    <a:pt x="49" y="443"/>
                  </a:lnTo>
                  <a:lnTo>
                    <a:pt x="188" y="462"/>
                  </a:lnTo>
                  <a:lnTo>
                    <a:pt x="194" y="450"/>
                  </a:lnTo>
                  <a:lnTo>
                    <a:pt x="200" y="439"/>
                  </a:lnTo>
                  <a:lnTo>
                    <a:pt x="204" y="429"/>
                  </a:lnTo>
                  <a:lnTo>
                    <a:pt x="210" y="418"/>
                  </a:lnTo>
                  <a:lnTo>
                    <a:pt x="216" y="408"/>
                  </a:lnTo>
                  <a:lnTo>
                    <a:pt x="221" y="399"/>
                  </a:lnTo>
                  <a:lnTo>
                    <a:pt x="228" y="389"/>
                  </a:lnTo>
                  <a:lnTo>
                    <a:pt x="234" y="379"/>
                  </a:lnTo>
                  <a:lnTo>
                    <a:pt x="241" y="370"/>
                  </a:lnTo>
                  <a:lnTo>
                    <a:pt x="249" y="357"/>
                  </a:lnTo>
                  <a:lnTo>
                    <a:pt x="164" y="249"/>
                  </a:lnTo>
                  <a:lnTo>
                    <a:pt x="167" y="244"/>
                  </a:lnTo>
                  <a:lnTo>
                    <a:pt x="172" y="240"/>
                  </a:lnTo>
                  <a:lnTo>
                    <a:pt x="177" y="235"/>
                  </a:lnTo>
                  <a:lnTo>
                    <a:pt x="180" y="231"/>
                  </a:lnTo>
                  <a:lnTo>
                    <a:pt x="185" y="226"/>
                  </a:lnTo>
                  <a:lnTo>
                    <a:pt x="189" y="221"/>
                  </a:lnTo>
                  <a:lnTo>
                    <a:pt x="194" y="217"/>
                  </a:lnTo>
                  <a:lnTo>
                    <a:pt x="198" y="212"/>
                  </a:lnTo>
                  <a:lnTo>
                    <a:pt x="318" y="281"/>
                  </a:lnTo>
                  <a:lnTo>
                    <a:pt x="329" y="272"/>
                  </a:lnTo>
                  <a:lnTo>
                    <a:pt x="338" y="264"/>
                  </a:lnTo>
                  <a:lnTo>
                    <a:pt x="346" y="257"/>
                  </a:lnTo>
                  <a:lnTo>
                    <a:pt x="355" y="250"/>
                  </a:lnTo>
                  <a:lnTo>
                    <a:pt x="364" y="243"/>
                  </a:lnTo>
                  <a:lnTo>
                    <a:pt x="373" y="238"/>
                  </a:lnTo>
                  <a:lnTo>
                    <a:pt x="383" y="232"/>
                  </a:lnTo>
                  <a:lnTo>
                    <a:pt x="392" y="225"/>
                  </a:lnTo>
                  <a:lnTo>
                    <a:pt x="401" y="219"/>
                  </a:lnTo>
                  <a:lnTo>
                    <a:pt x="414" y="211"/>
                  </a:lnTo>
                  <a:lnTo>
                    <a:pt x="377" y="79"/>
                  </a:lnTo>
                  <a:lnTo>
                    <a:pt x="383" y="76"/>
                  </a:lnTo>
                  <a:lnTo>
                    <a:pt x="388" y="73"/>
                  </a:lnTo>
                  <a:lnTo>
                    <a:pt x="394" y="70"/>
                  </a:lnTo>
                  <a:lnTo>
                    <a:pt x="400" y="67"/>
                  </a:lnTo>
                  <a:lnTo>
                    <a:pt x="406" y="65"/>
                  </a:lnTo>
                  <a:lnTo>
                    <a:pt x="413" y="62"/>
                  </a:lnTo>
                  <a:lnTo>
                    <a:pt x="418" y="59"/>
                  </a:lnTo>
                  <a:lnTo>
                    <a:pt x="424" y="57"/>
                  </a:lnTo>
                  <a:lnTo>
                    <a:pt x="507" y="167"/>
                  </a:lnTo>
                  <a:lnTo>
                    <a:pt x="521" y="163"/>
                  </a:lnTo>
                  <a:lnTo>
                    <a:pt x="531" y="159"/>
                  </a:lnTo>
                  <a:lnTo>
                    <a:pt x="542" y="156"/>
                  </a:lnTo>
                  <a:lnTo>
                    <a:pt x="552" y="153"/>
                  </a:lnTo>
                  <a:lnTo>
                    <a:pt x="562" y="150"/>
                  </a:lnTo>
                  <a:lnTo>
                    <a:pt x="573" y="148"/>
                  </a:lnTo>
                  <a:lnTo>
                    <a:pt x="583" y="145"/>
                  </a:lnTo>
                  <a:lnTo>
                    <a:pt x="593" y="143"/>
                  </a:lnTo>
                  <a:lnTo>
                    <a:pt x="604" y="141"/>
                  </a:lnTo>
                  <a:lnTo>
                    <a:pt x="619" y="138"/>
                  </a:lnTo>
                  <a:lnTo>
                    <a:pt x="636" y="4"/>
                  </a:lnTo>
                  <a:lnTo>
                    <a:pt x="643" y="2"/>
                  </a:lnTo>
                  <a:lnTo>
                    <a:pt x="649" y="2"/>
                  </a:lnTo>
                  <a:lnTo>
                    <a:pt x="656" y="1"/>
                  </a:lnTo>
                  <a:lnTo>
                    <a:pt x="662" y="1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83" y="0"/>
                  </a:lnTo>
                  <a:lnTo>
                    <a:pt x="690" y="0"/>
                  </a:lnTo>
                  <a:lnTo>
                    <a:pt x="725" y="134"/>
                  </a:lnTo>
                  <a:lnTo>
                    <a:pt x="738" y="135"/>
                  </a:lnTo>
                  <a:lnTo>
                    <a:pt x="749" y="136"/>
                  </a:lnTo>
                  <a:lnTo>
                    <a:pt x="759" y="137"/>
                  </a:lnTo>
                  <a:lnTo>
                    <a:pt x="770" y="138"/>
                  </a:lnTo>
                  <a:lnTo>
                    <a:pt x="780" y="140"/>
                  </a:lnTo>
                  <a:lnTo>
                    <a:pt x="790" y="142"/>
                  </a:lnTo>
                  <a:lnTo>
                    <a:pt x="801" y="143"/>
                  </a:lnTo>
                  <a:lnTo>
                    <a:pt x="811" y="145"/>
                  </a:lnTo>
                  <a:lnTo>
                    <a:pt x="821" y="148"/>
                  </a:lnTo>
                  <a:lnTo>
                    <a:pt x="836" y="151"/>
                  </a:lnTo>
                  <a:lnTo>
                    <a:pt x="904" y="31"/>
                  </a:lnTo>
                  <a:lnTo>
                    <a:pt x="911" y="34"/>
                  </a:lnTo>
                  <a:lnTo>
                    <a:pt x="917" y="36"/>
                  </a:lnTo>
                  <a:lnTo>
                    <a:pt x="923" y="38"/>
                  </a:lnTo>
                  <a:lnTo>
                    <a:pt x="930" y="41"/>
                  </a:lnTo>
                  <a:lnTo>
                    <a:pt x="935" y="43"/>
                  </a:lnTo>
                  <a:lnTo>
                    <a:pt x="942" y="45"/>
                  </a:lnTo>
                  <a:lnTo>
                    <a:pt x="949" y="47"/>
                  </a:lnTo>
                  <a:lnTo>
                    <a:pt x="956" y="50"/>
                  </a:lnTo>
                  <a:lnTo>
                    <a:pt x="937" y="188"/>
                  </a:lnTo>
                  <a:lnTo>
                    <a:pt x="949" y="195"/>
                  </a:lnTo>
                  <a:lnTo>
                    <a:pt x="958" y="200"/>
                  </a:lnTo>
                  <a:lnTo>
                    <a:pt x="968" y="204"/>
                  </a:lnTo>
                  <a:lnTo>
                    <a:pt x="976" y="209"/>
                  </a:lnTo>
                  <a:lnTo>
                    <a:pt x="985" y="213"/>
                  </a:lnTo>
                  <a:lnTo>
                    <a:pt x="993" y="219"/>
                  </a:lnTo>
                  <a:lnTo>
                    <a:pt x="1002" y="224"/>
                  </a:lnTo>
                  <a:lnTo>
                    <a:pt x="1010" y="229"/>
                  </a:lnTo>
                  <a:lnTo>
                    <a:pt x="1018" y="235"/>
                  </a:lnTo>
                  <a:lnTo>
                    <a:pt x="1030" y="244"/>
                  </a:lnTo>
                  <a:lnTo>
                    <a:pt x="1140" y="159"/>
                  </a:lnTo>
                  <a:lnTo>
                    <a:pt x="1146" y="164"/>
                  </a:lnTo>
                  <a:lnTo>
                    <a:pt x="1151" y="168"/>
                  </a:lnTo>
                  <a:lnTo>
                    <a:pt x="1157" y="173"/>
                  </a:lnTo>
                  <a:lnTo>
                    <a:pt x="1161" y="178"/>
                  </a:lnTo>
                  <a:lnTo>
                    <a:pt x="1167" y="182"/>
                  </a:lnTo>
                  <a:lnTo>
                    <a:pt x="1171" y="187"/>
                  </a:lnTo>
                  <a:lnTo>
                    <a:pt x="1177" y="191"/>
                  </a:lnTo>
                  <a:lnTo>
                    <a:pt x="1182" y="196"/>
                  </a:lnTo>
                  <a:lnTo>
                    <a:pt x="1110" y="317"/>
                  </a:lnTo>
                  <a:lnTo>
                    <a:pt x="1120" y="327"/>
                  </a:lnTo>
                  <a:lnTo>
                    <a:pt x="1127" y="334"/>
                  </a:lnTo>
                  <a:lnTo>
                    <a:pt x="1132" y="342"/>
                  </a:lnTo>
                  <a:lnTo>
                    <a:pt x="1138" y="350"/>
                  </a:lnTo>
                  <a:lnTo>
                    <a:pt x="1144" y="357"/>
                  </a:lnTo>
                  <a:lnTo>
                    <a:pt x="1150" y="365"/>
                  </a:lnTo>
                  <a:lnTo>
                    <a:pt x="1155" y="374"/>
                  </a:lnTo>
                  <a:lnTo>
                    <a:pt x="1160" y="382"/>
                  </a:lnTo>
                  <a:lnTo>
                    <a:pt x="1166" y="390"/>
                  </a:lnTo>
                  <a:lnTo>
                    <a:pt x="1174" y="402"/>
                  </a:lnTo>
                  <a:lnTo>
                    <a:pt x="1310" y="364"/>
                  </a:lnTo>
                  <a:lnTo>
                    <a:pt x="1317" y="377"/>
                  </a:lnTo>
                  <a:lnTo>
                    <a:pt x="1323" y="390"/>
                  </a:lnTo>
                  <a:lnTo>
                    <a:pt x="1329" y="402"/>
                  </a:lnTo>
                  <a:lnTo>
                    <a:pt x="1335" y="416"/>
                  </a:lnTo>
                  <a:lnTo>
                    <a:pt x="1222" y="501"/>
                  </a:lnTo>
                  <a:lnTo>
                    <a:pt x="1227" y="515"/>
                  </a:lnTo>
                  <a:lnTo>
                    <a:pt x="1231" y="533"/>
                  </a:lnTo>
                  <a:lnTo>
                    <a:pt x="1237" y="551"/>
                  </a:lnTo>
                  <a:lnTo>
                    <a:pt x="1242" y="569"/>
                  </a:lnTo>
                  <a:lnTo>
                    <a:pt x="1245" y="588"/>
                  </a:lnTo>
                  <a:lnTo>
                    <a:pt x="1247" y="603"/>
                  </a:lnTo>
                  <a:lnTo>
                    <a:pt x="1390" y="620"/>
                  </a:lnTo>
                  <a:lnTo>
                    <a:pt x="1391" y="634"/>
                  </a:lnTo>
                  <a:lnTo>
                    <a:pt x="1393" y="648"/>
                  </a:lnTo>
                  <a:lnTo>
                    <a:pt x="1394" y="663"/>
                  </a:lnTo>
                  <a:lnTo>
                    <a:pt x="1395" y="677"/>
                  </a:lnTo>
                  <a:lnTo>
                    <a:pt x="1254" y="713"/>
                  </a:lnTo>
                  <a:lnTo>
                    <a:pt x="1253" y="727"/>
                  </a:lnTo>
                  <a:lnTo>
                    <a:pt x="1252" y="746"/>
                  </a:lnTo>
                  <a:lnTo>
                    <a:pt x="1250" y="764"/>
                  </a:lnTo>
                  <a:lnTo>
                    <a:pt x="1247" y="783"/>
                  </a:lnTo>
                  <a:lnTo>
                    <a:pt x="1244" y="801"/>
                  </a:lnTo>
                  <a:lnTo>
                    <a:pt x="1241" y="816"/>
                  </a:lnTo>
                  <a:lnTo>
                    <a:pt x="1368" y="889"/>
                  </a:lnTo>
                  <a:lnTo>
                    <a:pt x="1364" y="902"/>
                  </a:lnTo>
                  <a:lnTo>
                    <a:pt x="1360" y="916"/>
                  </a:lnTo>
                  <a:lnTo>
                    <a:pt x="1356" y="929"/>
                  </a:lnTo>
                  <a:lnTo>
                    <a:pt x="1351" y="942"/>
                  </a:lnTo>
                  <a:lnTo>
                    <a:pt x="1205" y="921"/>
                  </a:lnTo>
                  <a:lnTo>
                    <a:pt x="1199" y="935"/>
                  </a:lnTo>
                  <a:lnTo>
                    <a:pt x="1195" y="943"/>
                  </a:lnTo>
                  <a:lnTo>
                    <a:pt x="1190" y="952"/>
                  </a:lnTo>
                  <a:lnTo>
                    <a:pt x="1186" y="960"/>
                  </a:lnTo>
                  <a:lnTo>
                    <a:pt x="1182" y="968"/>
                  </a:lnTo>
                  <a:lnTo>
                    <a:pt x="1177" y="976"/>
                  </a:lnTo>
                  <a:lnTo>
                    <a:pt x="1173" y="984"/>
                  </a:lnTo>
                  <a:lnTo>
                    <a:pt x="1167" y="992"/>
                  </a:lnTo>
                  <a:lnTo>
                    <a:pt x="1162" y="999"/>
                  </a:lnTo>
                  <a:lnTo>
                    <a:pt x="1154" y="1012"/>
                  </a:lnTo>
                  <a:lnTo>
                    <a:pt x="1246" y="1129"/>
                  </a:lnTo>
                  <a:lnTo>
                    <a:pt x="1242" y="1134"/>
                  </a:lnTo>
                  <a:lnTo>
                    <a:pt x="1237" y="1140"/>
                  </a:lnTo>
                  <a:lnTo>
                    <a:pt x="1233" y="1144"/>
                  </a:lnTo>
                  <a:lnTo>
                    <a:pt x="1229" y="1150"/>
                  </a:lnTo>
                  <a:lnTo>
                    <a:pt x="1224" y="1155"/>
                  </a:lnTo>
                  <a:lnTo>
                    <a:pt x="1220" y="1161"/>
                  </a:lnTo>
                  <a:lnTo>
                    <a:pt x="1215" y="1165"/>
                  </a:lnTo>
                  <a:lnTo>
                    <a:pt x="1211" y="1171"/>
                  </a:lnTo>
                  <a:lnTo>
                    <a:pt x="1083" y="1095"/>
                  </a:lnTo>
                  <a:lnTo>
                    <a:pt x="1071" y="1105"/>
                  </a:lnTo>
                  <a:lnTo>
                    <a:pt x="1064" y="1112"/>
                  </a:lnTo>
                  <a:lnTo>
                    <a:pt x="1056" y="1118"/>
                  </a:lnTo>
                  <a:lnTo>
                    <a:pt x="1049" y="1124"/>
                  </a:lnTo>
                  <a:lnTo>
                    <a:pt x="1041" y="1131"/>
                  </a:lnTo>
                  <a:lnTo>
                    <a:pt x="1034" y="1136"/>
                  </a:lnTo>
                  <a:lnTo>
                    <a:pt x="1026" y="1142"/>
                  </a:lnTo>
                  <a:lnTo>
                    <a:pt x="1019" y="1147"/>
                  </a:lnTo>
                  <a:lnTo>
                    <a:pt x="1011" y="1153"/>
                  </a:lnTo>
                  <a:lnTo>
                    <a:pt x="1000" y="1161"/>
                  </a:lnTo>
                  <a:lnTo>
                    <a:pt x="1039" y="1306"/>
                  </a:lnTo>
                  <a:lnTo>
                    <a:pt x="1033" y="1309"/>
                  </a:lnTo>
                  <a:lnTo>
                    <a:pt x="1028" y="1313"/>
                  </a:lnTo>
                  <a:lnTo>
                    <a:pt x="1022" y="1316"/>
                  </a:lnTo>
                  <a:lnTo>
                    <a:pt x="1016" y="1318"/>
                  </a:lnTo>
                  <a:lnTo>
                    <a:pt x="1010" y="1322"/>
                  </a:lnTo>
                  <a:lnTo>
                    <a:pt x="1003" y="1324"/>
                  </a:lnTo>
                  <a:lnTo>
                    <a:pt x="998" y="1328"/>
                  </a:lnTo>
                  <a:lnTo>
                    <a:pt x="992" y="1330"/>
                  </a:lnTo>
                  <a:lnTo>
                    <a:pt x="902" y="1211"/>
                  </a:lnTo>
                  <a:lnTo>
                    <a:pt x="888" y="1216"/>
                  </a:lnTo>
                  <a:lnTo>
                    <a:pt x="879" y="1219"/>
                  </a:lnTo>
                  <a:lnTo>
                    <a:pt x="870" y="1223"/>
                  </a:lnTo>
                  <a:lnTo>
                    <a:pt x="859" y="1225"/>
                  </a:lnTo>
                  <a:lnTo>
                    <a:pt x="850" y="1229"/>
                  </a:lnTo>
                  <a:lnTo>
                    <a:pt x="841" y="1231"/>
                  </a:lnTo>
                  <a:lnTo>
                    <a:pt x="832" y="1233"/>
                  </a:lnTo>
                  <a:lnTo>
                    <a:pt x="821" y="1235"/>
                  </a:lnTo>
                  <a:lnTo>
                    <a:pt x="812" y="1238"/>
                  </a:lnTo>
                  <a:lnTo>
                    <a:pt x="798" y="124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94600" y="4429080"/>
              <a:ext cx="165240" cy="126360"/>
            </a:xfrm>
            <a:custGeom>
              <a:avLst/>
              <a:gdLst/>
              <a:ahLst/>
              <a:rect l="l" t="t" r="r" b="b"/>
              <a:pathLst>
                <a:path w="592" h="593">
                  <a:moveTo>
                    <a:pt x="133" y="544"/>
                  </a:moveTo>
                  <a:lnTo>
                    <a:pt x="87" y="506"/>
                  </a:lnTo>
                  <a:lnTo>
                    <a:pt x="50" y="459"/>
                  </a:lnTo>
                  <a:lnTo>
                    <a:pt x="23" y="409"/>
                  </a:lnTo>
                  <a:lnTo>
                    <a:pt x="7" y="355"/>
                  </a:lnTo>
                  <a:lnTo>
                    <a:pt x="0" y="298"/>
                  </a:lnTo>
                  <a:lnTo>
                    <a:pt x="6" y="240"/>
                  </a:lnTo>
                  <a:lnTo>
                    <a:pt x="22" y="185"/>
                  </a:lnTo>
                  <a:lnTo>
                    <a:pt x="50" y="132"/>
                  </a:lnTo>
                  <a:lnTo>
                    <a:pt x="59" y="121"/>
                  </a:lnTo>
                  <a:lnTo>
                    <a:pt x="67" y="108"/>
                  </a:lnTo>
                  <a:lnTo>
                    <a:pt x="77" y="98"/>
                  </a:lnTo>
                  <a:lnTo>
                    <a:pt x="88" y="87"/>
                  </a:lnTo>
                  <a:lnTo>
                    <a:pt x="98" y="77"/>
                  </a:lnTo>
                  <a:lnTo>
                    <a:pt x="109" y="68"/>
                  </a:lnTo>
                  <a:lnTo>
                    <a:pt x="120" y="58"/>
                  </a:lnTo>
                  <a:lnTo>
                    <a:pt x="132" y="50"/>
                  </a:lnTo>
                  <a:lnTo>
                    <a:pt x="143" y="42"/>
                  </a:lnTo>
                  <a:lnTo>
                    <a:pt x="156" y="35"/>
                  </a:lnTo>
                  <a:lnTo>
                    <a:pt x="168" y="28"/>
                  </a:lnTo>
                  <a:lnTo>
                    <a:pt x="182" y="23"/>
                  </a:lnTo>
                  <a:lnTo>
                    <a:pt x="195" y="17"/>
                  </a:lnTo>
                  <a:lnTo>
                    <a:pt x="209" y="12"/>
                  </a:lnTo>
                  <a:lnTo>
                    <a:pt x="224" y="9"/>
                  </a:lnTo>
                  <a:lnTo>
                    <a:pt x="238" y="5"/>
                  </a:lnTo>
                  <a:lnTo>
                    <a:pt x="253" y="3"/>
                  </a:lnTo>
                  <a:lnTo>
                    <a:pt x="266" y="1"/>
                  </a:lnTo>
                  <a:lnTo>
                    <a:pt x="281" y="0"/>
                  </a:lnTo>
                  <a:lnTo>
                    <a:pt x="295" y="0"/>
                  </a:lnTo>
                  <a:lnTo>
                    <a:pt x="310" y="0"/>
                  </a:lnTo>
                  <a:lnTo>
                    <a:pt x="324" y="1"/>
                  </a:lnTo>
                  <a:lnTo>
                    <a:pt x="339" y="3"/>
                  </a:lnTo>
                  <a:lnTo>
                    <a:pt x="353" y="5"/>
                  </a:lnTo>
                  <a:lnTo>
                    <a:pt x="367" y="9"/>
                  </a:lnTo>
                  <a:lnTo>
                    <a:pt x="381" y="12"/>
                  </a:lnTo>
                  <a:lnTo>
                    <a:pt x="394" y="17"/>
                  </a:lnTo>
                  <a:lnTo>
                    <a:pt x="408" y="22"/>
                  </a:lnTo>
                  <a:lnTo>
                    <a:pt x="422" y="27"/>
                  </a:lnTo>
                  <a:lnTo>
                    <a:pt x="434" y="34"/>
                  </a:lnTo>
                  <a:lnTo>
                    <a:pt x="447" y="41"/>
                  </a:lnTo>
                  <a:lnTo>
                    <a:pt x="460" y="49"/>
                  </a:lnTo>
                  <a:lnTo>
                    <a:pt x="506" y="87"/>
                  </a:lnTo>
                  <a:lnTo>
                    <a:pt x="543" y="133"/>
                  </a:lnTo>
                  <a:lnTo>
                    <a:pt x="569" y="184"/>
                  </a:lnTo>
                  <a:lnTo>
                    <a:pt x="586" y="238"/>
                  </a:lnTo>
                  <a:lnTo>
                    <a:pt x="592" y="295"/>
                  </a:lnTo>
                  <a:lnTo>
                    <a:pt x="586" y="352"/>
                  </a:lnTo>
                  <a:lnTo>
                    <a:pt x="570" y="408"/>
                  </a:lnTo>
                  <a:lnTo>
                    <a:pt x="543" y="461"/>
                  </a:lnTo>
                  <a:lnTo>
                    <a:pt x="535" y="472"/>
                  </a:lnTo>
                  <a:lnTo>
                    <a:pt x="525" y="485"/>
                  </a:lnTo>
                  <a:lnTo>
                    <a:pt x="516" y="495"/>
                  </a:lnTo>
                  <a:lnTo>
                    <a:pt x="506" y="506"/>
                  </a:lnTo>
                  <a:lnTo>
                    <a:pt x="495" y="516"/>
                  </a:lnTo>
                  <a:lnTo>
                    <a:pt x="484" y="525"/>
                  </a:lnTo>
                  <a:lnTo>
                    <a:pt x="472" y="534"/>
                  </a:lnTo>
                  <a:lnTo>
                    <a:pt x="461" y="542"/>
                  </a:lnTo>
                  <a:lnTo>
                    <a:pt x="449" y="550"/>
                  </a:lnTo>
                  <a:lnTo>
                    <a:pt x="437" y="557"/>
                  </a:lnTo>
                  <a:lnTo>
                    <a:pt x="424" y="564"/>
                  </a:lnTo>
                  <a:lnTo>
                    <a:pt x="410" y="570"/>
                  </a:lnTo>
                  <a:lnTo>
                    <a:pt x="396" y="576"/>
                  </a:lnTo>
                  <a:lnTo>
                    <a:pt x="383" y="580"/>
                  </a:lnTo>
                  <a:lnTo>
                    <a:pt x="369" y="584"/>
                  </a:lnTo>
                  <a:lnTo>
                    <a:pt x="354" y="587"/>
                  </a:lnTo>
                  <a:lnTo>
                    <a:pt x="339" y="590"/>
                  </a:lnTo>
                  <a:lnTo>
                    <a:pt x="325" y="592"/>
                  </a:lnTo>
                  <a:lnTo>
                    <a:pt x="310" y="593"/>
                  </a:lnTo>
                  <a:lnTo>
                    <a:pt x="296" y="593"/>
                  </a:lnTo>
                  <a:lnTo>
                    <a:pt x="281" y="593"/>
                  </a:lnTo>
                  <a:lnTo>
                    <a:pt x="267" y="592"/>
                  </a:lnTo>
                  <a:lnTo>
                    <a:pt x="253" y="590"/>
                  </a:lnTo>
                  <a:lnTo>
                    <a:pt x="239" y="587"/>
                  </a:lnTo>
                  <a:lnTo>
                    <a:pt x="225" y="584"/>
                  </a:lnTo>
                  <a:lnTo>
                    <a:pt x="211" y="580"/>
                  </a:lnTo>
                  <a:lnTo>
                    <a:pt x="197" y="576"/>
                  </a:lnTo>
                  <a:lnTo>
                    <a:pt x="183" y="571"/>
                  </a:lnTo>
                  <a:lnTo>
                    <a:pt x="171" y="565"/>
                  </a:lnTo>
                  <a:lnTo>
                    <a:pt x="158" y="559"/>
                  </a:lnTo>
                  <a:lnTo>
                    <a:pt x="145" y="552"/>
                  </a:lnTo>
                  <a:lnTo>
                    <a:pt x="133" y="544"/>
                  </a:lnTo>
                  <a:close/>
                </a:path>
              </a:pathLst>
            </a:custGeom>
            <a:solidFill>
              <a:srgbClr val="77777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21400" y="4478040"/>
              <a:ext cx="71028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968640" y="2759040"/>
            <a:ext cx="803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57680" y="4071960"/>
            <a:ext cx="1131840" cy="1949400"/>
          </a:xfrm>
          <a:prstGeom prst="rect">
            <a:avLst/>
          </a:prstGeom>
          <a:solidFill>
            <a:srgbClr val="9933ff">
              <a:alpha val="23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1080" y="21337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28760" y="21337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66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86320" y="207648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Offerors,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657680" y="4071960"/>
            <a:ext cx="1131840" cy="1959120"/>
          </a:xfrm>
          <a:prstGeom prst="rect">
            <a:avLst/>
          </a:prstGeom>
          <a:solidFill>
            <a:srgbClr val="9933ff">
              <a:alpha val="23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4200" y="2514600"/>
            <a:ext cx="1508400" cy="3701880"/>
          </a:xfrm>
          <a:prstGeom prst="rect">
            <a:avLst/>
          </a:prstGeom>
          <a:solidFill>
            <a:srgbClr val="00cc99">
              <a:alpha val="24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39920" y="2511360"/>
            <a:ext cx="1622520" cy="3687840"/>
          </a:xfrm>
          <a:prstGeom prst="rect">
            <a:avLst/>
          </a:prstGeom>
          <a:solidFill>
            <a:srgbClr val="ffcc99">
              <a:alpha val="32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08640" y="2522520"/>
            <a:ext cx="4303440" cy="3662280"/>
          </a:xfrm>
          <a:prstGeom prst="rect">
            <a:avLst/>
          </a:prstGeom>
          <a:solidFill>
            <a:srgbClr val="ffffc2">
              <a:alpha val="43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98600" y="2984400"/>
            <a:ext cx="108432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01920" y="2905200"/>
            <a:ext cx="108432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38280" y="966600"/>
            <a:ext cx="606096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GEOSS Architecture</a:t>
            </a:r>
            <a:br>
              <a:rPr sz="1800"/>
            </a:b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 for the Air Quality Community (March 2008)</a:t>
            </a:r>
            <a:endParaRPr b="1" lang="en-US" sz="1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360360" y="4253040"/>
            <a:ext cx="1095480" cy="453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SS Co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87680" y="2840040"/>
            <a:ext cx="108432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Q 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81120" y="2786040"/>
            <a:ext cx="668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ra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29040" y="5419800"/>
            <a:ext cx="824040" cy="514440"/>
          </a:xfrm>
          <a:prstGeom prst="ellipse">
            <a:avLst/>
          </a:prstGeom>
          <a:solidFill>
            <a:srgbClr val="9933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e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04880" y="4551480"/>
            <a:ext cx="7171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5960" y="2776680"/>
            <a:ext cx="116856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earing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7120" y="3728880"/>
            <a:ext cx="9255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talog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860480" y="3689280"/>
            <a:ext cx="812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rches,  harv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40240" y="3568680"/>
            <a:ext cx="873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nvo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17" idx="2"/>
            <a:endCxn id="307" idx="3"/>
          </p:cNvCxnSpPr>
          <p:nvPr/>
        </p:nvCxnSpPr>
        <p:spPr>
          <a:xfrm flipV="1" rot="10800000">
            <a:off x="1455120" y="4456800"/>
            <a:ext cx="1134000" cy="2268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10" idx="0"/>
            <a:endCxn id="319" idx="2"/>
          </p:cNvCxnSpPr>
          <p:nvPr/>
        </p:nvCxnSpPr>
        <p:spPr>
          <a:xfrm flipV="1" rot="16200000">
            <a:off x="4902480" y="5080320"/>
            <a:ext cx="659520" cy="19800"/>
          </a:xfrm>
          <a:prstGeom prst="curvedConnector5">
            <a:avLst>
              <a:gd name="adj1" fmla="val 49863"/>
              <a:gd name="adj2" fmla="val 50000"/>
              <a:gd name="adj3" fmla="val 49863"/>
            </a:avLst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853920" y="5057640"/>
            <a:ext cx="8524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2" idx="4"/>
            <a:endCxn id="319" idx="0"/>
          </p:cNvCxnSpPr>
          <p:nvPr/>
        </p:nvCxnSpPr>
        <p:spPr>
          <a:xfrm rot="5400000">
            <a:off x="4776120" y="3744720"/>
            <a:ext cx="894600" cy="2160"/>
          </a:xfrm>
          <a:prstGeom prst="curvedConnector5">
            <a:avLst>
              <a:gd name="adj1" fmla="val 49879"/>
              <a:gd name="adj2" fmla="val 40000"/>
              <a:gd name="adj3" fmla="val 49879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3" name=""/>
          <p:cNvCxnSpPr>
            <a:stCxn id="312" idx="2"/>
            <a:endCxn id="317" idx="1"/>
          </p:cNvCxnSpPr>
          <p:nvPr/>
        </p:nvCxnSpPr>
        <p:spPr>
          <a:xfrm flipH="1" rot="16200000">
            <a:off x="1536480" y="2689920"/>
            <a:ext cx="905760" cy="212004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308" idx="1"/>
            <a:endCxn id="312" idx="3"/>
          </p:cNvCxnSpPr>
          <p:nvPr/>
        </p:nvCxnSpPr>
        <p:spPr>
          <a:xfrm rot="10800000">
            <a:off x="1513800" y="3036240"/>
            <a:ext cx="1073520" cy="1332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3400560" y="5160960"/>
            <a:ext cx="1155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ubli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13120" y="506412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2440" y="5438880"/>
            <a:ext cx="1095480" cy="46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 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07" idx="2"/>
            <a:endCxn id="327" idx="0"/>
          </p:cNvCxnSpPr>
          <p:nvPr/>
        </p:nvCxnSpPr>
        <p:spPr>
          <a:xfrm rot="5400000">
            <a:off x="537480" y="5068800"/>
            <a:ext cx="732600" cy="8640"/>
          </a:xfrm>
          <a:prstGeom prst="curvedConnector5">
            <a:avLst>
              <a:gd name="adj1" fmla="val 49852"/>
              <a:gd name="adj2" fmla="val 47826"/>
              <a:gd name="adj3" fmla="val 4985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07" idx="0"/>
            <a:endCxn id="312" idx="2"/>
          </p:cNvCxnSpPr>
          <p:nvPr/>
        </p:nvCxnSpPr>
        <p:spPr>
          <a:xfrm flipH="1" flipV="1" rot="5400000">
            <a:off x="441000" y="3763440"/>
            <a:ext cx="956520" cy="23040"/>
          </a:xfrm>
          <a:prstGeom prst="curvedConnector5">
            <a:avLst>
              <a:gd name="adj1" fmla="val 50000"/>
              <a:gd name="adj2" fmla="val 49206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5699160" y="6330960"/>
            <a:ext cx="344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opted from 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ercivall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, Feb 2008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by R. Husar, March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17760" y="4313160"/>
            <a:ext cx="919080" cy="5097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08120" y="4254480"/>
            <a:ext cx="919440" cy="5097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89120" y="4202280"/>
            <a:ext cx="919080" cy="5094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Q Cat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310" idx="2"/>
            <a:endCxn id="317" idx="3"/>
          </p:cNvCxnSpPr>
          <p:nvPr/>
        </p:nvCxnSpPr>
        <p:spPr>
          <a:xfrm rot="10800000">
            <a:off x="3048840" y="4710960"/>
            <a:ext cx="1780200" cy="965880"/>
          </a:xfrm>
          <a:prstGeom prst="curvedConnector2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34" name=""/>
          <p:cNvSpPr/>
          <p:nvPr/>
        </p:nvSpPr>
        <p:spPr>
          <a:xfrm>
            <a:off x="3998880" y="278280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86280" y="307008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95640" y="291924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86280" y="319716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79800" y="332892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22" idx="2"/>
            <a:endCxn id="335" idx="7"/>
          </p:cNvCxnSpPr>
          <p:nvPr/>
        </p:nvCxnSpPr>
        <p:spPr>
          <a:xfrm flipH="1">
            <a:off x="4061880" y="3041280"/>
            <a:ext cx="750240" cy="41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4811760" y="2784600"/>
            <a:ext cx="824040" cy="514080"/>
          </a:xfrm>
          <a:prstGeom prst="ellipse">
            <a:avLst/>
          </a:prstGeom>
          <a:solidFill>
            <a:srgbClr val="ff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5" idx="2"/>
            <a:endCxn id="308" idx="3"/>
          </p:cNvCxnSpPr>
          <p:nvPr/>
        </p:nvCxnSpPr>
        <p:spPr>
          <a:xfrm flipH="1" flipV="1">
            <a:off x="3671280" y="3049200"/>
            <a:ext cx="315000" cy="65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22" idx="6"/>
            <a:endCxn id="342" idx="1"/>
          </p:cNvCxnSpPr>
          <p:nvPr/>
        </p:nvCxnSpPr>
        <p:spPr>
          <a:xfrm>
            <a:off x="5635440" y="3041280"/>
            <a:ext cx="689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>
            <a:off x="6283440" y="2884320"/>
            <a:ext cx="129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24480" y="2808360"/>
            <a:ext cx="928800" cy="459000"/>
          </a:xfrm>
          <a:prstGeom prst="rect">
            <a:avLst/>
          </a:prstGeom>
          <a:solidFill>
            <a:srgbClr val="ff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 Work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99000" y="2762280"/>
            <a:ext cx="812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3"/>
            <a:endCxn id="346" idx="2"/>
          </p:cNvCxnSpPr>
          <p:nvPr/>
        </p:nvCxnSpPr>
        <p:spPr>
          <a:xfrm flipV="1">
            <a:off x="7253280" y="3012480"/>
            <a:ext cx="603720" cy="2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34" idx="2"/>
            <a:endCxn id="308" idx="3"/>
          </p:cNvCxnSpPr>
          <p:nvPr/>
        </p:nvCxnSpPr>
        <p:spPr>
          <a:xfrm flipH="1">
            <a:off x="3671640" y="2827080"/>
            <a:ext cx="327600" cy="22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36" idx="2"/>
            <a:endCxn id="308" idx="3"/>
          </p:cNvCxnSpPr>
          <p:nvPr/>
        </p:nvCxnSpPr>
        <p:spPr>
          <a:xfrm flipH="1">
            <a:off x="3671280" y="2963880"/>
            <a:ext cx="324360" cy="86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7" idx="2"/>
            <a:endCxn id="308" idx="3"/>
          </p:cNvCxnSpPr>
          <p:nvPr/>
        </p:nvCxnSpPr>
        <p:spPr>
          <a:xfrm flipH="1" flipV="1">
            <a:off x="3671280" y="3049200"/>
            <a:ext cx="315000" cy="192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38" idx="2"/>
            <a:endCxn id="308" idx="3"/>
          </p:cNvCxnSpPr>
          <p:nvPr/>
        </p:nvCxnSpPr>
        <p:spPr>
          <a:xfrm flipH="1" flipV="1">
            <a:off x="3671280" y="3049200"/>
            <a:ext cx="308520" cy="324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6" name=""/>
          <p:cNvSpPr/>
          <p:nvPr/>
        </p:nvSpPr>
        <p:spPr>
          <a:xfrm>
            <a:off x="7856640" y="2755800"/>
            <a:ext cx="823680" cy="514440"/>
          </a:xfrm>
          <a:prstGeom prst="ellipse">
            <a:avLst/>
          </a:prstGeom>
          <a:solidFill>
            <a:srgbClr val="ff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01080" y="2784600"/>
            <a:ext cx="8125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sualiz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6" idx="4"/>
            <a:endCxn id="353" idx="0"/>
          </p:cNvCxnSpPr>
          <p:nvPr/>
        </p:nvCxnSpPr>
        <p:spPr>
          <a:xfrm>
            <a:off x="8268840" y="3269880"/>
            <a:ext cx="540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"/>
          <p:cNvSpPr/>
          <p:nvPr/>
        </p:nvSpPr>
        <p:spPr>
          <a:xfrm>
            <a:off x="7540560" y="3370320"/>
            <a:ext cx="673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862760" y="5324400"/>
            <a:ext cx="824040" cy="514440"/>
          </a:xfrm>
          <a:prstGeom prst="ellipse">
            <a:avLst/>
          </a:prstGeom>
          <a:solidFill>
            <a:srgbClr val="ff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861320" y="4032360"/>
            <a:ext cx="824040" cy="514080"/>
          </a:xfrm>
          <a:prstGeom prst="ellipse">
            <a:avLst/>
          </a:prstGeom>
          <a:solidFill>
            <a:srgbClr val="ff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3" idx="4"/>
            <a:endCxn id="355" idx="0"/>
          </p:cNvCxnSpPr>
          <p:nvPr/>
        </p:nvCxnSpPr>
        <p:spPr>
          <a:xfrm>
            <a:off x="8273520" y="4546080"/>
            <a:ext cx="2520" cy="778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"/>
          <p:cNvSpPr/>
          <p:nvPr/>
        </p:nvSpPr>
        <p:spPr>
          <a:xfrm>
            <a:off x="7496280" y="4718160"/>
            <a:ext cx="672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721400" y="4192560"/>
            <a:ext cx="961560" cy="568440"/>
            <a:chOff x="4721400" y="4192560"/>
            <a:chExt cx="961560" cy="568440"/>
          </a:xfrm>
        </p:grpSpPr>
        <p:sp>
          <p:nvSpPr>
            <p:cNvPr id="319" name=""/>
            <p:cNvSpPr/>
            <p:nvPr/>
          </p:nvSpPr>
          <p:spPr>
            <a:xfrm>
              <a:off x="4762440" y="4192560"/>
              <a:ext cx="920520" cy="568440"/>
            </a:xfrm>
            <a:prstGeom prst="rect">
              <a:avLst/>
            </a:prstGeom>
            <a:solidFill>
              <a:srgbClr val="9933f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71240" y="4216680"/>
              <a:ext cx="389160" cy="297720"/>
            </a:xfrm>
            <a:custGeom>
              <a:avLst/>
              <a:gdLst/>
              <a:ahLst/>
              <a:rect l="l" t="t" r="r" b="b"/>
              <a:pathLst>
                <a:path w="1395" h="1396">
                  <a:moveTo>
                    <a:pt x="798" y="1241"/>
                  </a:moveTo>
                  <a:lnTo>
                    <a:pt x="779" y="1391"/>
                  </a:lnTo>
                  <a:lnTo>
                    <a:pt x="772" y="1392"/>
                  </a:lnTo>
                  <a:lnTo>
                    <a:pt x="766" y="1392"/>
                  </a:lnTo>
                  <a:lnTo>
                    <a:pt x="759" y="1393"/>
                  </a:lnTo>
                  <a:lnTo>
                    <a:pt x="753" y="1393"/>
                  </a:lnTo>
                  <a:lnTo>
                    <a:pt x="748" y="1395"/>
                  </a:lnTo>
                  <a:lnTo>
                    <a:pt x="741" y="1395"/>
                  </a:lnTo>
                  <a:lnTo>
                    <a:pt x="735" y="1396"/>
                  </a:lnTo>
                  <a:lnTo>
                    <a:pt x="728" y="1396"/>
                  </a:lnTo>
                  <a:lnTo>
                    <a:pt x="690" y="1250"/>
                  </a:lnTo>
                  <a:lnTo>
                    <a:pt x="675" y="1249"/>
                  </a:lnTo>
                  <a:lnTo>
                    <a:pt x="665" y="1249"/>
                  </a:lnTo>
                  <a:lnTo>
                    <a:pt x="654" y="1248"/>
                  </a:lnTo>
                  <a:lnTo>
                    <a:pt x="644" y="1248"/>
                  </a:lnTo>
                  <a:lnTo>
                    <a:pt x="635" y="1247"/>
                  </a:lnTo>
                  <a:lnTo>
                    <a:pt x="624" y="1246"/>
                  </a:lnTo>
                  <a:lnTo>
                    <a:pt x="614" y="1244"/>
                  </a:lnTo>
                  <a:lnTo>
                    <a:pt x="604" y="1242"/>
                  </a:lnTo>
                  <a:lnTo>
                    <a:pt x="593" y="1240"/>
                  </a:lnTo>
                  <a:lnTo>
                    <a:pt x="580" y="1238"/>
                  </a:lnTo>
                  <a:lnTo>
                    <a:pt x="506" y="1369"/>
                  </a:lnTo>
                  <a:lnTo>
                    <a:pt x="498" y="1367"/>
                  </a:lnTo>
                  <a:lnTo>
                    <a:pt x="490" y="1363"/>
                  </a:lnTo>
                  <a:lnTo>
                    <a:pt x="482" y="1361"/>
                  </a:lnTo>
                  <a:lnTo>
                    <a:pt x="474" y="1359"/>
                  </a:lnTo>
                  <a:lnTo>
                    <a:pt x="470" y="1358"/>
                  </a:lnTo>
                  <a:lnTo>
                    <a:pt x="467" y="1356"/>
                  </a:lnTo>
                  <a:lnTo>
                    <a:pt x="463" y="1355"/>
                  </a:lnTo>
                  <a:lnTo>
                    <a:pt x="459" y="1354"/>
                  </a:lnTo>
                  <a:lnTo>
                    <a:pt x="479" y="1206"/>
                  </a:lnTo>
                  <a:lnTo>
                    <a:pt x="466" y="1200"/>
                  </a:lnTo>
                  <a:lnTo>
                    <a:pt x="455" y="1195"/>
                  </a:lnTo>
                  <a:lnTo>
                    <a:pt x="446" y="1191"/>
                  </a:lnTo>
                  <a:lnTo>
                    <a:pt x="437" y="1186"/>
                  </a:lnTo>
                  <a:lnTo>
                    <a:pt x="426" y="1180"/>
                  </a:lnTo>
                  <a:lnTo>
                    <a:pt x="417" y="1174"/>
                  </a:lnTo>
                  <a:lnTo>
                    <a:pt x="408" y="1170"/>
                  </a:lnTo>
                  <a:lnTo>
                    <a:pt x="399" y="1164"/>
                  </a:lnTo>
                  <a:lnTo>
                    <a:pt x="390" y="1158"/>
                  </a:lnTo>
                  <a:lnTo>
                    <a:pt x="378" y="1150"/>
                  </a:lnTo>
                  <a:lnTo>
                    <a:pt x="261" y="1241"/>
                  </a:lnTo>
                  <a:lnTo>
                    <a:pt x="256" y="1238"/>
                  </a:lnTo>
                  <a:lnTo>
                    <a:pt x="251" y="1233"/>
                  </a:lnTo>
                  <a:lnTo>
                    <a:pt x="247" y="1230"/>
                  </a:lnTo>
                  <a:lnTo>
                    <a:pt x="242" y="1225"/>
                  </a:lnTo>
                  <a:lnTo>
                    <a:pt x="238" y="1222"/>
                  </a:lnTo>
                  <a:lnTo>
                    <a:pt x="233" y="1218"/>
                  </a:lnTo>
                  <a:lnTo>
                    <a:pt x="228" y="1214"/>
                  </a:lnTo>
                  <a:lnTo>
                    <a:pt x="224" y="1210"/>
                  </a:lnTo>
                  <a:lnTo>
                    <a:pt x="299" y="1082"/>
                  </a:lnTo>
                  <a:lnTo>
                    <a:pt x="288" y="1072"/>
                  </a:lnTo>
                  <a:lnTo>
                    <a:pt x="281" y="1064"/>
                  </a:lnTo>
                  <a:lnTo>
                    <a:pt x="273" y="1056"/>
                  </a:lnTo>
                  <a:lnTo>
                    <a:pt x="266" y="1047"/>
                  </a:lnTo>
                  <a:lnTo>
                    <a:pt x="259" y="1038"/>
                  </a:lnTo>
                  <a:lnTo>
                    <a:pt x="253" y="1029"/>
                  </a:lnTo>
                  <a:lnTo>
                    <a:pt x="246" y="1020"/>
                  </a:lnTo>
                  <a:lnTo>
                    <a:pt x="240" y="1011"/>
                  </a:lnTo>
                  <a:lnTo>
                    <a:pt x="233" y="1002"/>
                  </a:lnTo>
                  <a:lnTo>
                    <a:pt x="225" y="990"/>
                  </a:lnTo>
                  <a:lnTo>
                    <a:pt x="84" y="1028"/>
                  </a:lnTo>
                  <a:lnTo>
                    <a:pt x="79" y="1018"/>
                  </a:lnTo>
                  <a:lnTo>
                    <a:pt x="73" y="1007"/>
                  </a:lnTo>
                  <a:lnTo>
                    <a:pt x="68" y="997"/>
                  </a:lnTo>
                  <a:lnTo>
                    <a:pt x="63" y="985"/>
                  </a:lnTo>
                  <a:lnTo>
                    <a:pt x="179" y="898"/>
                  </a:lnTo>
                  <a:lnTo>
                    <a:pt x="173" y="884"/>
                  </a:lnTo>
                  <a:lnTo>
                    <a:pt x="166" y="862"/>
                  </a:lnTo>
                  <a:lnTo>
                    <a:pt x="159" y="840"/>
                  </a:lnTo>
                  <a:lnTo>
                    <a:pt x="153" y="817"/>
                  </a:lnTo>
                  <a:lnTo>
                    <a:pt x="149" y="795"/>
                  </a:lnTo>
                  <a:lnTo>
                    <a:pt x="147" y="781"/>
                  </a:lnTo>
                  <a:lnTo>
                    <a:pt x="4" y="764"/>
                  </a:lnTo>
                  <a:lnTo>
                    <a:pt x="3" y="752"/>
                  </a:lnTo>
                  <a:lnTo>
                    <a:pt x="1" y="740"/>
                  </a:lnTo>
                  <a:lnTo>
                    <a:pt x="1" y="727"/>
                  </a:lnTo>
                  <a:lnTo>
                    <a:pt x="0" y="716"/>
                  </a:lnTo>
                  <a:lnTo>
                    <a:pt x="139" y="679"/>
                  </a:lnTo>
                  <a:lnTo>
                    <a:pt x="140" y="665"/>
                  </a:lnTo>
                  <a:lnTo>
                    <a:pt x="141" y="642"/>
                  </a:lnTo>
                  <a:lnTo>
                    <a:pt x="144" y="619"/>
                  </a:lnTo>
                  <a:lnTo>
                    <a:pt x="147" y="596"/>
                  </a:lnTo>
                  <a:lnTo>
                    <a:pt x="151" y="573"/>
                  </a:lnTo>
                  <a:lnTo>
                    <a:pt x="155" y="559"/>
                  </a:lnTo>
                  <a:lnTo>
                    <a:pt x="33" y="489"/>
                  </a:lnTo>
                  <a:lnTo>
                    <a:pt x="34" y="484"/>
                  </a:lnTo>
                  <a:lnTo>
                    <a:pt x="35" y="481"/>
                  </a:lnTo>
                  <a:lnTo>
                    <a:pt x="36" y="477"/>
                  </a:lnTo>
                  <a:lnTo>
                    <a:pt x="37" y="473"/>
                  </a:lnTo>
                  <a:lnTo>
                    <a:pt x="39" y="466"/>
                  </a:lnTo>
                  <a:lnTo>
                    <a:pt x="43" y="458"/>
                  </a:lnTo>
                  <a:lnTo>
                    <a:pt x="45" y="451"/>
                  </a:lnTo>
                  <a:lnTo>
                    <a:pt x="49" y="443"/>
                  </a:lnTo>
                  <a:lnTo>
                    <a:pt x="188" y="462"/>
                  </a:lnTo>
                  <a:lnTo>
                    <a:pt x="194" y="450"/>
                  </a:lnTo>
                  <a:lnTo>
                    <a:pt x="200" y="439"/>
                  </a:lnTo>
                  <a:lnTo>
                    <a:pt x="204" y="429"/>
                  </a:lnTo>
                  <a:lnTo>
                    <a:pt x="210" y="418"/>
                  </a:lnTo>
                  <a:lnTo>
                    <a:pt x="216" y="408"/>
                  </a:lnTo>
                  <a:lnTo>
                    <a:pt x="221" y="399"/>
                  </a:lnTo>
                  <a:lnTo>
                    <a:pt x="228" y="389"/>
                  </a:lnTo>
                  <a:lnTo>
                    <a:pt x="234" y="379"/>
                  </a:lnTo>
                  <a:lnTo>
                    <a:pt x="241" y="370"/>
                  </a:lnTo>
                  <a:lnTo>
                    <a:pt x="249" y="357"/>
                  </a:lnTo>
                  <a:lnTo>
                    <a:pt x="164" y="249"/>
                  </a:lnTo>
                  <a:lnTo>
                    <a:pt x="167" y="244"/>
                  </a:lnTo>
                  <a:lnTo>
                    <a:pt x="172" y="240"/>
                  </a:lnTo>
                  <a:lnTo>
                    <a:pt x="177" y="235"/>
                  </a:lnTo>
                  <a:lnTo>
                    <a:pt x="180" y="231"/>
                  </a:lnTo>
                  <a:lnTo>
                    <a:pt x="185" y="226"/>
                  </a:lnTo>
                  <a:lnTo>
                    <a:pt x="189" y="221"/>
                  </a:lnTo>
                  <a:lnTo>
                    <a:pt x="194" y="217"/>
                  </a:lnTo>
                  <a:lnTo>
                    <a:pt x="198" y="212"/>
                  </a:lnTo>
                  <a:lnTo>
                    <a:pt x="318" y="281"/>
                  </a:lnTo>
                  <a:lnTo>
                    <a:pt x="329" y="272"/>
                  </a:lnTo>
                  <a:lnTo>
                    <a:pt x="338" y="264"/>
                  </a:lnTo>
                  <a:lnTo>
                    <a:pt x="346" y="257"/>
                  </a:lnTo>
                  <a:lnTo>
                    <a:pt x="355" y="250"/>
                  </a:lnTo>
                  <a:lnTo>
                    <a:pt x="364" y="243"/>
                  </a:lnTo>
                  <a:lnTo>
                    <a:pt x="373" y="238"/>
                  </a:lnTo>
                  <a:lnTo>
                    <a:pt x="383" y="232"/>
                  </a:lnTo>
                  <a:lnTo>
                    <a:pt x="392" y="225"/>
                  </a:lnTo>
                  <a:lnTo>
                    <a:pt x="401" y="219"/>
                  </a:lnTo>
                  <a:lnTo>
                    <a:pt x="414" y="211"/>
                  </a:lnTo>
                  <a:lnTo>
                    <a:pt x="377" y="79"/>
                  </a:lnTo>
                  <a:lnTo>
                    <a:pt x="383" y="76"/>
                  </a:lnTo>
                  <a:lnTo>
                    <a:pt x="388" y="73"/>
                  </a:lnTo>
                  <a:lnTo>
                    <a:pt x="394" y="70"/>
                  </a:lnTo>
                  <a:lnTo>
                    <a:pt x="400" y="67"/>
                  </a:lnTo>
                  <a:lnTo>
                    <a:pt x="406" y="65"/>
                  </a:lnTo>
                  <a:lnTo>
                    <a:pt x="413" y="62"/>
                  </a:lnTo>
                  <a:lnTo>
                    <a:pt x="418" y="59"/>
                  </a:lnTo>
                  <a:lnTo>
                    <a:pt x="424" y="57"/>
                  </a:lnTo>
                  <a:lnTo>
                    <a:pt x="507" y="167"/>
                  </a:lnTo>
                  <a:lnTo>
                    <a:pt x="521" y="163"/>
                  </a:lnTo>
                  <a:lnTo>
                    <a:pt x="531" y="159"/>
                  </a:lnTo>
                  <a:lnTo>
                    <a:pt x="542" y="156"/>
                  </a:lnTo>
                  <a:lnTo>
                    <a:pt x="552" y="153"/>
                  </a:lnTo>
                  <a:lnTo>
                    <a:pt x="562" y="150"/>
                  </a:lnTo>
                  <a:lnTo>
                    <a:pt x="573" y="148"/>
                  </a:lnTo>
                  <a:lnTo>
                    <a:pt x="583" y="145"/>
                  </a:lnTo>
                  <a:lnTo>
                    <a:pt x="593" y="143"/>
                  </a:lnTo>
                  <a:lnTo>
                    <a:pt x="604" y="141"/>
                  </a:lnTo>
                  <a:lnTo>
                    <a:pt x="619" y="138"/>
                  </a:lnTo>
                  <a:lnTo>
                    <a:pt x="636" y="4"/>
                  </a:lnTo>
                  <a:lnTo>
                    <a:pt x="643" y="2"/>
                  </a:lnTo>
                  <a:lnTo>
                    <a:pt x="649" y="2"/>
                  </a:lnTo>
                  <a:lnTo>
                    <a:pt x="656" y="1"/>
                  </a:lnTo>
                  <a:lnTo>
                    <a:pt x="662" y="1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83" y="0"/>
                  </a:lnTo>
                  <a:lnTo>
                    <a:pt x="690" y="0"/>
                  </a:lnTo>
                  <a:lnTo>
                    <a:pt x="725" y="134"/>
                  </a:lnTo>
                  <a:lnTo>
                    <a:pt x="738" y="135"/>
                  </a:lnTo>
                  <a:lnTo>
                    <a:pt x="749" y="136"/>
                  </a:lnTo>
                  <a:lnTo>
                    <a:pt x="759" y="137"/>
                  </a:lnTo>
                  <a:lnTo>
                    <a:pt x="770" y="138"/>
                  </a:lnTo>
                  <a:lnTo>
                    <a:pt x="780" y="140"/>
                  </a:lnTo>
                  <a:lnTo>
                    <a:pt x="790" y="142"/>
                  </a:lnTo>
                  <a:lnTo>
                    <a:pt x="801" y="143"/>
                  </a:lnTo>
                  <a:lnTo>
                    <a:pt x="811" y="145"/>
                  </a:lnTo>
                  <a:lnTo>
                    <a:pt x="821" y="148"/>
                  </a:lnTo>
                  <a:lnTo>
                    <a:pt x="836" y="151"/>
                  </a:lnTo>
                  <a:lnTo>
                    <a:pt x="904" y="31"/>
                  </a:lnTo>
                  <a:lnTo>
                    <a:pt x="911" y="34"/>
                  </a:lnTo>
                  <a:lnTo>
                    <a:pt x="917" y="36"/>
                  </a:lnTo>
                  <a:lnTo>
                    <a:pt x="923" y="38"/>
                  </a:lnTo>
                  <a:lnTo>
                    <a:pt x="930" y="41"/>
                  </a:lnTo>
                  <a:lnTo>
                    <a:pt x="935" y="43"/>
                  </a:lnTo>
                  <a:lnTo>
                    <a:pt x="942" y="45"/>
                  </a:lnTo>
                  <a:lnTo>
                    <a:pt x="949" y="47"/>
                  </a:lnTo>
                  <a:lnTo>
                    <a:pt x="956" y="50"/>
                  </a:lnTo>
                  <a:lnTo>
                    <a:pt x="937" y="188"/>
                  </a:lnTo>
                  <a:lnTo>
                    <a:pt x="949" y="195"/>
                  </a:lnTo>
                  <a:lnTo>
                    <a:pt x="958" y="200"/>
                  </a:lnTo>
                  <a:lnTo>
                    <a:pt x="968" y="204"/>
                  </a:lnTo>
                  <a:lnTo>
                    <a:pt x="976" y="209"/>
                  </a:lnTo>
                  <a:lnTo>
                    <a:pt x="985" y="213"/>
                  </a:lnTo>
                  <a:lnTo>
                    <a:pt x="993" y="219"/>
                  </a:lnTo>
                  <a:lnTo>
                    <a:pt x="1002" y="224"/>
                  </a:lnTo>
                  <a:lnTo>
                    <a:pt x="1010" y="229"/>
                  </a:lnTo>
                  <a:lnTo>
                    <a:pt x="1018" y="235"/>
                  </a:lnTo>
                  <a:lnTo>
                    <a:pt x="1030" y="244"/>
                  </a:lnTo>
                  <a:lnTo>
                    <a:pt x="1140" y="159"/>
                  </a:lnTo>
                  <a:lnTo>
                    <a:pt x="1146" y="164"/>
                  </a:lnTo>
                  <a:lnTo>
                    <a:pt x="1151" y="168"/>
                  </a:lnTo>
                  <a:lnTo>
                    <a:pt x="1157" y="173"/>
                  </a:lnTo>
                  <a:lnTo>
                    <a:pt x="1161" y="178"/>
                  </a:lnTo>
                  <a:lnTo>
                    <a:pt x="1167" y="182"/>
                  </a:lnTo>
                  <a:lnTo>
                    <a:pt x="1171" y="187"/>
                  </a:lnTo>
                  <a:lnTo>
                    <a:pt x="1177" y="191"/>
                  </a:lnTo>
                  <a:lnTo>
                    <a:pt x="1182" y="196"/>
                  </a:lnTo>
                  <a:lnTo>
                    <a:pt x="1110" y="317"/>
                  </a:lnTo>
                  <a:lnTo>
                    <a:pt x="1120" y="327"/>
                  </a:lnTo>
                  <a:lnTo>
                    <a:pt x="1127" y="334"/>
                  </a:lnTo>
                  <a:lnTo>
                    <a:pt x="1132" y="342"/>
                  </a:lnTo>
                  <a:lnTo>
                    <a:pt x="1138" y="350"/>
                  </a:lnTo>
                  <a:lnTo>
                    <a:pt x="1144" y="357"/>
                  </a:lnTo>
                  <a:lnTo>
                    <a:pt x="1150" y="365"/>
                  </a:lnTo>
                  <a:lnTo>
                    <a:pt x="1155" y="374"/>
                  </a:lnTo>
                  <a:lnTo>
                    <a:pt x="1160" y="382"/>
                  </a:lnTo>
                  <a:lnTo>
                    <a:pt x="1166" y="390"/>
                  </a:lnTo>
                  <a:lnTo>
                    <a:pt x="1174" y="402"/>
                  </a:lnTo>
                  <a:lnTo>
                    <a:pt x="1310" y="364"/>
                  </a:lnTo>
                  <a:lnTo>
                    <a:pt x="1317" y="377"/>
                  </a:lnTo>
                  <a:lnTo>
                    <a:pt x="1323" y="390"/>
                  </a:lnTo>
                  <a:lnTo>
                    <a:pt x="1329" y="402"/>
                  </a:lnTo>
                  <a:lnTo>
                    <a:pt x="1335" y="416"/>
                  </a:lnTo>
                  <a:lnTo>
                    <a:pt x="1222" y="501"/>
                  </a:lnTo>
                  <a:lnTo>
                    <a:pt x="1227" y="515"/>
                  </a:lnTo>
                  <a:lnTo>
                    <a:pt x="1231" y="533"/>
                  </a:lnTo>
                  <a:lnTo>
                    <a:pt x="1237" y="551"/>
                  </a:lnTo>
                  <a:lnTo>
                    <a:pt x="1242" y="569"/>
                  </a:lnTo>
                  <a:lnTo>
                    <a:pt x="1245" y="588"/>
                  </a:lnTo>
                  <a:lnTo>
                    <a:pt x="1247" y="603"/>
                  </a:lnTo>
                  <a:lnTo>
                    <a:pt x="1390" y="620"/>
                  </a:lnTo>
                  <a:lnTo>
                    <a:pt x="1391" y="634"/>
                  </a:lnTo>
                  <a:lnTo>
                    <a:pt x="1393" y="648"/>
                  </a:lnTo>
                  <a:lnTo>
                    <a:pt x="1394" y="663"/>
                  </a:lnTo>
                  <a:lnTo>
                    <a:pt x="1395" y="677"/>
                  </a:lnTo>
                  <a:lnTo>
                    <a:pt x="1254" y="713"/>
                  </a:lnTo>
                  <a:lnTo>
                    <a:pt x="1253" y="727"/>
                  </a:lnTo>
                  <a:lnTo>
                    <a:pt x="1252" y="746"/>
                  </a:lnTo>
                  <a:lnTo>
                    <a:pt x="1250" y="764"/>
                  </a:lnTo>
                  <a:lnTo>
                    <a:pt x="1247" y="783"/>
                  </a:lnTo>
                  <a:lnTo>
                    <a:pt x="1244" y="801"/>
                  </a:lnTo>
                  <a:lnTo>
                    <a:pt x="1241" y="816"/>
                  </a:lnTo>
                  <a:lnTo>
                    <a:pt x="1368" y="889"/>
                  </a:lnTo>
                  <a:lnTo>
                    <a:pt x="1364" y="902"/>
                  </a:lnTo>
                  <a:lnTo>
                    <a:pt x="1360" y="916"/>
                  </a:lnTo>
                  <a:lnTo>
                    <a:pt x="1356" y="929"/>
                  </a:lnTo>
                  <a:lnTo>
                    <a:pt x="1351" y="942"/>
                  </a:lnTo>
                  <a:lnTo>
                    <a:pt x="1205" y="921"/>
                  </a:lnTo>
                  <a:lnTo>
                    <a:pt x="1199" y="935"/>
                  </a:lnTo>
                  <a:lnTo>
                    <a:pt x="1195" y="943"/>
                  </a:lnTo>
                  <a:lnTo>
                    <a:pt x="1190" y="952"/>
                  </a:lnTo>
                  <a:lnTo>
                    <a:pt x="1186" y="960"/>
                  </a:lnTo>
                  <a:lnTo>
                    <a:pt x="1182" y="968"/>
                  </a:lnTo>
                  <a:lnTo>
                    <a:pt x="1177" y="976"/>
                  </a:lnTo>
                  <a:lnTo>
                    <a:pt x="1173" y="984"/>
                  </a:lnTo>
                  <a:lnTo>
                    <a:pt x="1167" y="992"/>
                  </a:lnTo>
                  <a:lnTo>
                    <a:pt x="1162" y="999"/>
                  </a:lnTo>
                  <a:lnTo>
                    <a:pt x="1154" y="1012"/>
                  </a:lnTo>
                  <a:lnTo>
                    <a:pt x="1246" y="1129"/>
                  </a:lnTo>
                  <a:lnTo>
                    <a:pt x="1242" y="1134"/>
                  </a:lnTo>
                  <a:lnTo>
                    <a:pt x="1237" y="1140"/>
                  </a:lnTo>
                  <a:lnTo>
                    <a:pt x="1233" y="1144"/>
                  </a:lnTo>
                  <a:lnTo>
                    <a:pt x="1229" y="1150"/>
                  </a:lnTo>
                  <a:lnTo>
                    <a:pt x="1224" y="1155"/>
                  </a:lnTo>
                  <a:lnTo>
                    <a:pt x="1220" y="1161"/>
                  </a:lnTo>
                  <a:lnTo>
                    <a:pt x="1215" y="1165"/>
                  </a:lnTo>
                  <a:lnTo>
                    <a:pt x="1211" y="1171"/>
                  </a:lnTo>
                  <a:lnTo>
                    <a:pt x="1083" y="1095"/>
                  </a:lnTo>
                  <a:lnTo>
                    <a:pt x="1071" y="1105"/>
                  </a:lnTo>
                  <a:lnTo>
                    <a:pt x="1064" y="1112"/>
                  </a:lnTo>
                  <a:lnTo>
                    <a:pt x="1056" y="1118"/>
                  </a:lnTo>
                  <a:lnTo>
                    <a:pt x="1049" y="1124"/>
                  </a:lnTo>
                  <a:lnTo>
                    <a:pt x="1041" y="1131"/>
                  </a:lnTo>
                  <a:lnTo>
                    <a:pt x="1034" y="1136"/>
                  </a:lnTo>
                  <a:lnTo>
                    <a:pt x="1026" y="1142"/>
                  </a:lnTo>
                  <a:lnTo>
                    <a:pt x="1019" y="1147"/>
                  </a:lnTo>
                  <a:lnTo>
                    <a:pt x="1011" y="1153"/>
                  </a:lnTo>
                  <a:lnTo>
                    <a:pt x="1000" y="1161"/>
                  </a:lnTo>
                  <a:lnTo>
                    <a:pt x="1039" y="1306"/>
                  </a:lnTo>
                  <a:lnTo>
                    <a:pt x="1033" y="1309"/>
                  </a:lnTo>
                  <a:lnTo>
                    <a:pt x="1028" y="1313"/>
                  </a:lnTo>
                  <a:lnTo>
                    <a:pt x="1022" y="1316"/>
                  </a:lnTo>
                  <a:lnTo>
                    <a:pt x="1016" y="1318"/>
                  </a:lnTo>
                  <a:lnTo>
                    <a:pt x="1010" y="1322"/>
                  </a:lnTo>
                  <a:lnTo>
                    <a:pt x="1003" y="1324"/>
                  </a:lnTo>
                  <a:lnTo>
                    <a:pt x="998" y="1328"/>
                  </a:lnTo>
                  <a:lnTo>
                    <a:pt x="992" y="1330"/>
                  </a:lnTo>
                  <a:lnTo>
                    <a:pt x="902" y="1211"/>
                  </a:lnTo>
                  <a:lnTo>
                    <a:pt x="888" y="1216"/>
                  </a:lnTo>
                  <a:lnTo>
                    <a:pt x="879" y="1219"/>
                  </a:lnTo>
                  <a:lnTo>
                    <a:pt x="870" y="1223"/>
                  </a:lnTo>
                  <a:lnTo>
                    <a:pt x="859" y="1225"/>
                  </a:lnTo>
                  <a:lnTo>
                    <a:pt x="850" y="1229"/>
                  </a:lnTo>
                  <a:lnTo>
                    <a:pt x="841" y="1231"/>
                  </a:lnTo>
                  <a:lnTo>
                    <a:pt x="832" y="1233"/>
                  </a:lnTo>
                  <a:lnTo>
                    <a:pt x="821" y="1235"/>
                  </a:lnTo>
                  <a:lnTo>
                    <a:pt x="812" y="1238"/>
                  </a:lnTo>
                  <a:lnTo>
                    <a:pt x="798" y="124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83560" y="4302360"/>
              <a:ext cx="164880" cy="127440"/>
            </a:xfrm>
            <a:custGeom>
              <a:avLst/>
              <a:gdLst/>
              <a:ahLst/>
              <a:rect l="l" t="t" r="r" b="b"/>
              <a:pathLst>
                <a:path w="592" h="593">
                  <a:moveTo>
                    <a:pt x="133" y="544"/>
                  </a:moveTo>
                  <a:lnTo>
                    <a:pt x="87" y="506"/>
                  </a:lnTo>
                  <a:lnTo>
                    <a:pt x="50" y="459"/>
                  </a:lnTo>
                  <a:lnTo>
                    <a:pt x="23" y="409"/>
                  </a:lnTo>
                  <a:lnTo>
                    <a:pt x="7" y="355"/>
                  </a:lnTo>
                  <a:lnTo>
                    <a:pt x="0" y="298"/>
                  </a:lnTo>
                  <a:lnTo>
                    <a:pt x="6" y="240"/>
                  </a:lnTo>
                  <a:lnTo>
                    <a:pt x="22" y="185"/>
                  </a:lnTo>
                  <a:lnTo>
                    <a:pt x="50" y="132"/>
                  </a:lnTo>
                  <a:lnTo>
                    <a:pt x="59" y="121"/>
                  </a:lnTo>
                  <a:lnTo>
                    <a:pt x="67" y="108"/>
                  </a:lnTo>
                  <a:lnTo>
                    <a:pt x="77" y="98"/>
                  </a:lnTo>
                  <a:lnTo>
                    <a:pt x="88" y="87"/>
                  </a:lnTo>
                  <a:lnTo>
                    <a:pt x="98" y="77"/>
                  </a:lnTo>
                  <a:lnTo>
                    <a:pt x="109" y="68"/>
                  </a:lnTo>
                  <a:lnTo>
                    <a:pt x="120" y="58"/>
                  </a:lnTo>
                  <a:lnTo>
                    <a:pt x="132" y="50"/>
                  </a:lnTo>
                  <a:lnTo>
                    <a:pt x="143" y="42"/>
                  </a:lnTo>
                  <a:lnTo>
                    <a:pt x="156" y="35"/>
                  </a:lnTo>
                  <a:lnTo>
                    <a:pt x="168" y="28"/>
                  </a:lnTo>
                  <a:lnTo>
                    <a:pt x="182" y="23"/>
                  </a:lnTo>
                  <a:lnTo>
                    <a:pt x="195" y="17"/>
                  </a:lnTo>
                  <a:lnTo>
                    <a:pt x="209" y="12"/>
                  </a:lnTo>
                  <a:lnTo>
                    <a:pt x="224" y="9"/>
                  </a:lnTo>
                  <a:lnTo>
                    <a:pt x="238" y="5"/>
                  </a:lnTo>
                  <a:lnTo>
                    <a:pt x="253" y="3"/>
                  </a:lnTo>
                  <a:lnTo>
                    <a:pt x="266" y="1"/>
                  </a:lnTo>
                  <a:lnTo>
                    <a:pt x="281" y="0"/>
                  </a:lnTo>
                  <a:lnTo>
                    <a:pt x="295" y="0"/>
                  </a:lnTo>
                  <a:lnTo>
                    <a:pt x="310" y="0"/>
                  </a:lnTo>
                  <a:lnTo>
                    <a:pt x="324" y="1"/>
                  </a:lnTo>
                  <a:lnTo>
                    <a:pt x="339" y="3"/>
                  </a:lnTo>
                  <a:lnTo>
                    <a:pt x="353" y="5"/>
                  </a:lnTo>
                  <a:lnTo>
                    <a:pt x="367" y="9"/>
                  </a:lnTo>
                  <a:lnTo>
                    <a:pt x="381" y="12"/>
                  </a:lnTo>
                  <a:lnTo>
                    <a:pt x="394" y="17"/>
                  </a:lnTo>
                  <a:lnTo>
                    <a:pt x="408" y="22"/>
                  </a:lnTo>
                  <a:lnTo>
                    <a:pt x="422" y="27"/>
                  </a:lnTo>
                  <a:lnTo>
                    <a:pt x="434" y="34"/>
                  </a:lnTo>
                  <a:lnTo>
                    <a:pt x="447" y="41"/>
                  </a:lnTo>
                  <a:lnTo>
                    <a:pt x="460" y="49"/>
                  </a:lnTo>
                  <a:lnTo>
                    <a:pt x="506" y="87"/>
                  </a:lnTo>
                  <a:lnTo>
                    <a:pt x="543" y="133"/>
                  </a:lnTo>
                  <a:lnTo>
                    <a:pt x="569" y="184"/>
                  </a:lnTo>
                  <a:lnTo>
                    <a:pt x="586" y="238"/>
                  </a:lnTo>
                  <a:lnTo>
                    <a:pt x="592" y="295"/>
                  </a:lnTo>
                  <a:lnTo>
                    <a:pt x="586" y="352"/>
                  </a:lnTo>
                  <a:lnTo>
                    <a:pt x="570" y="408"/>
                  </a:lnTo>
                  <a:lnTo>
                    <a:pt x="543" y="461"/>
                  </a:lnTo>
                  <a:lnTo>
                    <a:pt x="535" y="472"/>
                  </a:lnTo>
                  <a:lnTo>
                    <a:pt x="525" y="485"/>
                  </a:lnTo>
                  <a:lnTo>
                    <a:pt x="516" y="495"/>
                  </a:lnTo>
                  <a:lnTo>
                    <a:pt x="506" y="506"/>
                  </a:lnTo>
                  <a:lnTo>
                    <a:pt x="495" y="516"/>
                  </a:lnTo>
                  <a:lnTo>
                    <a:pt x="484" y="525"/>
                  </a:lnTo>
                  <a:lnTo>
                    <a:pt x="472" y="534"/>
                  </a:lnTo>
                  <a:lnTo>
                    <a:pt x="461" y="542"/>
                  </a:lnTo>
                  <a:lnTo>
                    <a:pt x="449" y="550"/>
                  </a:lnTo>
                  <a:lnTo>
                    <a:pt x="437" y="557"/>
                  </a:lnTo>
                  <a:lnTo>
                    <a:pt x="424" y="564"/>
                  </a:lnTo>
                  <a:lnTo>
                    <a:pt x="410" y="570"/>
                  </a:lnTo>
                  <a:lnTo>
                    <a:pt x="396" y="576"/>
                  </a:lnTo>
                  <a:lnTo>
                    <a:pt x="383" y="580"/>
                  </a:lnTo>
                  <a:lnTo>
                    <a:pt x="369" y="584"/>
                  </a:lnTo>
                  <a:lnTo>
                    <a:pt x="354" y="587"/>
                  </a:lnTo>
                  <a:lnTo>
                    <a:pt x="339" y="590"/>
                  </a:lnTo>
                  <a:lnTo>
                    <a:pt x="325" y="592"/>
                  </a:lnTo>
                  <a:lnTo>
                    <a:pt x="310" y="593"/>
                  </a:lnTo>
                  <a:lnTo>
                    <a:pt x="296" y="593"/>
                  </a:lnTo>
                  <a:lnTo>
                    <a:pt x="281" y="593"/>
                  </a:lnTo>
                  <a:lnTo>
                    <a:pt x="267" y="592"/>
                  </a:lnTo>
                  <a:lnTo>
                    <a:pt x="253" y="590"/>
                  </a:lnTo>
                  <a:lnTo>
                    <a:pt x="239" y="587"/>
                  </a:lnTo>
                  <a:lnTo>
                    <a:pt x="225" y="584"/>
                  </a:lnTo>
                  <a:lnTo>
                    <a:pt x="211" y="580"/>
                  </a:lnTo>
                  <a:lnTo>
                    <a:pt x="197" y="576"/>
                  </a:lnTo>
                  <a:lnTo>
                    <a:pt x="183" y="571"/>
                  </a:lnTo>
                  <a:lnTo>
                    <a:pt x="171" y="565"/>
                  </a:lnTo>
                  <a:lnTo>
                    <a:pt x="158" y="559"/>
                  </a:lnTo>
                  <a:lnTo>
                    <a:pt x="145" y="552"/>
                  </a:lnTo>
                  <a:lnTo>
                    <a:pt x="133" y="544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83000" y="4341960"/>
              <a:ext cx="388800" cy="299160"/>
            </a:xfrm>
            <a:custGeom>
              <a:avLst/>
              <a:gdLst/>
              <a:ahLst/>
              <a:rect l="l" t="t" r="r" b="b"/>
              <a:pathLst>
                <a:path w="1395" h="1396">
                  <a:moveTo>
                    <a:pt x="798" y="1241"/>
                  </a:moveTo>
                  <a:lnTo>
                    <a:pt x="779" y="1391"/>
                  </a:lnTo>
                  <a:lnTo>
                    <a:pt x="772" y="1392"/>
                  </a:lnTo>
                  <a:lnTo>
                    <a:pt x="766" y="1392"/>
                  </a:lnTo>
                  <a:lnTo>
                    <a:pt x="759" y="1393"/>
                  </a:lnTo>
                  <a:lnTo>
                    <a:pt x="753" y="1393"/>
                  </a:lnTo>
                  <a:lnTo>
                    <a:pt x="748" y="1395"/>
                  </a:lnTo>
                  <a:lnTo>
                    <a:pt x="741" y="1395"/>
                  </a:lnTo>
                  <a:lnTo>
                    <a:pt x="735" y="1396"/>
                  </a:lnTo>
                  <a:lnTo>
                    <a:pt x="728" y="1396"/>
                  </a:lnTo>
                  <a:lnTo>
                    <a:pt x="690" y="1250"/>
                  </a:lnTo>
                  <a:lnTo>
                    <a:pt x="675" y="1249"/>
                  </a:lnTo>
                  <a:lnTo>
                    <a:pt x="665" y="1249"/>
                  </a:lnTo>
                  <a:lnTo>
                    <a:pt x="654" y="1248"/>
                  </a:lnTo>
                  <a:lnTo>
                    <a:pt x="644" y="1248"/>
                  </a:lnTo>
                  <a:lnTo>
                    <a:pt x="635" y="1247"/>
                  </a:lnTo>
                  <a:lnTo>
                    <a:pt x="624" y="1246"/>
                  </a:lnTo>
                  <a:lnTo>
                    <a:pt x="614" y="1244"/>
                  </a:lnTo>
                  <a:lnTo>
                    <a:pt x="604" y="1242"/>
                  </a:lnTo>
                  <a:lnTo>
                    <a:pt x="593" y="1240"/>
                  </a:lnTo>
                  <a:lnTo>
                    <a:pt x="580" y="1238"/>
                  </a:lnTo>
                  <a:lnTo>
                    <a:pt x="506" y="1369"/>
                  </a:lnTo>
                  <a:lnTo>
                    <a:pt x="498" y="1367"/>
                  </a:lnTo>
                  <a:lnTo>
                    <a:pt x="490" y="1363"/>
                  </a:lnTo>
                  <a:lnTo>
                    <a:pt x="482" y="1361"/>
                  </a:lnTo>
                  <a:lnTo>
                    <a:pt x="474" y="1359"/>
                  </a:lnTo>
                  <a:lnTo>
                    <a:pt x="470" y="1358"/>
                  </a:lnTo>
                  <a:lnTo>
                    <a:pt x="467" y="1356"/>
                  </a:lnTo>
                  <a:lnTo>
                    <a:pt x="463" y="1355"/>
                  </a:lnTo>
                  <a:lnTo>
                    <a:pt x="459" y="1354"/>
                  </a:lnTo>
                  <a:lnTo>
                    <a:pt x="479" y="1206"/>
                  </a:lnTo>
                  <a:lnTo>
                    <a:pt x="466" y="1200"/>
                  </a:lnTo>
                  <a:lnTo>
                    <a:pt x="455" y="1195"/>
                  </a:lnTo>
                  <a:lnTo>
                    <a:pt x="446" y="1191"/>
                  </a:lnTo>
                  <a:lnTo>
                    <a:pt x="437" y="1186"/>
                  </a:lnTo>
                  <a:lnTo>
                    <a:pt x="426" y="1180"/>
                  </a:lnTo>
                  <a:lnTo>
                    <a:pt x="417" y="1174"/>
                  </a:lnTo>
                  <a:lnTo>
                    <a:pt x="408" y="1170"/>
                  </a:lnTo>
                  <a:lnTo>
                    <a:pt x="399" y="1164"/>
                  </a:lnTo>
                  <a:lnTo>
                    <a:pt x="390" y="1158"/>
                  </a:lnTo>
                  <a:lnTo>
                    <a:pt x="378" y="1150"/>
                  </a:lnTo>
                  <a:lnTo>
                    <a:pt x="261" y="1241"/>
                  </a:lnTo>
                  <a:lnTo>
                    <a:pt x="256" y="1238"/>
                  </a:lnTo>
                  <a:lnTo>
                    <a:pt x="251" y="1233"/>
                  </a:lnTo>
                  <a:lnTo>
                    <a:pt x="247" y="1230"/>
                  </a:lnTo>
                  <a:lnTo>
                    <a:pt x="242" y="1225"/>
                  </a:lnTo>
                  <a:lnTo>
                    <a:pt x="238" y="1222"/>
                  </a:lnTo>
                  <a:lnTo>
                    <a:pt x="233" y="1218"/>
                  </a:lnTo>
                  <a:lnTo>
                    <a:pt x="228" y="1214"/>
                  </a:lnTo>
                  <a:lnTo>
                    <a:pt x="224" y="1210"/>
                  </a:lnTo>
                  <a:lnTo>
                    <a:pt x="299" y="1082"/>
                  </a:lnTo>
                  <a:lnTo>
                    <a:pt x="288" y="1072"/>
                  </a:lnTo>
                  <a:lnTo>
                    <a:pt x="281" y="1064"/>
                  </a:lnTo>
                  <a:lnTo>
                    <a:pt x="273" y="1056"/>
                  </a:lnTo>
                  <a:lnTo>
                    <a:pt x="266" y="1047"/>
                  </a:lnTo>
                  <a:lnTo>
                    <a:pt x="259" y="1038"/>
                  </a:lnTo>
                  <a:lnTo>
                    <a:pt x="253" y="1029"/>
                  </a:lnTo>
                  <a:lnTo>
                    <a:pt x="246" y="1020"/>
                  </a:lnTo>
                  <a:lnTo>
                    <a:pt x="240" y="1011"/>
                  </a:lnTo>
                  <a:lnTo>
                    <a:pt x="233" y="1002"/>
                  </a:lnTo>
                  <a:lnTo>
                    <a:pt x="225" y="990"/>
                  </a:lnTo>
                  <a:lnTo>
                    <a:pt x="84" y="1028"/>
                  </a:lnTo>
                  <a:lnTo>
                    <a:pt x="79" y="1018"/>
                  </a:lnTo>
                  <a:lnTo>
                    <a:pt x="73" y="1007"/>
                  </a:lnTo>
                  <a:lnTo>
                    <a:pt x="68" y="997"/>
                  </a:lnTo>
                  <a:lnTo>
                    <a:pt x="63" y="985"/>
                  </a:lnTo>
                  <a:lnTo>
                    <a:pt x="179" y="898"/>
                  </a:lnTo>
                  <a:lnTo>
                    <a:pt x="173" y="884"/>
                  </a:lnTo>
                  <a:lnTo>
                    <a:pt x="166" y="862"/>
                  </a:lnTo>
                  <a:lnTo>
                    <a:pt x="159" y="840"/>
                  </a:lnTo>
                  <a:lnTo>
                    <a:pt x="153" y="817"/>
                  </a:lnTo>
                  <a:lnTo>
                    <a:pt x="149" y="795"/>
                  </a:lnTo>
                  <a:lnTo>
                    <a:pt x="147" y="781"/>
                  </a:lnTo>
                  <a:lnTo>
                    <a:pt x="4" y="764"/>
                  </a:lnTo>
                  <a:lnTo>
                    <a:pt x="3" y="752"/>
                  </a:lnTo>
                  <a:lnTo>
                    <a:pt x="1" y="740"/>
                  </a:lnTo>
                  <a:lnTo>
                    <a:pt x="1" y="727"/>
                  </a:lnTo>
                  <a:lnTo>
                    <a:pt x="0" y="716"/>
                  </a:lnTo>
                  <a:lnTo>
                    <a:pt x="139" y="679"/>
                  </a:lnTo>
                  <a:lnTo>
                    <a:pt x="140" y="665"/>
                  </a:lnTo>
                  <a:lnTo>
                    <a:pt x="141" y="642"/>
                  </a:lnTo>
                  <a:lnTo>
                    <a:pt x="144" y="619"/>
                  </a:lnTo>
                  <a:lnTo>
                    <a:pt x="147" y="596"/>
                  </a:lnTo>
                  <a:lnTo>
                    <a:pt x="151" y="573"/>
                  </a:lnTo>
                  <a:lnTo>
                    <a:pt x="155" y="559"/>
                  </a:lnTo>
                  <a:lnTo>
                    <a:pt x="33" y="489"/>
                  </a:lnTo>
                  <a:lnTo>
                    <a:pt x="34" y="484"/>
                  </a:lnTo>
                  <a:lnTo>
                    <a:pt x="35" y="481"/>
                  </a:lnTo>
                  <a:lnTo>
                    <a:pt x="36" y="477"/>
                  </a:lnTo>
                  <a:lnTo>
                    <a:pt x="37" y="473"/>
                  </a:lnTo>
                  <a:lnTo>
                    <a:pt x="39" y="466"/>
                  </a:lnTo>
                  <a:lnTo>
                    <a:pt x="43" y="458"/>
                  </a:lnTo>
                  <a:lnTo>
                    <a:pt x="45" y="451"/>
                  </a:lnTo>
                  <a:lnTo>
                    <a:pt x="49" y="443"/>
                  </a:lnTo>
                  <a:lnTo>
                    <a:pt x="188" y="462"/>
                  </a:lnTo>
                  <a:lnTo>
                    <a:pt x="194" y="450"/>
                  </a:lnTo>
                  <a:lnTo>
                    <a:pt x="200" y="439"/>
                  </a:lnTo>
                  <a:lnTo>
                    <a:pt x="204" y="429"/>
                  </a:lnTo>
                  <a:lnTo>
                    <a:pt x="210" y="418"/>
                  </a:lnTo>
                  <a:lnTo>
                    <a:pt x="216" y="408"/>
                  </a:lnTo>
                  <a:lnTo>
                    <a:pt x="221" y="399"/>
                  </a:lnTo>
                  <a:lnTo>
                    <a:pt x="228" y="389"/>
                  </a:lnTo>
                  <a:lnTo>
                    <a:pt x="234" y="379"/>
                  </a:lnTo>
                  <a:lnTo>
                    <a:pt x="241" y="370"/>
                  </a:lnTo>
                  <a:lnTo>
                    <a:pt x="249" y="357"/>
                  </a:lnTo>
                  <a:lnTo>
                    <a:pt x="164" y="249"/>
                  </a:lnTo>
                  <a:lnTo>
                    <a:pt x="167" y="244"/>
                  </a:lnTo>
                  <a:lnTo>
                    <a:pt x="172" y="240"/>
                  </a:lnTo>
                  <a:lnTo>
                    <a:pt x="177" y="235"/>
                  </a:lnTo>
                  <a:lnTo>
                    <a:pt x="180" y="231"/>
                  </a:lnTo>
                  <a:lnTo>
                    <a:pt x="185" y="226"/>
                  </a:lnTo>
                  <a:lnTo>
                    <a:pt x="189" y="221"/>
                  </a:lnTo>
                  <a:lnTo>
                    <a:pt x="194" y="217"/>
                  </a:lnTo>
                  <a:lnTo>
                    <a:pt x="198" y="212"/>
                  </a:lnTo>
                  <a:lnTo>
                    <a:pt x="318" y="281"/>
                  </a:lnTo>
                  <a:lnTo>
                    <a:pt x="329" y="272"/>
                  </a:lnTo>
                  <a:lnTo>
                    <a:pt x="338" y="264"/>
                  </a:lnTo>
                  <a:lnTo>
                    <a:pt x="346" y="257"/>
                  </a:lnTo>
                  <a:lnTo>
                    <a:pt x="355" y="250"/>
                  </a:lnTo>
                  <a:lnTo>
                    <a:pt x="364" y="243"/>
                  </a:lnTo>
                  <a:lnTo>
                    <a:pt x="373" y="238"/>
                  </a:lnTo>
                  <a:lnTo>
                    <a:pt x="383" y="232"/>
                  </a:lnTo>
                  <a:lnTo>
                    <a:pt x="392" y="225"/>
                  </a:lnTo>
                  <a:lnTo>
                    <a:pt x="401" y="219"/>
                  </a:lnTo>
                  <a:lnTo>
                    <a:pt x="414" y="211"/>
                  </a:lnTo>
                  <a:lnTo>
                    <a:pt x="377" y="79"/>
                  </a:lnTo>
                  <a:lnTo>
                    <a:pt x="383" y="76"/>
                  </a:lnTo>
                  <a:lnTo>
                    <a:pt x="388" y="73"/>
                  </a:lnTo>
                  <a:lnTo>
                    <a:pt x="394" y="70"/>
                  </a:lnTo>
                  <a:lnTo>
                    <a:pt x="400" y="67"/>
                  </a:lnTo>
                  <a:lnTo>
                    <a:pt x="406" y="65"/>
                  </a:lnTo>
                  <a:lnTo>
                    <a:pt x="413" y="62"/>
                  </a:lnTo>
                  <a:lnTo>
                    <a:pt x="418" y="59"/>
                  </a:lnTo>
                  <a:lnTo>
                    <a:pt x="424" y="57"/>
                  </a:lnTo>
                  <a:lnTo>
                    <a:pt x="507" y="167"/>
                  </a:lnTo>
                  <a:lnTo>
                    <a:pt x="521" y="163"/>
                  </a:lnTo>
                  <a:lnTo>
                    <a:pt x="531" y="159"/>
                  </a:lnTo>
                  <a:lnTo>
                    <a:pt x="542" y="156"/>
                  </a:lnTo>
                  <a:lnTo>
                    <a:pt x="552" y="153"/>
                  </a:lnTo>
                  <a:lnTo>
                    <a:pt x="562" y="150"/>
                  </a:lnTo>
                  <a:lnTo>
                    <a:pt x="573" y="148"/>
                  </a:lnTo>
                  <a:lnTo>
                    <a:pt x="583" y="145"/>
                  </a:lnTo>
                  <a:lnTo>
                    <a:pt x="593" y="143"/>
                  </a:lnTo>
                  <a:lnTo>
                    <a:pt x="604" y="141"/>
                  </a:lnTo>
                  <a:lnTo>
                    <a:pt x="619" y="138"/>
                  </a:lnTo>
                  <a:lnTo>
                    <a:pt x="636" y="4"/>
                  </a:lnTo>
                  <a:lnTo>
                    <a:pt x="643" y="2"/>
                  </a:lnTo>
                  <a:lnTo>
                    <a:pt x="649" y="2"/>
                  </a:lnTo>
                  <a:lnTo>
                    <a:pt x="656" y="1"/>
                  </a:lnTo>
                  <a:lnTo>
                    <a:pt x="662" y="1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83" y="0"/>
                  </a:lnTo>
                  <a:lnTo>
                    <a:pt x="690" y="0"/>
                  </a:lnTo>
                  <a:lnTo>
                    <a:pt x="725" y="134"/>
                  </a:lnTo>
                  <a:lnTo>
                    <a:pt x="738" y="135"/>
                  </a:lnTo>
                  <a:lnTo>
                    <a:pt x="749" y="136"/>
                  </a:lnTo>
                  <a:lnTo>
                    <a:pt x="759" y="137"/>
                  </a:lnTo>
                  <a:lnTo>
                    <a:pt x="770" y="138"/>
                  </a:lnTo>
                  <a:lnTo>
                    <a:pt x="780" y="140"/>
                  </a:lnTo>
                  <a:lnTo>
                    <a:pt x="790" y="142"/>
                  </a:lnTo>
                  <a:lnTo>
                    <a:pt x="801" y="143"/>
                  </a:lnTo>
                  <a:lnTo>
                    <a:pt x="811" y="145"/>
                  </a:lnTo>
                  <a:lnTo>
                    <a:pt x="821" y="148"/>
                  </a:lnTo>
                  <a:lnTo>
                    <a:pt x="836" y="151"/>
                  </a:lnTo>
                  <a:lnTo>
                    <a:pt x="904" y="31"/>
                  </a:lnTo>
                  <a:lnTo>
                    <a:pt x="911" y="34"/>
                  </a:lnTo>
                  <a:lnTo>
                    <a:pt x="917" y="36"/>
                  </a:lnTo>
                  <a:lnTo>
                    <a:pt x="923" y="38"/>
                  </a:lnTo>
                  <a:lnTo>
                    <a:pt x="930" y="41"/>
                  </a:lnTo>
                  <a:lnTo>
                    <a:pt x="935" y="43"/>
                  </a:lnTo>
                  <a:lnTo>
                    <a:pt x="942" y="45"/>
                  </a:lnTo>
                  <a:lnTo>
                    <a:pt x="949" y="47"/>
                  </a:lnTo>
                  <a:lnTo>
                    <a:pt x="956" y="50"/>
                  </a:lnTo>
                  <a:lnTo>
                    <a:pt x="937" y="188"/>
                  </a:lnTo>
                  <a:lnTo>
                    <a:pt x="949" y="195"/>
                  </a:lnTo>
                  <a:lnTo>
                    <a:pt x="958" y="200"/>
                  </a:lnTo>
                  <a:lnTo>
                    <a:pt x="968" y="204"/>
                  </a:lnTo>
                  <a:lnTo>
                    <a:pt x="976" y="209"/>
                  </a:lnTo>
                  <a:lnTo>
                    <a:pt x="985" y="213"/>
                  </a:lnTo>
                  <a:lnTo>
                    <a:pt x="993" y="219"/>
                  </a:lnTo>
                  <a:lnTo>
                    <a:pt x="1002" y="224"/>
                  </a:lnTo>
                  <a:lnTo>
                    <a:pt x="1010" y="229"/>
                  </a:lnTo>
                  <a:lnTo>
                    <a:pt x="1018" y="235"/>
                  </a:lnTo>
                  <a:lnTo>
                    <a:pt x="1030" y="244"/>
                  </a:lnTo>
                  <a:lnTo>
                    <a:pt x="1140" y="159"/>
                  </a:lnTo>
                  <a:lnTo>
                    <a:pt x="1146" y="164"/>
                  </a:lnTo>
                  <a:lnTo>
                    <a:pt x="1151" y="168"/>
                  </a:lnTo>
                  <a:lnTo>
                    <a:pt x="1157" y="173"/>
                  </a:lnTo>
                  <a:lnTo>
                    <a:pt x="1161" y="178"/>
                  </a:lnTo>
                  <a:lnTo>
                    <a:pt x="1167" y="182"/>
                  </a:lnTo>
                  <a:lnTo>
                    <a:pt x="1171" y="187"/>
                  </a:lnTo>
                  <a:lnTo>
                    <a:pt x="1177" y="191"/>
                  </a:lnTo>
                  <a:lnTo>
                    <a:pt x="1182" y="196"/>
                  </a:lnTo>
                  <a:lnTo>
                    <a:pt x="1110" y="317"/>
                  </a:lnTo>
                  <a:lnTo>
                    <a:pt x="1120" y="327"/>
                  </a:lnTo>
                  <a:lnTo>
                    <a:pt x="1127" y="334"/>
                  </a:lnTo>
                  <a:lnTo>
                    <a:pt x="1132" y="342"/>
                  </a:lnTo>
                  <a:lnTo>
                    <a:pt x="1138" y="350"/>
                  </a:lnTo>
                  <a:lnTo>
                    <a:pt x="1144" y="357"/>
                  </a:lnTo>
                  <a:lnTo>
                    <a:pt x="1150" y="365"/>
                  </a:lnTo>
                  <a:lnTo>
                    <a:pt x="1155" y="374"/>
                  </a:lnTo>
                  <a:lnTo>
                    <a:pt x="1160" y="382"/>
                  </a:lnTo>
                  <a:lnTo>
                    <a:pt x="1166" y="390"/>
                  </a:lnTo>
                  <a:lnTo>
                    <a:pt x="1174" y="402"/>
                  </a:lnTo>
                  <a:lnTo>
                    <a:pt x="1310" y="364"/>
                  </a:lnTo>
                  <a:lnTo>
                    <a:pt x="1317" y="377"/>
                  </a:lnTo>
                  <a:lnTo>
                    <a:pt x="1323" y="390"/>
                  </a:lnTo>
                  <a:lnTo>
                    <a:pt x="1329" y="402"/>
                  </a:lnTo>
                  <a:lnTo>
                    <a:pt x="1335" y="416"/>
                  </a:lnTo>
                  <a:lnTo>
                    <a:pt x="1222" y="501"/>
                  </a:lnTo>
                  <a:lnTo>
                    <a:pt x="1227" y="515"/>
                  </a:lnTo>
                  <a:lnTo>
                    <a:pt x="1231" y="533"/>
                  </a:lnTo>
                  <a:lnTo>
                    <a:pt x="1237" y="551"/>
                  </a:lnTo>
                  <a:lnTo>
                    <a:pt x="1242" y="569"/>
                  </a:lnTo>
                  <a:lnTo>
                    <a:pt x="1245" y="588"/>
                  </a:lnTo>
                  <a:lnTo>
                    <a:pt x="1247" y="603"/>
                  </a:lnTo>
                  <a:lnTo>
                    <a:pt x="1390" y="620"/>
                  </a:lnTo>
                  <a:lnTo>
                    <a:pt x="1391" y="634"/>
                  </a:lnTo>
                  <a:lnTo>
                    <a:pt x="1393" y="648"/>
                  </a:lnTo>
                  <a:lnTo>
                    <a:pt x="1394" y="663"/>
                  </a:lnTo>
                  <a:lnTo>
                    <a:pt x="1395" y="677"/>
                  </a:lnTo>
                  <a:lnTo>
                    <a:pt x="1254" y="713"/>
                  </a:lnTo>
                  <a:lnTo>
                    <a:pt x="1253" y="727"/>
                  </a:lnTo>
                  <a:lnTo>
                    <a:pt x="1252" y="746"/>
                  </a:lnTo>
                  <a:lnTo>
                    <a:pt x="1250" y="764"/>
                  </a:lnTo>
                  <a:lnTo>
                    <a:pt x="1247" y="783"/>
                  </a:lnTo>
                  <a:lnTo>
                    <a:pt x="1244" y="801"/>
                  </a:lnTo>
                  <a:lnTo>
                    <a:pt x="1241" y="816"/>
                  </a:lnTo>
                  <a:lnTo>
                    <a:pt x="1368" y="889"/>
                  </a:lnTo>
                  <a:lnTo>
                    <a:pt x="1364" y="902"/>
                  </a:lnTo>
                  <a:lnTo>
                    <a:pt x="1360" y="916"/>
                  </a:lnTo>
                  <a:lnTo>
                    <a:pt x="1356" y="929"/>
                  </a:lnTo>
                  <a:lnTo>
                    <a:pt x="1351" y="942"/>
                  </a:lnTo>
                  <a:lnTo>
                    <a:pt x="1205" y="921"/>
                  </a:lnTo>
                  <a:lnTo>
                    <a:pt x="1199" y="935"/>
                  </a:lnTo>
                  <a:lnTo>
                    <a:pt x="1195" y="943"/>
                  </a:lnTo>
                  <a:lnTo>
                    <a:pt x="1190" y="952"/>
                  </a:lnTo>
                  <a:lnTo>
                    <a:pt x="1186" y="960"/>
                  </a:lnTo>
                  <a:lnTo>
                    <a:pt x="1182" y="968"/>
                  </a:lnTo>
                  <a:lnTo>
                    <a:pt x="1177" y="976"/>
                  </a:lnTo>
                  <a:lnTo>
                    <a:pt x="1173" y="984"/>
                  </a:lnTo>
                  <a:lnTo>
                    <a:pt x="1167" y="992"/>
                  </a:lnTo>
                  <a:lnTo>
                    <a:pt x="1162" y="999"/>
                  </a:lnTo>
                  <a:lnTo>
                    <a:pt x="1154" y="1012"/>
                  </a:lnTo>
                  <a:lnTo>
                    <a:pt x="1246" y="1129"/>
                  </a:lnTo>
                  <a:lnTo>
                    <a:pt x="1242" y="1134"/>
                  </a:lnTo>
                  <a:lnTo>
                    <a:pt x="1237" y="1140"/>
                  </a:lnTo>
                  <a:lnTo>
                    <a:pt x="1233" y="1144"/>
                  </a:lnTo>
                  <a:lnTo>
                    <a:pt x="1229" y="1150"/>
                  </a:lnTo>
                  <a:lnTo>
                    <a:pt x="1224" y="1155"/>
                  </a:lnTo>
                  <a:lnTo>
                    <a:pt x="1220" y="1161"/>
                  </a:lnTo>
                  <a:lnTo>
                    <a:pt x="1215" y="1165"/>
                  </a:lnTo>
                  <a:lnTo>
                    <a:pt x="1211" y="1171"/>
                  </a:lnTo>
                  <a:lnTo>
                    <a:pt x="1083" y="1095"/>
                  </a:lnTo>
                  <a:lnTo>
                    <a:pt x="1071" y="1105"/>
                  </a:lnTo>
                  <a:lnTo>
                    <a:pt x="1064" y="1112"/>
                  </a:lnTo>
                  <a:lnTo>
                    <a:pt x="1056" y="1118"/>
                  </a:lnTo>
                  <a:lnTo>
                    <a:pt x="1049" y="1124"/>
                  </a:lnTo>
                  <a:lnTo>
                    <a:pt x="1041" y="1131"/>
                  </a:lnTo>
                  <a:lnTo>
                    <a:pt x="1034" y="1136"/>
                  </a:lnTo>
                  <a:lnTo>
                    <a:pt x="1026" y="1142"/>
                  </a:lnTo>
                  <a:lnTo>
                    <a:pt x="1019" y="1147"/>
                  </a:lnTo>
                  <a:lnTo>
                    <a:pt x="1011" y="1153"/>
                  </a:lnTo>
                  <a:lnTo>
                    <a:pt x="1000" y="1161"/>
                  </a:lnTo>
                  <a:lnTo>
                    <a:pt x="1039" y="1306"/>
                  </a:lnTo>
                  <a:lnTo>
                    <a:pt x="1033" y="1309"/>
                  </a:lnTo>
                  <a:lnTo>
                    <a:pt x="1028" y="1313"/>
                  </a:lnTo>
                  <a:lnTo>
                    <a:pt x="1022" y="1316"/>
                  </a:lnTo>
                  <a:lnTo>
                    <a:pt x="1016" y="1318"/>
                  </a:lnTo>
                  <a:lnTo>
                    <a:pt x="1010" y="1322"/>
                  </a:lnTo>
                  <a:lnTo>
                    <a:pt x="1003" y="1324"/>
                  </a:lnTo>
                  <a:lnTo>
                    <a:pt x="998" y="1328"/>
                  </a:lnTo>
                  <a:lnTo>
                    <a:pt x="992" y="1330"/>
                  </a:lnTo>
                  <a:lnTo>
                    <a:pt x="902" y="1211"/>
                  </a:lnTo>
                  <a:lnTo>
                    <a:pt x="888" y="1216"/>
                  </a:lnTo>
                  <a:lnTo>
                    <a:pt x="879" y="1219"/>
                  </a:lnTo>
                  <a:lnTo>
                    <a:pt x="870" y="1223"/>
                  </a:lnTo>
                  <a:lnTo>
                    <a:pt x="859" y="1225"/>
                  </a:lnTo>
                  <a:lnTo>
                    <a:pt x="850" y="1229"/>
                  </a:lnTo>
                  <a:lnTo>
                    <a:pt x="841" y="1231"/>
                  </a:lnTo>
                  <a:lnTo>
                    <a:pt x="832" y="1233"/>
                  </a:lnTo>
                  <a:lnTo>
                    <a:pt x="821" y="1235"/>
                  </a:lnTo>
                  <a:lnTo>
                    <a:pt x="812" y="1238"/>
                  </a:lnTo>
                  <a:lnTo>
                    <a:pt x="798" y="124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94600" y="4429080"/>
              <a:ext cx="165240" cy="126360"/>
            </a:xfrm>
            <a:custGeom>
              <a:avLst/>
              <a:gdLst/>
              <a:ahLst/>
              <a:rect l="l" t="t" r="r" b="b"/>
              <a:pathLst>
                <a:path w="592" h="593">
                  <a:moveTo>
                    <a:pt x="133" y="544"/>
                  </a:moveTo>
                  <a:lnTo>
                    <a:pt x="87" y="506"/>
                  </a:lnTo>
                  <a:lnTo>
                    <a:pt x="50" y="459"/>
                  </a:lnTo>
                  <a:lnTo>
                    <a:pt x="23" y="409"/>
                  </a:lnTo>
                  <a:lnTo>
                    <a:pt x="7" y="355"/>
                  </a:lnTo>
                  <a:lnTo>
                    <a:pt x="0" y="298"/>
                  </a:lnTo>
                  <a:lnTo>
                    <a:pt x="6" y="240"/>
                  </a:lnTo>
                  <a:lnTo>
                    <a:pt x="22" y="185"/>
                  </a:lnTo>
                  <a:lnTo>
                    <a:pt x="50" y="132"/>
                  </a:lnTo>
                  <a:lnTo>
                    <a:pt x="59" y="121"/>
                  </a:lnTo>
                  <a:lnTo>
                    <a:pt x="67" y="108"/>
                  </a:lnTo>
                  <a:lnTo>
                    <a:pt x="77" y="98"/>
                  </a:lnTo>
                  <a:lnTo>
                    <a:pt x="88" y="87"/>
                  </a:lnTo>
                  <a:lnTo>
                    <a:pt x="98" y="77"/>
                  </a:lnTo>
                  <a:lnTo>
                    <a:pt x="109" y="68"/>
                  </a:lnTo>
                  <a:lnTo>
                    <a:pt x="120" y="58"/>
                  </a:lnTo>
                  <a:lnTo>
                    <a:pt x="132" y="50"/>
                  </a:lnTo>
                  <a:lnTo>
                    <a:pt x="143" y="42"/>
                  </a:lnTo>
                  <a:lnTo>
                    <a:pt x="156" y="35"/>
                  </a:lnTo>
                  <a:lnTo>
                    <a:pt x="168" y="28"/>
                  </a:lnTo>
                  <a:lnTo>
                    <a:pt x="182" y="23"/>
                  </a:lnTo>
                  <a:lnTo>
                    <a:pt x="195" y="17"/>
                  </a:lnTo>
                  <a:lnTo>
                    <a:pt x="209" y="12"/>
                  </a:lnTo>
                  <a:lnTo>
                    <a:pt x="224" y="9"/>
                  </a:lnTo>
                  <a:lnTo>
                    <a:pt x="238" y="5"/>
                  </a:lnTo>
                  <a:lnTo>
                    <a:pt x="253" y="3"/>
                  </a:lnTo>
                  <a:lnTo>
                    <a:pt x="266" y="1"/>
                  </a:lnTo>
                  <a:lnTo>
                    <a:pt x="281" y="0"/>
                  </a:lnTo>
                  <a:lnTo>
                    <a:pt x="295" y="0"/>
                  </a:lnTo>
                  <a:lnTo>
                    <a:pt x="310" y="0"/>
                  </a:lnTo>
                  <a:lnTo>
                    <a:pt x="324" y="1"/>
                  </a:lnTo>
                  <a:lnTo>
                    <a:pt x="339" y="3"/>
                  </a:lnTo>
                  <a:lnTo>
                    <a:pt x="353" y="5"/>
                  </a:lnTo>
                  <a:lnTo>
                    <a:pt x="367" y="9"/>
                  </a:lnTo>
                  <a:lnTo>
                    <a:pt x="381" y="12"/>
                  </a:lnTo>
                  <a:lnTo>
                    <a:pt x="394" y="17"/>
                  </a:lnTo>
                  <a:lnTo>
                    <a:pt x="408" y="22"/>
                  </a:lnTo>
                  <a:lnTo>
                    <a:pt x="422" y="27"/>
                  </a:lnTo>
                  <a:lnTo>
                    <a:pt x="434" y="34"/>
                  </a:lnTo>
                  <a:lnTo>
                    <a:pt x="447" y="41"/>
                  </a:lnTo>
                  <a:lnTo>
                    <a:pt x="460" y="49"/>
                  </a:lnTo>
                  <a:lnTo>
                    <a:pt x="506" y="87"/>
                  </a:lnTo>
                  <a:lnTo>
                    <a:pt x="543" y="133"/>
                  </a:lnTo>
                  <a:lnTo>
                    <a:pt x="569" y="184"/>
                  </a:lnTo>
                  <a:lnTo>
                    <a:pt x="586" y="238"/>
                  </a:lnTo>
                  <a:lnTo>
                    <a:pt x="592" y="295"/>
                  </a:lnTo>
                  <a:lnTo>
                    <a:pt x="586" y="352"/>
                  </a:lnTo>
                  <a:lnTo>
                    <a:pt x="570" y="408"/>
                  </a:lnTo>
                  <a:lnTo>
                    <a:pt x="543" y="461"/>
                  </a:lnTo>
                  <a:lnTo>
                    <a:pt x="535" y="472"/>
                  </a:lnTo>
                  <a:lnTo>
                    <a:pt x="525" y="485"/>
                  </a:lnTo>
                  <a:lnTo>
                    <a:pt x="516" y="495"/>
                  </a:lnTo>
                  <a:lnTo>
                    <a:pt x="506" y="506"/>
                  </a:lnTo>
                  <a:lnTo>
                    <a:pt x="495" y="516"/>
                  </a:lnTo>
                  <a:lnTo>
                    <a:pt x="484" y="525"/>
                  </a:lnTo>
                  <a:lnTo>
                    <a:pt x="472" y="534"/>
                  </a:lnTo>
                  <a:lnTo>
                    <a:pt x="461" y="542"/>
                  </a:lnTo>
                  <a:lnTo>
                    <a:pt x="449" y="550"/>
                  </a:lnTo>
                  <a:lnTo>
                    <a:pt x="437" y="557"/>
                  </a:lnTo>
                  <a:lnTo>
                    <a:pt x="424" y="564"/>
                  </a:lnTo>
                  <a:lnTo>
                    <a:pt x="410" y="570"/>
                  </a:lnTo>
                  <a:lnTo>
                    <a:pt x="396" y="576"/>
                  </a:lnTo>
                  <a:lnTo>
                    <a:pt x="383" y="580"/>
                  </a:lnTo>
                  <a:lnTo>
                    <a:pt x="369" y="584"/>
                  </a:lnTo>
                  <a:lnTo>
                    <a:pt x="354" y="587"/>
                  </a:lnTo>
                  <a:lnTo>
                    <a:pt x="339" y="590"/>
                  </a:lnTo>
                  <a:lnTo>
                    <a:pt x="325" y="592"/>
                  </a:lnTo>
                  <a:lnTo>
                    <a:pt x="310" y="593"/>
                  </a:lnTo>
                  <a:lnTo>
                    <a:pt x="296" y="593"/>
                  </a:lnTo>
                  <a:lnTo>
                    <a:pt x="281" y="593"/>
                  </a:lnTo>
                  <a:lnTo>
                    <a:pt x="267" y="592"/>
                  </a:lnTo>
                  <a:lnTo>
                    <a:pt x="253" y="590"/>
                  </a:lnTo>
                  <a:lnTo>
                    <a:pt x="239" y="587"/>
                  </a:lnTo>
                  <a:lnTo>
                    <a:pt x="225" y="584"/>
                  </a:lnTo>
                  <a:lnTo>
                    <a:pt x="211" y="580"/>
                  </a:lnTo>
                  <a:lnTo>
                    <a:pt x="197" y="576"/>
                  </a:lnTo>
                  <a:lnTo>
                    <a:pt x="183" y="571"/>
                  </a:lnTo>
                  <a:lnTo>
                    <a:pt x="171" y="565"/>
                  </a:lnTo>
                  <a:lnTo>
                    <a:pt x="158" y="559"/>
                  </a:lnTo>
                  <a:lnTo>
                    <a:pt x="145" y="552"/>
                  </a:lnTo>
                  <a:lnTo>
                    <a:pt x="133" y="544"/>
                  </a:lnTo>
                  <a:close/>
                </a:path>
              </a:pathLst>
            </a:custGeom>
            <a:solidFill>
              <a:srgbClr val="77777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21400" y="4478040"/>
              <a:ext cx="71028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968640" y="2759040"/>
            <a:ext cx="803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208560" y="4213080"/>
            <a:ext cx="1119240" cy="668520"/>
            <a:chOff x="6208560" y="4213080"/>
            <a:chExt cx="1119240" cy="668520"/>
          </a:xfrm>
        </p:grpSpPr>
        <p:sp>
          <p:nvSpPr>
            <p:cNvPr id="366" name=""/>
            <p:cNvSpPr/>
            <p:nvPr/>
          </p:nvSpPr>
          <p:spPr>
            <a:xfrm>
              <a:off x="6208560" y="4319640"/>
              <a:ext cx="938160" cy="5619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03600" y="4262400"/>
              <a:ext cx="938520" cy="5619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89640" y="4213080"/>
              <a:ext cx="938160" cy="5619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f Pract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9" name=""/>
          <p:cNvCxnSpPr>
            <a:endCxn id="366" idx="3"/>
          </p:cNvCxnSpPr>
          <p:nvPr/>
        </p:nvCxnSpPr>
        <p:spPr>
          <a:xfrm>
            <a:off x="3070080" y="4724280"/>
            <a:ext cx="3277440" cy="75600"/>
          </a:xfrm>
          <a:prstGeom prst="curvedConnector5">
            <a:avLst>
              <a:gd name="adj1" fmla="val 2219"/>
              <a:gd name="adj2" fmla="val 226315"/>
              <a:gd name="adj3" fmla="val 221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181080" y="21337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28760" y="21337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66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22" idx="5"/>
            <a:endCxn id="368" idx="0"/>
          </p:cNvCxnSpPr>
          <p:nvPr/>
        </p:nvCxnSpPr>
        <p:spPr>
          <a:xfrm flipH="1" rot="16200000">
            <a:off x="5691960" y="3045600"/>
            <a:ext cx="989280" cy="1345320"/>
          </a:xfrm>
          <a:prstGeom prst="curvedConnector5">
            <a:avLst>
              <a:gd name="adj1" fmla="val 53767"/>
              <a:gd name="adj2" fmla="val 50000"/>
              <a:gd name="adj3" fmla="val 53767"/>
            </a:avLst>
          </a:prstGeom>
          <a:ln w="28440">
            <a:solidFill>
              <a:srgbClr val="3366ff"/>
            </a:solidFill>
            <a:prstDash val="dash"/>
            <a:miter/>
            <a:tailEnd len="med" type="arrow" w="med"/>
          </a:ln>
        </p:spPr>
      </p:cxnSp>
      <p:cxnSp>
        <p:nvCxnSpPr>
          <p:cNvPr id="373" name=""/>
          <p:cNvCxnSpPr>
            <a:stCxn id="346" idx="3"/>
            <a:endCxn id="368" idx="0"/>
          </p:cNvCxnSpPr>
          <p:nvPr/>
        </p:nvCxnSpPr>
        <p:spPr>
          <a:xfrm rot="5400000">
            <a:off x="6908760" y="3145680"/>
            <a:ext cx="1018080" cy="1118160"/>
          </a:xfrm>
          <a:prstGeom prst="curvedConnector5">
            <a:avLst>
              <a:gd name="adj1" fmla="val 53661"/>
              <a:gd name="adj2" fmla="val 49983"/>
              <a:gd name="adj3" fmla="val 53661"/>
            </a:avLst>
          </a:prstGeom>
          <a:ln w="28440">
            <a:solidFill>
              <a:srgbClr val="3366ff"/>
            </a:solidFill>
            <a:prstDash val="dash"/>
            <a:miter/>
            <a:tailEnd len="med" type="arrow" w="med"/>
          </a:ln>
        </p:spPr>
      </p:cxnSp>
      <p:cxnSp>
        <p:nvCxnSpPr>
          <p:cNvPr id="374" name=""/>
          <p:cNvCxnSpPr>
            <a:stCxn id="353" idx="2"/>
            <a:endCxn id="368" idx="0"/>
          </p:cNvCxnSpPr>
          <p:nvPr/>
        </p:nvCxnSpPr>
        <p:spPr>
          <a:xfrm rot="10800000">
            <a:off x="6858720" y="4213080"/>
            <a:ext cx="1002600" cy="76680"/>
          </a:xfrm>
          <a:prstGeom prst="curvedConnector5">
            <a:avLst>
              <a:gd name="adj1" fmla="val 26616"/>
              <a:gd name="adj2" fmla="val 200471"/>
              <a:gd name="adj3" fmla="val 26616"/>
            </a:avLst>
          </a:prstGeom>
          <a:ln w="28440">
            <a:solidFill>
              <a:srgbClr val="3366ff"/>
            </a:solidFill>
            <a:prstDash val="dash"/>
            <a:miter/>
            <a:tailEnd len="med" type="arrow" w="med"/>
          </a:ln>
        </p:spPr>
      </p:cxnSp>
      <p:cxnSp>
        <p:nvCxnSpPr>
          <p:cNvPr id="375" name=""/>
          <p:cNvCxnSpPr>
            <a:stCxn id="310" idx="6"/>
            <a:endCxn id="368" idx="4"/>
          </p:cNvCxnSpPr>
          <p:nvPr/>
        </p:nvCxnSpPr>
        <p:spPr>
          <a:xfrm flipV="1">
            <a:off x="5652720" y="4774320"/>
            <a:ext cx="1207080" cy="902520"/>
          </a:xfrm>
          <a:prstGeom prst="curvedConnector2">
            <a:avLst/>
          </a:prstGeom>
          <a:ln w="28440">
            <a:solidFill>
              <a:srgbClr val="cc00ff"/>
            </a:solidFill>
            <a:prstDash val="dash"/>
            <a:miter/>
            <a:tailEnd len="med" type="arrow" w="med"/>
          </a:ln>
        </p:spPr>
      </p:cxnSp>
      <p:sp>
        <p:nvSpPr>
          <p:cNvPr id="376" name=""/>
          <p:cNvSpPr/>
          <p:nvPr/>
        </p:nvSpPr>
        <p:spPr>
          <a:xfrm>
            <a:off x="4505400" y="189540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Offerors, Users, Community of Prac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73600" y="4835520"/>
            <a:ext cx="6271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ks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12920" y="2946240"/>
            <a:ext cx="8402400" cy="1616400"/>
          </a:xfrm>
          <a:prstGeom prst="rect">
            <a:avLst/>
          </a:prstGeom>
          <a:solidFill>
            <a:srgbClr val="7a93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3560" y="3017880"/>
            <a:ext cx="1666800" cy="9889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30960" y="3019320"/>
            <a:ext cx="1639800" cy="1076400"/>
          </a:xfrm>
          <a:prstGeom prst="roundRect">
            <a:avLst>
              <a:gd name="adj" fmla="val 16667"/>
            </a:avLst>
          </a:prstGeom>
          <a:solidFill>
            <a:srgbClr val="ff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7600" y="1557360"/>
            <a:ext cx="8407440" cy="1096920"/>
          </a:xfrm>
          <a:prstGeom prst="rect">
            <a:avLst/>
          </a:prstGeom>
          <a:solidFill>
            <a:srgbClr val="aaeb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07880" y="4906800"/>
            <a:ext cx="8382240" cy="944640"/>
          </a:xfrm>
          <a:prstGeom prst="rect">
            <a:avLst/>
          </a:prstGeom>
          <a:solidFill>
            <a:srgbClr val="2f3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11080" y="1730520"/>
            <a:ext cx="1530360" cy="6397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 We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75040" y="15526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 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55720" y="29368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rvices 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67320" y="49500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cess 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57360" y="1735200"/>
            <a:ext cx="1309680" cy="64116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5000" y="3070080"/>
            <a:ext cx="17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SS Regis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6640" y="3625920"/>
            <a:ext cx="1536840" cy="198360"/>
          </a:xfrm>
          <a:prstGeom prst="roundRect">
            <a:avLst>
              <a:gd name="adj" fmla="val 16667"/>
            </a:avLst>
          </a:prstGeom>
          <a:solidFill>
            <a:srgbClr val="81d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s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8080" y="3384720"/>
            <a:ext cx="1535400" cy="169560"/>
          </a:xfrm>
          <a:prstGeom prst="roundRect">
            <a:avLst>
              <a:gd name="adj" fmla="val 16667"/>
            </a:avLst>
          </a:prstGeom>
          <a:solidFill>
            <a:srgbClr val="81d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s,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78600" y="5084640"/>
            <a:ext cx="914400" cy="63972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41640" y="5078520"/>
            <a:ext cx="914400" cy="63972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68560" y="5078520"/>
            <a:ext cx="914400" cy="63972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4054320" y="1697040"/>
            <a:ext cx="1247400" cy="909360"/>
            <a:chOff x="4054320" y="1697040"/>
            <a:chExt cx="1247400" cy="909360"/>
          </a:xfrm>
        </p:grpSpPr>
        <p:sp>
          <p:nvSpPr>
            <p:cNvPr id="395" name=""/>
            <p:cNvSpPr/>
            <p:nvPr/>
          </p:nvSpPr>
          <p:spPr>
            <a:xfrm>
              <a:off x="4221360" y="1697040"/>
              <a:ext cx="1080360" cy="7322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143960" y="1783440"/>
              <a:ext cx="1080360" cy="7322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54320" y="1874160"/>
              <a:ext cx="1080360" cy="7322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S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rt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7431120" y="1968480"/>
            <a:ext cx="1349280" cy="4208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53360" y="2055960"/>
            <a:ext cx="1349280" cy="420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73800" y="2143080"/>
            <a:ext cx="1349640" cy="4208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Ap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4052880" y="3027240"/>
            <a:ext cx="1247400" cy="1058400"/>
            <a:chOff x="4052880" y="3027240"/>
            <a:chExt cx="1247400" cy="1058400"/>
          </a:xfrm>
        </p:grpSpPr>
        <p:sp>
          <p:nvSpPr>
            <p:cNvPr id="402" name=""/>
            <p:cNvSpPr/>
            <p:nvPr/>
          </p:nvSpPr>
          <p:spPr>
            <a:xfrm>
              <a:off x="4219920" y="3027240"/>
              <a:ext cx="1080360" cy="852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42880" y="3128040"/>
              <a:ext cx="1080360" cy="852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52880" y="3232800"/>
              <a:ext cx="1080360" cy="8528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talog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2500200" y="3030480"/>
            <a:ext cx="1335240" cy="9781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ing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71960" y="5079960"/>
            <a:ext cx="914400" cy="63972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5200" y="423720"/>
            <a:ext cx="78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aa"/>
                </a:solidFill>
                <a:latin typeface="Arial"/>
              </a:rPr>
              <a:t>IOC Architecture – Engineering Viewpoint (Feb 20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87360" y="4064040"/>
            <a:ext cx="220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EO Core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40320" y="407052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mmunal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516640" y="303228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5448240" y="3325680"/>
            <a:ext cx="1582560" cy="304920"/>
            <a:chOff x="5448240" y="3325680"/>
            <a:chExt cx="1582560" cy="304920"/>
          </a:xfrm>
        </p:grpSpPr>
        <p:sp>
          <p:nvSpPr>
            <p:cNvPr id="412" name=""/>
            <p:cNvSpPr/>
            <p:nvPr/>
          </p:nvSpPr>
          <p:spPr>
            <a:xfrm>
              <a:off x="5660280" y="3325680"/>
              <a:ext cx="1370520" cy="245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62000" y="3354480"/>
              <a:ext cx="1370520" cy="245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48240" y="3385080"/>
              <a:ext cx="1370520" cy="245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, Port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465880" y="3695760"/>
            <a:ext cx="1528200" cy="304920"/>
            <a:chOff x="5465880" y="3695760"/>
            <a:chExt cx="1528200" cy="304920"/>
          </a:xfrm>
        </p:grpSpPr>
        <p:sp>
          <p:nvSpPr>
            <p:cNvPr id="416" name=""/>
            <p:cNvSpPr/>
            <p:nvPr/>
          </p:nvSpPr>
          <p:spPr>
            <a:xfrm>
              <a:off x="5670720" y="3695760"/>
              <a:ext cx="1323360" cy="245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75680" y="3724560"/>
              <a:ext cx="1323360" cy="245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65880" y="3755160"/>
              <a:ext cx="1323360" cy="245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, Workf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654120" y="1625760"/>
            <a:ext cx="3220920" cy="27097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86280" y="1636560"/>
            <a:ext cx="3138480" cy="2692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16600" y="1316160"/>
            <a:ext cx="286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opted from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ercivall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, Feb 200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y R. Hu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50920" y="1487520"/>
            <a:ext cx="7048440" cy="4595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9200" y="51120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AI Pilot Development Approach</a:t>
            </a: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5489640" y="4634640"/>
            <a:ext cx="172548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7200" y="3809160"/>
            <a:ext cx="14716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ck-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44320" y="2942280"/>
            <a:ext cx="156600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95160" y="2105640"/>
            <a:ext cx="163692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56600" y="5362200"/>
            <a:ext cx="1520640" cy="916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R-07-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9" name=""/>
          <p:cNvCxnSpPr>
            <a:stCxn id="427" idx="2"/>
            <a:endCxn id="426" idx="1"/>
          </p:cNvCxnSpPr>
          <p:nvPr/>
        </p:nvCxnSpPr>
        <p:spPr>
          <a:xfrm flipH="1" rot="16200000">
            <a:off x="1670040" y="2595960"/>
            <a:ext cx="511920" cy="8247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endCxn id="425" idx="1"/>
          </p:cNvCxnSpPr>
          <p:nvPr/>
        </p:nvCxnSpPr>
        <p:spPr>
          <a:xfrm flipH="1" rot="16200000">
            <a:off x="3317760" y="3481920"/>
            <a:ext cx="526320" cy="7722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/>
          <p:nvPr/>
        </p:nvCxnSpPr>
        <p:spPr>
          <a:xfrm flipH="1" rot="16200000">
            <a:off x="4825080" y="4252680"/>
            <a:ext cx="511920" cy="9025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endCxn id="428" idx="1"/>
          </p:cNvCxnSpPr>
          <p:nvPr/>
        </p:nvCxnSpPr>
        <p:spPr>
          <a:xfrm flipH="1" rot="16200000">
            <a:off x="6580440" y="5044680"/>
            <a:ext cx="552960" cy="1000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340320" y="4313160"/>
            <a:ext cx="0" cy="311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28" idx="2"/>
            <a:endCxn id="427" idx="1"/>
          </p:cNvCxnSpPr>
          <p:nvPr/>
        </p:nvCxnSpPr>
        <p:spPr>
          <a:xfrm flipV="1" rot="16200000">
            <a:off x="2477520" y="643680"/>
            <a:ext cx="3857040" cy="7422480"/>
          </a:xfrm>
          <a:prstGeom prst="bentConnector4">
            <a:avLst>
              <a:gd name="adj1" fmla="val -5927"/>
              <a:gd name="adj2" fmla="val 10307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" name=""/>
          <p:cNvSpPr/>
          <p:nvPr/>
        </p:nvSpPr>
        <p:spPr>
          <a:xfrm>
            <a:off x="5761800" y="405936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73520" y="349740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083840" y="32320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35240" y="263700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34400" y="2360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19200" y="181764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929520" y="15526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123400" y="504828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544520" y="474984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973080" y="4092480"/>
            <a:ext cx="2013120" cy="1664640"/>
            <a:chOff x="973080" y="4092480"/>
            <a:chExt cx="2013120" cy="1664640"/>
          </a:xfrm>
        </p:grpSpPr>
        <p:sp>
          <p:nvSpPr>
            <p:cNvPr id="445" name=""/>
            <p:cNvSpPr/>
            <p:nvPr/>
          </p:nvSpPr>
          <p:spPr>
            <a:xfrm>
              <a:off x="973080" y="4640400"/>
              <a:ext cx="201312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79640" y="4335480"/>
              <a:ext cx="0" cy="31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79640" y="5165640"/>
              <a:ext cx="0" cy="31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14480" y="4092480"/>
              <a:ext cx="193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pdates for each st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46920" y="54500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3005280" y="1671480"/>
            <a:ext cx="414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-07-02 Architecture Implementation Pi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olutionary Development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040840" y="6202440"/>
            <a:ext cx="40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Baseline for next evolutionary spir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92840" y="1154160"/>
            <a:ext cx="207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 Percivall, Feb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6120" y="3729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AIP Process improvement ideas</a:t>
            </a: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149400" y="148284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 on AIP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13160" y="1482840"/>
            <a:ext cx="25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Impr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4160" y="2262240"/>
            <a:ext cx="236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ity defined by developers not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51160" y="2214720"/>
            <a:ext cx="2892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C/ADC collab., Workshops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al SBA functiona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592360" y="2527200"/>
            <a:ext cx="392040" cy="168480"/>
          </a:xfrm>
          <a:prstGeom prst="rightArrow">
            <a:avLst>
              <a:gd name="adj1" fmla="val 50000"/>
              <a:gd name="adj2" fmla="val 58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76120" y="3336840"/>
            <a:ext cx="229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P Process is 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54400" y="3289320"/>
            <a:ext cx="28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 development iterative; Anyone can join at any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616120" y="3489480"/>
            <a:ext cx="393840" cy="168120"/>
          </a:xfrm>
          <a:prstGeom prst="rightArrow">
            <a:avLst>
              <a:gd name="adj1" fmla="val 50000"/>
              <a:gd name="adj2" fmla="val 585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90520" y="4173480"/>
            <a:ext cx="217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focused on demonst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3480" y="4125960"/>
            <a:ext cx="288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operational persistence; Deliver AR-07-01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630520" y="4308480"/>
            <a:ext cx="392040" cy="166680"/>
          </a:xfrm>
          <a:prstGeom prst="rightArrow">
            <a:avLst>
              <a:gd name="adj1" fmla="val 50000"/>
              <a:gd name="adj2" fmla="val 5880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2600" y="5176800"/>
            <a:ext cx="235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 structured: milestones, deliver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54400" y="5129280"/>
            <a:ext cx="292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ain structure within phase; More iterative, open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622600" y="5292720"/>
            <a:ext cx="392040" cy="168120"/>
          </a:xfrm>
          <a:prstGeom prst="rightArrow">
            <a:avLst>
              <a:gd name="adj1" fmla="val 50000"/>
              <a:gd name="adj2" fmla="val 582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68880" y="173160"/>
            <a:ext cx="286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opted from Percivall, Feb 2008 by R. Hu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92720" y="2422440"/>
            <a:ext cx="420840" cy="177840"/>
          </a:xfrm>
          <a:prstGeom prst="rightArrow">
            <a:avLst>
              <a:gd name="adj1" fmla="val 50000"/>
              <a:gd name="adj2" fmla="val 5916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16480" y="3384720"/>
            <a:ext cx="422280" cy="177480"/>
          </a:xfrm>
          <a:prstGeom prst="rightArrow">
            <a:avLst>
              <a:gd name="adj1" fmla="val 50000"/>
              <a:gd name="adj2" fmla="val 59483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230880" y="4203720"/>
            <a:ext cx="420840" cy="176040"/>
          </a:xfrm>
          <a:prstGeom prst="rightArrow">
            <a:avLst>
              <a:gd name="adj1" fmla="val 50000"/>
              <a:gd name="adj2" fmla="val 59765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22960" y="5187960"/>
            <a:ext cx="420840" cy="177840"/>
          </a:xfrm>
          <a:prstGeom prst="rightArrow">
            <a:avLst>
              <a:gd name="adj1" fmla="val 50000"/>
              <a:gd name="adj2" fmla="val 5916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642000" y="2290680"/>
            <a:ext cx="227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5e04"/>
                </a:solidFill>
                <a:latin typeface="Arial"/>
              </a:rPr>
              <a:t>Contact with UIC; Toronto, Worksho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645240" y="325116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5e04"/>
                </a:solidFill>
                <a:latin typeface="Arial"/>
              </a:rPr>
              <a:t>Open Invitations, ESIP, CoP wi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654960" y="4173480"/>
            <a:ext cx="233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5e04"/>
                </a:solidFill>
                <a:latin typeface="Arial"/>
              </a:rPr>
              <a:t>Expand AQ Data Netw; Seek link to AR-07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35880" y="5129280"/>
            <a:ext cx="236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5e04"/>
                </a:solidFill>
                <a:latin typeface="Arial"/>
              </a:rPr>
              <a:t>One phase at a time; Feedback, feed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26040" y="1482840"/>
            <a:ext cx="31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5e04"/>
                </a:solidFill>
                <a:latin typeface="Arial"/>
              </a:rPr>
              <a:t>Air Quality CoP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8-03-28T04:21:56Z</dcterms:modified>
  <cp:revision>287</cp:revision>
  <dc:subject/>
  <dc:title>Update on OGC involvement in GEOSS</dc:title>
</cp:coreProperties>
</file>